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8BC-B6C5-4DF6-814A-D0509AF2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0D6-4885-4CF5-BE99-08832837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429-245E-41FC-B91A-4A578D4B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811-3E42-48CC-8F9E-0344B532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ECC-F3C0-4A17-881A-5CD45263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944-A57D-4211-8FD5-0E5CF2E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F90-3B5E-4925-95CE-0FB3AC1F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ECD-C93C-4A66-B6EE-679EDDE0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304-D09D-4A3F-8731-BBD358F8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18F-88C4-4942-B89B-164C442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2F7-21F5-4B79-99CD-F1D6502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3CD-6AC1-4944-8115-AC689016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9DF8-0564-4ABA-8AFE-BC6E33548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080" y="838080"/>
            <a:ext cx="8634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ftware Te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ing Across the Entire Software Development Life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ld D. Everett,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mond McLeod, Jr,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ley &amp; Sons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gures, Graphs, an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104-1581-423B-841C-CD5A68D5B5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186160" cy="584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825-7FB8-4D54-B4D5-F067822668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14600" y="571680"/>
            <a:ext cx="4129200" cy="628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A14-A10B-4A68-AA6D-21C56EDD11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7688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8D9-9B5F-421B-B434-4412F3FCBA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096240" cy="550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FD1-D317-4A99-B4BF-630A12F922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06412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321-CE8A-4BAF-8A0E-7C3C30CC19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0028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D1A-2EA2-4905-9971-8B8B3FC606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59432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DF0-3CDB-47A3-824D-279029F083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711680" cy="610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F2B-55FE-4547-B195-EF93C58160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38640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402-7394-45AA-9650-E17F7E1D73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57840" cy="570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B2D-047B-4FF7-B491-B4D02308B9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57960" cy="361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298-82CF-4352-BA75-25DF0208A3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7600" cy="551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C48-148D-42CC-9773-961D06ADF1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410160" cy="571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596-038E-43CE-BA19-73C910897E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10520" cy="56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F3F-07B7-44EF-A127-E2F52A131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592880" cy="613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B4F-90F0-4437-86E3-138B1472BA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205840" cy="500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DC5-488F-4046-A3B7-2A5036DED2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15360" cy="505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4BC-40BA-40D0-BE5A-3B8F97B4BF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6995880" cy="571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46F-E833-4426-B231-BA46EC1C06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58080" cy="553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014-61B8-44F4-B312-53DFDB21B8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943680" cy="56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55F-AF65-4133-ABE0-038192526D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86440" cy="564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8E6-E2DC-4FF0-9C42-C11A24C9BB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24440" cy="55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6AA-85BB-4D78-A07C-243B07BBD8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25000" cy="52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2C3-A2DD-441C-8486-122570A5A0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00840" cy="55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73B-DD80-4657-AF83-9375BF11F8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6200" cy="541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2A2-45C4-48F1-B96E-7D6FAD673A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91320" cy="513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6FE-8308-4032-B7EC-B26CDE5CC3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3320" cy="539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F8C-DB4D-4A7A-9842-9B0590F9CC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05440" cy="52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163-8EC6-4914-A801-B520662A94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696000" cy="536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66C-6B0F-44E9-87A2-5C38F1B59D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091280" cy="52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326-73D9-4721-8B10-D18AE5DA5D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29360" cy="524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41C-8A3D-4C7C-B099-22669EEBBA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934320" cy="529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AD0-1B8D-481D-B4CE-C5488D3467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500880" cy="557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5AF-F724-4BEA-9A3B-450B34A76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2960" cy="554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B7E-E9E5-4845-9DDF-BD862517CB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220080" cy="566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DF3-A347-483D-9254-73983174326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940200" cy="560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0D2-953D-49EE-8913-CA967C2FE1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6038640" cy="537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D82-7B2C-45D8-832D-16BAF6B717A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367680" cy="471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12E-1DDD-4289-90E6-F2622834D7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300720" cy="534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D01-9A52-491F-AF0A-01D27888EA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915240" cy="52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3F3-24C8-4540-BF24-0592F466ABE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475240" cy="583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A9E-55B4-4ABB-9262-D97505908F4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67320" cy="46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1A7-6528-4B27-BA65-D26A986F9A1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86320" cy="53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F6D-04CB-4435-AFA7-232209AD51C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162840" cy="570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CA3-F29A-4C4E-8698-C57253E679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00640" cy="517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69A-5189-466E-B961-5C2D48283FF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448400" cy="408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A93-EFBC-4853-BFFA-BF18E01DDF5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246640" cy="559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10A-8A9D-46D6-8F6D-054245681E8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681960" cy="535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7B2-F13F-4372-BC5F-C61962ED98E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23200" cy="575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D7C-FE53-4C0B-8A86-7F871A8F4F5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91040" cy="54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863-6E91-4F46-9B7E-5F35A4F01F0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10120" cy="567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E14-CB81-4312-A3FA-2D7B2ADE10B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86320" cy="547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A35-4E72-4716-8E14-F97D47664D2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661000" cy="583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301-1715-4B94-B002-300D392BC1E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484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635-A6C0-48F3-A817-926A96DFE52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896160" cy="517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722-1F4F-4723-894E-E064B2A03D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995880" cy="55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634-5D57-4E6E-AE03-25A11003C0A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29600" cy="522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A1D-86CB-4327-8CF2-D576D7AE80F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05360" cy="546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FB3-2D1D-46C5-B543-4A2274C7C40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762960" cy="56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7EB-3F5D-408C-A511-80A65832880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62840" cy="513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3CE-D9E1-4854-9AAE-17BA561A533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586560" cy="564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F71-C139-4E21-A295-2D915A0FB7F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19920" cy="567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0B6-CC9B-44ED-BC1F-77FFDB2FEAB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977160" cy="572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EC8-6061-48CD-AD0F-C84DB0D6CD7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605560" cy="539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D81-C8B6-4442-BF74-1F00F4A5CA6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606920" cy="56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7A8-3D05-4E83-BDD8-8F5123B0D5C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649680" cy="569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DC2-4BCB-4A0A-8231-CF0CBD3363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653160" cy="571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E50-E097-458F-8069-BA4EFEB0382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65800" cy="574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3A6-7B72-4446-8219-83D6E462B7B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39040" cy="394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816-8D0B-4D0E-A837-BD0A5C7590D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2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468-6DD5-4993-A365-73389AF5317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77040" cy="539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C03-0B10-4BAE-8C61-7521D3D0C59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17032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C31-EFA2-4904-B5A5-DA3C6CEB65C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4467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1F6-2156-4A38-8EAE-9C4FA429D62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800680" cy="537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23D-DCF6-4D02-9A4B-15136D121C3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810040" cy="530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41E-1387-4EC5-8C25-7AD2BACF4FC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838840" cy="536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396-1C62-4CB2-B3EF-24D7CF44DAB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562800" cy="566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FE7-0314-45A8-8E82-86BF95744A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562880" cy="49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62D-5EA1-4957-8ED3-C3CCB590EAB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46320" y="0"/>
            <a:ext cx="452736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C39-E273-437B-ABB7-420AF514DFD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469800"/>
            <a:ext cx="6400800" cy="591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7F9-6549-4505-92F2-62C31A50ACE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358920"/>
            <a:ext cx="6400800" cy="61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BCF-92D0-4436-84CC-05BE9FDF864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1D3-097F-4358-A42C-EDADAB98346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47760"/>
            <a:ext cx="6629400" cy="60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7E0-DC20-4050-BE76-98282EA781F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4760" y="380880"/>
            <a:ext cx="590364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1BF-B8D9-4166-ACBE-BD55C4ADD21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32120" y="380880"/>
            <a:ext cx="521496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883-98D2-411D-8A5C-D344A2B6D06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49560" y="304920"/>
            <a:ext cx="4844880" cy="62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63A-6AD6-4A6A-AC50-FBA43845BB2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412920"/>
            <a:ext cx="6553080" cy="589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E02-2866-4D1A-A688-BB48AD73B2F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27600" cy="619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5A9-1296-4749-948C-E4E97A53CE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64680" y="2666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7, Wiley &amp; Sons Publish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9E3-6FA4-4ECE-B482-39FFB723294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3:09:02Z</dcterms:created>
  <dc:creator>Everett and McLeod</dc:creator>
  <dc:description/>
  <dc:language>en-US</dc:language>
  <cp:lastModifiedBy>wlesch</cp:lastModifiedBy>
  <dcterms:modified xsi:type="dcterms:W3CDTF">2007-04-30T15:38:18Z</dcterms:modified>
  <cp:revision>6</cp:revision>
  <dc:subject/>
  <dc:title>Software Testing: Testing Across the Entire Software Development Lifecycle</dc:title>
</cp:coreProperties>
</file>