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PS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" name="Object 3"/>
          <p:cNvGraphicFramePr/>
          <p:nvPr/>
        </p:nvGraphicFramePr>
        <p:xfrm>
          <a:off x="685800" y="1050840"/>
          <a:ext cx="7772400" cy="247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50840"/>
                    <a:ext cx="77724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" name="Group 6"/>
          <p:cNvGrpSpPr/>
          <p:nvPr/>
        </p:nvGrpSpPr>
        <p:grpSpPr>
          <a:xfrm>
            <a:off x="363600" y="3360600"/>
            <a:ext cx="266400" cy="2787840"/>
            <a:chOff x="363600" y="3360600"/>
            <a:chExt cx="266400" cy="2787840"/>
          </a:xfrm>
        </p:grpSpPr>
        <p:sp>
          <p:nvSpPr>
            <p:cNvPr id="42" name="Rectangle 4"/>
            <p:cNvSpPr/>
            <p:nvPr/>
          </p:nvSpPr>
          <p:spPr>
            <a:xfrm rot="5400000">
              <a:off x="393480" y="3330360"/>
              <a:ext cx="181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5"/>
            <p:cNvSpPr/>
            <p:nvPr/>
          </p:nvSpPr>
          <p:spPr>
            <a:xfrm rot="5400000">
              <a:off x="417240" y="5935680"/>
              <a:ext cx="182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619440" y="4267080"/>
            <a:ext cx="1905120" cy="24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4208400" y="390204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714320" y="4252680"/>
            <a:ext cx="19047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ho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303640" y="388764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3"/>
          <p:cNvGrpSpPr/>
          <p:nvPr/>
        </p:nvGrpSpPr>
        <p:grpSpPr>
          <a:xfrm>
            <a:off x="5600880" y="3887640"/>
            <a:ext cx="1904760" cy="2803680"/>
            <a:chOff x="5600880" y="3887640"/>
            <a:chExt cx="1904760" cy="2803680"/>
          </a:xfrm>
        </p:grpSpPr>
        <p:sp>
          <p:nvSpPr>
            <p:cNvPr id="49" name="Rectangle 11"/>
            <p:cNvSpPr/>
            <p:nvPr/>
          </p:nvSpPr>
          <p:spPr>
            <a:xfrm>
              <a:off x="5600880" y="4253040"/>
              <a:ext cx="190476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reak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ecifi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3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ur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6190920" y="3887640"/>
              <a:ext cx="1130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nn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8T08:08:16Z</dcterms:created>
  <dc:creator>J. McDonald</dc:creator>
  <dc:description/>
  <cp:keywords/>
  <dc:language>en-US</dc:language>
  <cp:lastModifiedBy>jamesmc</cp:lastModifiedBy>
  <cp:lastPrinted>1995-12-08T09:16:18Z</cp:lastPrinted>
  <dcterms:modified xsi:type="dcterms:W3CDTF">2009-06-10T18:09:35Z</dcterms:modified>
  <cp:revision>11</cp:revision>
  <dc:subject/>
  <dc:title>CCPS ORGANIZATION</dc:title>
</cp:coreProperties>
</file>