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338640" y="8578800"/>
            <a:ext cx="180720" cy="2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5810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6320" y="1523880"/>
            <a:ext cx="6699240" cy="6138360"/>
            <a:chOff x="76320" y="1523880"/>
            <a:chExt cx="6699240" cy="6138360"/>
          </a:xfrm>
        </p:grpSpPr>
        <p:sp>
          <p:nvSpPr>
            <p:cNvPr id="41" name=""/>
            <p:cNvSpPr/>
            <p:nvPr/>
          </p:nvSpPr>
          <p:spPr>
            <a:xfrm>
              <a:off x="4959360" y="2749680"/>
              <a:ext cx="181620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249520" y="2805120"/>
              <a:ext cx="1243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Unit Design (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87360" y="2749680"/>
              <a:ext cx="181620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88880" y="2800440"/>
              <a:ext cx="16156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kt Pack Design (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73360" y="3664080"/>
              <a:ext cx="181764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001680" y="3719520"/>
              <a:ext cx="1162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arts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81280" y="4114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81280" y="29718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5280" y="228600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67280" y="320040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95280" y="3200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7360" y="3664080"/>
              <a:ext cx="181620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8840" y="3719520"/>
              <a:ext cx="1173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Board Lay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7360" y="4578480"/>
              <a:ext cx="181764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9760" y="4633920"/>
              <a:ext cx="1396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Board Assembl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7360" y="5492880"/>
              <a:ext cx="181764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4600" y="5548320"/>
              <a:ext cx="1164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Board Debu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95280" y="5029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5280" y="4114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95280" y="5943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59320" y="7086600"/>
              <a:ext cx="10134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To SW/H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73360" y="4578480"/>
              <a:ext cx="181764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15360" y="4633920"/>
              <a:ext cx="1135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FM Revi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280" y="4114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9528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6728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09680" y="29718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581280" y="5029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09680" y="5715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09680" y="4800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4959360" y="6178680"/>
              <a:ext cx="1816200" cy="444240"/>
              <a:chOff x="4959360" y="6178680"/>
              <a:chExt cx="1816200" cy="444240"/>
            </a:xfrm>
          </p:grpSpPr>
          <p:sp>
            <p:nvSpPr>
              <p:cNvPr id="72" name=""/>
              <p:cNvSpPr/>
              <p:nvPr/>
            </p:nvSpPr>
            <p:spPr>
              <a:xfrm>
                <a:off x="4959360" y="6178680"/>
                <a:ext cx="1816200" cy="444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227560" y="6234120"/>
                <a:ext cx="129096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HW Integ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1295280" y="6400800"/>
              <a:ext cx="36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81280" y="1828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7632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320" y="57150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6320" y="29718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67280" y="6629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29240" y="1523880"/>
              <a:ext cx="1504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From 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81280" y="205740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90080" y="1752480"/>
              <a:ext cx="1164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462720" y="8832960"/>
            <a:ext cx="181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2T11:14:08Z</dcterms:created>
  <dc:creator>Glenn Secor</dc:creator>
  <dc:description/>
  <dc:language>en-US</dc:language>
  <cp:lastModifiedBy>Labs</cp:lastModifiedBy>
  <cp:lastPrinted>1995-12-12T11:14:58Z</cp:lastPrinted>
  <dcterms:modified xsi:type="dcterms:W3CDTF">2002-07-08T19:41:07Z</dcterms:modified>
  <cp:revision>3</cp:revision>
  <dc:subject/>
  <dc:title>DEVELOPMENT PROCESS</dc:title>
</cp:coreProperties>
</file>