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160" y="75960"/>
            <a:ext cx="581004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" name=""/>
          <p:cNvGrpSpPr/>
          <p:nvPr/>
        </p:nvGrpSpPr>
        <p:grpSpPr>
          <a:xfrm>
            <a:off x="2521080" y="2057400"/>
            <a:ext cx="4080960" cy="4995360"/>
            <a:chOff x="2521080" y="2057400"/>
            <a:chExt cx="4080960" cy="4995360"/>
          </a:xfrm>
        </p:grpSpPr>
        <p:sp>
          <p:nvSpPr>
            <p:cNvPr id="40" name=""/>
            <p:cNvSpPr/>
            <p:nvPr/>
          </p:nvSpPr>
          <p:spPr>
            <a:xfrm>
              <a:off x="2521080" y="2825640"/>
              <a:ext cx="1815840" cy="44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2644200" y="2876400"/>
              <a:ext cx="1571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Develop Estima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429000" y="32767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521080" y="3740040"/>
              <a:ext cx="1815840" cy="44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639520" y="3795840"/>
              <a:ext cx="15789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Design Modules (I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21080" y="4654440"/>
              <a:ext cx="1817640" cy="44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655000" y="4710240"/>
              <a:ext cx="1551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Code Modules (I?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21080" y="5568840"/>
              <a:ext cx="1817640" cy="444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7800" y="5624640"/>
              <a:ext cx="847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Unit Te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29000" y="51055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29000" y="41911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29000" y="23623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2920680" y="6019920"/>
              <a:ext cx="1013400" cy="1032840"/>
              <a:chOff x="2920680" y="6019920"/>
              <a:chExt cx="1013400" cy="1032840"/>
            </a:xfrm>
          </p:grpSpPr>
          <p:sp>
            <p:nvSpPr>
              <p:cNvPr id="53" name=""/>
              <p:cNvSpPr/>
              <p:nvPr/>
            </p:nvSpPr>
            <p:spPr>
              <a:xfrm>
                <a:off x="2920680" y="6477120"/>
                <a:ext cx="1013400" cy="57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Narrow"/>
                  </a:rPr>
                  <a:t>To SW/HW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Narrow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 Narrow"/>
                  </a:rPr>
                  <a:t>Integr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429000" y="601992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2676960" y="2057400"/>
              <a:ext cx="15044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From Architect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3429000" y="3200400"/>
              <a:ext cx="3173040" cy="575640"/>
              <a:chOff x="3429000" y="3200400"/>
              <a:chExt cx="3173040" cy="575640"/>
            </a:xfrm>
          </p:grpSpPr>
          <p:sp>
            <p:nvSpPr>
              <p:cNvPr id="57" name=""/>
              <p:cNvSpPr/>
              <p:nvPr/>
            </p:nvSpPr>
            <p:spPr>
              <a:xfrm>
                <a:off x="3429000" y="3505320"/>
                <a:ext cx="2057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437440" y="3200400"/>
                <a:ext cx="1164600" cy="57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Narrow"/>
                  </a:rPr>
                  <a:t>Developme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Narrow"/>
                  </a:rPr>
                  <a:t>Pla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12T11:11:58Z</dcterms:created>
  <dc:creator>Glenn Secor</dc:creator>
  <dc:description/>
  <dc:language>en-US</dc:language>
  <cp:lastModifiedBy>Labs</cp:lastModifiedBy>
  <cp:lastPrinted>1995-12-12T11:13:08Z</cp:lastPrinted>
  <dcterms:modified xsi:type="dcterms:W3CDTF">2002-07-08T19:40:33Z</dcterms:modified>
  <cp:revision>3</cp:revision>
  <dc:subject/>
  <dc:title>DEVELOPMENT PROCESS</dc:title>
</cp:coreProperties>
</file>