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58100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807080" y="3435480"/>
            <a:ext cx="181584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001120" y="3486240"/>
            <a:ext cx="1435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(R) Hdwr Arch (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35080" y="3435480"/>
            <a:ext cx="181584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5040" y="3486240"/>
            <a:ext cx="137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(R) Sfwr Arch (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36576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21080" y="1149480"/>
            <a:ext cx="181584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92880" y="1204920"/>
            <a:ext cx="127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Work Propo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21080" y="2063880"/>
            <a:ext cx="181764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93880" y="2119320"/>
            <a:ext cx="147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unding Dec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21080" y="2978280"/>
            <a:ext cx="181764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21240" y="3033720"/>
            <a:ext cx="1418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(R) Sys Reqts (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342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514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600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7432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7432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27432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21080" y="5264280"/>
            <a:ext cx="181584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39080" y="5319720"/>
            <a:ext cx="1780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fwr/Hdwr Inte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21080" y="6178680"/>
            <a:ext cx="181764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75680" y="6234120"/>
            <a:ext cx="1108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ystem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521080" y="6629400"/>
            <a:ext cx="1817640" cy="907920"/>
            <a:chOff x="2521080" y="6629400"/>
            <a:chExt cx="1817640" cy="907920"/>
          </a:xfrm>
        </p:grpSpPr>
        <p:sp>
          <p:nvSpPr>
            <p:cNvPr id="61" name=""/>
            <p:cNvSpPr/>
            <p:nvPr/>
          </p:nvSpPr>
          <p:spPr>
            <a:xfrm>
              <a:off x="2521080" y="7093080"/>
              <a:ext cx="1817640" cy="44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83320" y="7148520"/>
              <a:ext cx="894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Beta T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29000" y="6629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342900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4800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21080" y="8007480"/>
            <a:ext cx="181764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9680" y="8062920"/>
            <a:ext cx="1364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irst Office App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7543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7080" y="4349880"/>
            <a:ext cx="1815840" cy="90144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32880" y="4389480"/>
            <a:ext cx="1164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(Sheet 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5080" y="4349880"/>
            <a:ext cx="1815840" cy="90144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0880" y="4389480"/>
            <a:ext cx="1164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(Sheet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143000" y="5486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143000" y="64008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143000" y="73152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143000" y="525744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2800" y="7361280"/>
            <a:ext cx="1402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Rs To SW/H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64008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7315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12080" y="5989680"/>
            <a:ext cx="7012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Hdw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12080" y="6904080"/>
            <a:ext cx="7012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fw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f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8760" y="5035680"/>
            <a:ext cx="6540480" cy="3644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60800" y="8381880"/>
            <a:ext cx="166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Integration and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8760" y="920880"/>
            <a:ext cx="6540480" cy="318744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35880" y="914400"/>
            <a:ext cx="87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12T11:04:56Z</dcterms:created>
  <dc:creator>Glenn Secor</dc:creator>
  <dc:description/>
  <dc:language>en-US</dc:language>
  <cp:lastModifiedBy>Labs</cp:lastModifiedBy>
  <cp:lastPrinted>1995-12-12T11:09:02Z</cp:lastPrinted>
  <dcterms:modified xsi:type="dcterms:W3CDTF">2002-07-08T19:39:49Z</dcterms:modified>
  <cp:revision>5</cp:revision>
  <dc:subject/>
  <dc:title>DEVELOPMENT PROCESS</dc:title>
</cp:coreProperties>
</file>