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978-5CDA-4EBF-9393-D79E96F1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940-D75B-4703-BA77-060D39D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CB7-2475-41E2-B819-DF86DE07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311-6D57-47B7-8423-FE883069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F58-D23E-422B-A296-AF6EFD2C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9BF-45AD-42DE-B507-EB1B536D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F97-E3C0-4305-A725-9A2363D7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FC7-479F-467B-9D03-F8050933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FB7-128E-4A8D-A870-8C688FB1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C41-56E8-45DB-BD65-E956FE9F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705-26AE-449B-B050-0428417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D04-9C3A-45B1-BAA0-E41BC1A7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75FC-635B-496F-95F1-FE0FB82E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8680" y="1219320"/>
            <a:ext cx="627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5 (Product Reliability Assur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19: Technical details for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ulti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ailure modes example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476520"/>
            <a:ext cx="76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presentation illustrates a Minitab session to obtain analytic estimates for this example. Other software packages such as JMP, SAS, S-Plus add-on Splida can be used to obtain similar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629-801C-4EEF-BE69-5059E05D1D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52280" y="53496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31200" y="76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5AA-93B3-4391-866D-33B335FDA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216000" y="38088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231-CFA4-433B-85BB-CFDA51B911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20120" y="990720"/>
            <a:ext cx="6154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ion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:  time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soring Information               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censored value                       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censored value                   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:  Weib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5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 Estimat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        5.6020      0.7985      4.2365      7.40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le         344.30       12.04      321.49      368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88040" y="270000"/>
            <a:ext cx="60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: Maximum Likelihood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r Lifetime Distribution for Failure M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0720" y="4572000"/>
            <a:ext cx="6154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le of Percent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5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cent  Percentil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151.4632     19.4270    117.7958    194.75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16280" y="5715000"/>
            <a:ext cx="738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We used the S-Plus add on SPLIDA to obtain the point and interval estimates for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ercen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system reliabilit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.Q. Meeker, SLIDA S-Plus Life Data Analysis Functions and Graphical User Interfa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e www.public.iastate.edu/~stat533/slida.htm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B65-3F24-4183-A3D2-CDBA9FA5D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191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2240" y="763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ad in the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082-0A78-4EE1-AB3F-E99A6ADD6D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9544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1200" y="7632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reate a censoring variable for failure mode “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617E-BF6D-4B9B-A458-9551B5029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67140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2971800"/>
            <a:ext cx="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690-9B70-4E79-B492-48EA29CF90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9544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1920" y="76320"/>
            <a:ext cx="61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reate a censoring variable for failure mode “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66B-FD3C-4E59-882E-1A1E525F7F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3049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24080" y="2895480"/>
            <a:ext cx="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6A2-3C24-4568-80DC-93949C6D9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191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31200" y="76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E59-8F79-4C4C-B8D0-F1CB7E58A9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52280" y="23004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A41-6EA0-4470-A327-EE83F14157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67480" y="1625760"/>
            <a:ext cx="6154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ion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:  time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soring Information               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censored value                       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censored value                  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:  Weib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5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 Estimat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hape         0.6354      0.1379      0.4153      0.97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le         1170.2       597.8       429.9      3184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87680" y="270000"/>
            <a:ext cx="60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: Maximum Likelihood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r Lifetime Distribution for Failure Mod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FA6A-0244-4C75-8864-21AA230B0A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2:09:36Z</dcterms:created>
  <dc:creator>GE Global Research</dc:creator>
  <dc:description/>
  <dc:language>en-US</dc:language>
  <cp:lastModifiedBy>GE Global Research</cp:lastModifiedBy>
  <dcterms:modified xsi:type="dcterms:W3CDTF">2008-06-09T15:49:48Z</dcterms:modified>
  <cp:revision>6</cp:revision>
  <dc:subject/>
  <dc:title>PowerPoint Presentation</dc:title>
</cp:coreProperties>
</file>