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7664-3B3C-4B88-9117-1C0665A88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B51D-2594-4C05-B775-4A86F0DB8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E168-9D9F-4C80-957A-2E4B4D73D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B5CC-0307-4ED5-AA46-6292F6609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5F7B-CC09-444E-9C48-CF20A2251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E0E8-B3FA-4C9B-B249-5D585327B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C95D-DBCF-4020-BC83-D41D3EBA1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29B0-76B7-4103-BFF3-B1BBBCEBE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8FC4-51D2-4861-9975-5745E4065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3546-CCBC-495A-A07F-3C714891A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5A16-7769-4E95-86E4-398A0B5C4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E18C-A8D6-468A-93C2-57324AB6B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FB7AB-C9A7-49E3-8551-B43A8A3253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59960" y="1219320"/>
            <a:ext cx="7799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Chapter 7 Manufacturing Quality Improvement: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Footnote 1: Technical details for the stator bar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5CE0-B911-4D9E-9E28-6126C7DC352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0" t="0" r="0" b="8377"/>
          <a:stretch/>
        </p:blipFill>
        <p:spPr>
          <a:xfrm>
            <a:off x="282600" y="287280"/>
            <a:ext cx="8785080" cy="6037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E292-C3A5-4B4A-A9DC-43277A48284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86440" y="231840"/>
            <a:ext cx="6261480" cy="64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ully Nested Analysis of Vari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nalysis of Variance for Thick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ource     DF             SS           MS       F       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UP       4       523.8025     130.9506  12.075   0.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ESSRUN   10       108.4492      10.8449   6.371   0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AR        45        76.6012       1.7022  35.525   0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PEAT     60         2.8750       0.047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otal     119       711.727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iance Compon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ource      Var Comp.   % of Total       StD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UP          5.004         71.26       2.23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ESSRUN       1.143         16.27       1.06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AR            0.827         11.78       0.9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PEAT         0.048          0.68       0.2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otal          7.022                     2.6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xpected Mean Squa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 SETUP     1.00(4) +  2.00(3) +  8.00(2) + 24.00(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 PRESSRUN  1.00(4) +  2.00(3) +  8.00(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3 BAR       1.00(4) +  2.00(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4 REPEAT    1.00(4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244480" y="117360"/>
            <a:ext cx="144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D9F6-3E66-4123-B0E6-EE067BC0BFC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19532" t="19791" r="17188" b="13540"/>
          <a:stretch/>
        </p:blipFill>
        <p:spPr>
          <a:xfrm>
            <a:off x="1523880" y="990720"/>
            <a:ext cx="6172200" cy="48765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119600" y="193680"/>
            <a:ext cx="696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Slides 3 through 6 illustrate a JMP session to obtain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Point and interval estimates presented in Section 7.4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46B7-563E-4C12-BF09-2E3817D92D2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0" b="9376"/>
          <a:stretch/>
        </p:blipFill>
        <p:spPr>
          <a:xfrm>
            <a:off x="152280" y="735120"/>
            <a:ext cx="8785440" cy="5970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30400" y="22860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D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95640" y="2286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Op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18280" y="15228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Thick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609480"/>
            <a:ext cx="1447560" cy="99072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57400" y="533520"/>
            <a:ext cx="609480" cy="106668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124080" y="533520"/>
            <a:ext cx="76320" cy="99036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96600" y="152280"/>
            <a:ext cx="204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Input dat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AF1B-D968-47B9-815B-F7C120B8244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0" r="0" b="10420"/>
          <a:stretch/>
        </p:blipFill>
        <p:spPr>
          <a:xfrm>
            <a:off x="291960" y="657360"/>
            <a:ext cx="8775720" cy="5895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B21A-3570-4203-A4EB-7216E2E95DE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0" b="9376"/>
          <a:stretch/>
        </p:blipFill>
        <p:spPr>
          <a:xfrm>
            <a:off x="206280" y="430200"/>
            <a:ext cx="8785440" cy="59706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6320" y="4267080"/>
            <a:ext cx="5181480" cy="1295640"/>
          </a:xfrm>
          <a:prstGeom prst="rect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244480" y="0"/>
            <a:ext cx="144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700F-8059-4FD2-BF3D-C9EE9BE59AB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04800" y="990720"/>
            <a:ext cx="7861680" cy="416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dence Interval fo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EA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S Error /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.025,24,in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S E/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.975,24,inf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Section 5.2.2 in Burdick et 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S Error=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0.048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.025,24, in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0.51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.975,24,in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.64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nfidence intervals can be calculated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17 to .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6A52-455F-4A62-80DB-1320498CB2A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19532" t="39583" r="16405" b="30211"/>
          <a:stretch/>
        </p:blipFill>
        <p:spPr>
          <a:xfrm>
            <a:off x="1295280" y="2438280"/>
            <a:ext cx="6248520" cy="22100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116720" y="193680"/>
            <a:ext cx="752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Slides 8 through 11 illustrate a Minitab session to obtain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estimates presented in Table 7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1354-C8C5-422A-B613-29F27769889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0" r="0" b="9376"/>
          <a:stretch/>
        </p:blipFill>
        <p:spPr>
          <a:xfrm>
            <a:off x="206280" y="582480"/>
            <a:ext cx="8785440" cy="59706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196600" y="152280"/>
            <a:ext cx="204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Input dat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54A2-4BF3-45E1-947E-FB9CE2B667A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0" t="0" r="0" b="9376"/>
          <a:stretch/>
        </p:blipFill>
        <p:spPr>
          <a:xfrm>
            <a:off x="206280" y="277920"/>
            <a:ext cx="8785440" cy="5970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CDBF-17F8-4A37-8DA0-C7513712B47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3:57:35Z</dcterms:created>
  <dc:creator>GE Global Research</dc:creator>
  <dc:description/>
  <dc:language>en-US</dc:language>
  <cp:lastModifiedBy>GE Global Research</cp:lastModifiedBy>
  <dcterms:modified xsi:type="dcterms:W3CDTF">2008-05-29T18:03:49Z</dcterms:modified>
  <cp:revision>7</cp:revision>
  <dc:subject/>
  <dc:title>PowerPoint Presentation</dc:title>
</cp:coreProperties>
</file>