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330-CBC4-470F-9501-F9E1152A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B8DF-F6C8-4623-BA7B-65203BA4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DC3-E23F-4F8A-83F5-0522EE47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8EE-BAED-4415-B805-82ACCA0A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096-159F-41E8-84F7-5D540EB1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E9D-E410-4E4F-A990-FCE68CF2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D5F-5841-443E-8D50-66B6EAA6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1C8-D84B-4826-99B9-D4EF3FAF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334-EC45-4080-9204-D9AD3BDB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E4B-11CE-4B9E-B1F1-590BA9FD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950-DC9F-4E85-9CE4-B727C1AD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7B0-6B54-4FF7-ADEB-4C2150FF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5258-EC8E-4E8C-8CD4-55CD52381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0480" y="1219320"/>
            <a:ext cx="697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hapter 5 (Product Reliability Assuran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ootnote 14: Technical details for the ALT 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3476520"/>
            <a:ext cx="76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is presentation illustrates a Minitab session to obtain analytic estimates for this example. Other software packages such as JMP, SAS, S-Plus add-on Splida can be used to obtain similar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1E8-FD87-4ADB-A8CE-2BD1F0C380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216000" y="609480"/>
            <a:ext cx="8775720" cy="6170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92240" y="763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ad in the dat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F11-3834-493D-A1B2-46089624C1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130320" y="671400"/>
            <a:ext cx="8785080" cy="6110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79120" y="15228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onvert “hours” to “yea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C29-64A2-4E05-B015-B3AAF144F1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152280" y="51912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62520" y="2895480"/>
            <a:ext cx="0" cy="6858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29400" y="7632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tting up for analysis (slides 4 - 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859-80B2-442E-8210-24FD0F3711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75720" cy="658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E65-F6ED-4C6D-AC3C-275A855054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152280" y="29052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4120" y="685800"/>
            <a:ext cx="1066680" cy="289548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8F8-8AD2-4969-A644-8E2A747887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82600" y="290520"/>
            <a:ext cx="8785080" cy="6110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10080" y="990720"/>
            <a:ext cx="1219320" cy="236196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27F-BF4A-499D-B96E-8C82253AB6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0760" y="330120"/>
            <a:ext cx="76482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ression with Lif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ponse Variable:  Years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ensoring Information               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censored value                        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ight censored value                    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tribution:  Weib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formation on accelerating variable:  Log bas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ression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ndard                       90.0% Normal 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dictor       Coef      Error        Z     P       Lower       U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cept     45.899      5.568     8.24 0.000      36.741      55.0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ess        -9.812      1.174    -8.36 0.000     -11.743      -7.8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le        0.44084    0.06162                    0.35028     0.55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g-Likelihood =     -42.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able of Percent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ndard        90.0% Normal 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cent    Stress (  Percentile       Error       Lower       U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  60.0000     40.3202     27.3126     13.2320    122.86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1720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Model parameter est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095520" y="2209680"/>
            <a:ext cx="1676520" cy="6858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6019920"/>
            <a:ext cx="464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The approximate 95% lower confidence bound on the first percentile of the lifetime distribution at 60 v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62720" y="5714640"/>
            <a:ext cx="380880" cy="304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5040" y="22860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5A9-E780-428C-9BC6-2AD6347DF2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1:38:30Z</dcterms:created>
  <dc:creator>GE Global Research</dc:creator>
  <dc:description/>
  <dc:language>en-US</dc:language>
  <cp:lastModifiedBy>GE Global Research</cp:lastModifiedBy>
  <dcterms:modified xsi:type="dcterms:W3CDTF">2008-05-29T18:03:52Z</dcterms:modified>
  <cp:revision>6</cp:revision>
  <dc:subject/>
  <dc:title>PowerPoint Presentation</dc:title>
</cp:coreProperties>
</file>