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979-CCCF-4CFE-9175-5EE94C9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F9F-E331-4AEB-A905-050414F2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03F-38BE-480D-A237-561A0BAE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077-B68D-4CA8-8683-9897D031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C16-10E4-463B-B56F-D7D7B1C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DE82-8136-4F3D-815F-6AD4F78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C39-9A03-44CC-B848-94E5F0BC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47-ABE1-41E5-B382-F8EF62D1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5FB-F8A0-4956-9AC6-5A8143F3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1A2-FBD3-4EF2-85D4-02D11D38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91A-5050-4107-911E-C8DE3CEF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77A-B634-4FCA-9A8B-51527E2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7103-2FB0-47C2-8BA0-F6F137C37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3476520"/>
            <a:ext cx="76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presentation illustrates a Minitab session to obtain analytic estimates for this example. Other software packages such as JMP, SAS, S-Plus add-on Splida can be used to obtain similar resul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0480" y="12193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hapter 5 (Product Reliability Assuran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ootnote 9: Technical details for the washing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7D0A-F24E-4438-977C-6CDD43F1FE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228600" y="4586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2240" y="7632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ad in the 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86D-4EE5-47B9-9189-E78120D47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59544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9400" y="7632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tting up for analysis (slides 3 -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C55-081A-4C7E-91B1-3CE1CC784E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7250"/>
          <a:stretch/>
        </p:blipFill>
        <p:spPr>
          <a:xfrm>
            <a:off x="206280" y="380880"/>
            <a:ext cx="8785440" cy="611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4FE-3864-4FF0-9AFD-CBB8401039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0" r="0" b="6251"/>
          <a:stretch/>
        </p:blipFill>
        <p:spPr>
          <a:xfrm>
            <a:off x="152280" y="230040"/>
            <a:ext cx="8775720" cy="617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26A-3443-4D76-9698-5542F7EC12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9788" b="0"/>
          <a:stretch/>
        </p:blipFill>
        <p:spPr>
          <a:xfrm>
            <a:off x="569880" y="380880"/>
            <a:ext cx="7888320" cy="5349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897560" y="5638680"/>
            <a:ext cx="519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able of Survival Proba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0.0% Normal 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  Probability       Lower       U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.0000       0.9939      0.9606      0.9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4680" y="19368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336-97CD-4BAB-872A-9CD937E855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1:25:00Z</dcterms:created>
  <dc:creator>GE Global Research</dc:creator>
  <dc:description/>
  <dc:language>en-US</dc:language>
  <cp:lastModifiedBy>GE Global Research</cp:lastModifiedBy>
  <dcterms:modified xsi:type="dcterms:W3CDTF">2008-05-29T18:03:50Z</dcterms:modified>
  <cp:revision>6</cp:revision>
  <dc:subject/>
  <dc:title>PowerPoint Presentation</dc:title>
</cp:coreProperties>
</file>