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3.jpeg" ContentType="image/jpeg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6F9-E880-4FF6-9CE7-9DF5244EF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 1 and Row 2 are from slide 41....Row 3 is an estimate...e.g., input to the model...and then we are assuming (slide 45) that you can fix 1 TR per da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o figure out Row 4...you need calculate the number of TR fixes that are possible for that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or week 7, you've got 6 programmers working 10% of their time fixing bugs...so that is 5days per week*6programmers*10%*1 bug per day = 3 TRs fixed that week. OK?  see how that worked.   and the next week, since we have the same amount of effort, we still have the potential for 3 bugs to be fixed per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 5 is the TR backlog.  for week 7, we had 3 TRs arrive, and 3 were fixed, so the backlog stayed at 0.  For week 8, we had 10 new ones come in, 3 were fixed, and so backlog became 7. FOr week 9, 12 new, 3 fixed, so 9 more go to backlog for a total of 16....and so on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out how to have higher fix productivity – e.g., test beds, streamlined process, tool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se are activities…and that you need to be 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unequivocally when they are complete…so you can’t fool yourself or anyone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454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454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2160" y="3454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066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5120" y="1066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454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454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5120" y="3454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0666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69343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0666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454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2160" y="3454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066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454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6 Linda Lai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52360" cy="561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533520" cy="473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96080" y="63244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531-93D8-4134-AB60-D96538F81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irtuallibrarian.com/images/question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533:  Software Metrics and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da M. La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cess Metrics &amp; Benchmarking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SM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ific: We could add to each milestone the owner to increase the specificity of that milest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urable: Each one has a measurable event associated with it.  In other words, it will be clear whether or not the draft is published, the review meeting hel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evable: If we have based our intervals on like-project history, previous projects with this customer, a clear understanding of resource allocation, etc., then we can view these milestones as achie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nt: The clear understanding of what we’re agreeing to build by both the internal team and the customer is absolutely critical to achieving successful project delivery and ultimate customer satisf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e based: We have defined an actual date for each miles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 with  Development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use “gate-based” process – specific points, with specific criteria/goals that you must achieve to mo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s reviewed and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views passed for all critical co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have 4 to 8 Gates in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you think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for OK for shi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for Ok to start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Mileston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upon maturity of team/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Month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e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: Every 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are primarily in development &amp; testing – what can you see and sched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be longest interv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he most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of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have at least 3 different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View – what wa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V – Current working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– What was achieved (sometimes included with CWV once comple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of “Negative Slack”  -e.g., 3 weeks behi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project members to truthfully report where they are without announcing a s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or project managers who want to really know where thing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-&gt; Cutover In-Process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echniques for Measu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gress and Quality in Integration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ly use percents – ala Planning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coding is 40% comple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e limi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ery easy to deceive oneself and give an incorrect evaluation (e.g., 90% done for 50% of the tim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ase measurement on what we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e and 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at there are patterns and trends, and look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2743200"/>
            <a:ext cx="217512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5333760" y="228600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1752480"/>
            <a:ext cx="23623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495320" y="5334120"/>
            <a:ext cx="8384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562720"/>
            <a:ext cx="236196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we see and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Code Produced/Integ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Executed and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h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81680" y="3429000"/>
            <a:ext cx="18637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6680" y="41148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kind of measurable milestones which work…and are difficult to fool yourself that you are further along than you re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tterns for arrival rates for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352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leigh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leigh Curves for Defects vs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90720" y="12189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72428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502000"/>
            <a:ext cx="8001000" cy="222228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 – High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1 – Low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2 –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257800"/>
            <a:ext cx="2819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 – Uni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– Componen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– 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440" y="161136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eigh Curves for Defects -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990720" y="12189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72428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502000"/>
            <a:ext cx="8001000" cy="222228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971800"/>
            <a:ext cx="5791320" cy="175248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124080"/>
            <a:ext cx="8001000" cy="160020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066680"/>
            <a:ext cx="51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ew release or project, want to push curves to left (earlier detection) and down (fewer faul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1828800"/>
            <a:ext cx="16765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6248160" cy="259092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638320" y="1981080"/>
            <a:ext cx="1219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38680" y="2514600"/>
            <a:ext cx="14479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72200" y="3048120"/>
            <a:ext cx="9907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019560" y="3505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 – High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1 – Low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2 –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257800"/>
            <a:ext cx="2819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 – Uni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– Componen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– 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440" y="161136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do these curves reall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90720" y="12189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72428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502000"/>
            <a:ext cx="8001000" cy="2222280"/>
          </a:xfrm>
          <a:custGeom>
            <a:avLst/>
            <a:gdLst/>
            <a:ahLst/>
            <a:rect l="l" t="t" r="r" b="b"/>
            <a:pathLst>
              <a:path w="5040" h="1400">
                <a:moveTo>
                  <a:pt x="0" y="1400"/>
                </a:moveTo>
                <a:cubicBezTo>
                  <a:pt x="64" y="1356"/>
                  <a:pt x="128" y="1312"/>
                  <a:pt x="240" y="1208"/>
                </a:cubicBezTo>
                <a:cubicBezTo>
                  <a:pt x="352" y="1104"/>
                  <a:pt x="536" y="920"/>
                  <a:pt x="672" y="776"/>
                </a:cubicBezTo>
                <a:cubicBezTo>
                  <a:pt x="808" y="632"/>
                  <a:pt x="944" y="448"/>
                  <a:pt x="1056" y="344"/>
                </a:cubicBezTo>
                <a:cubicBezTo>
                  <a:pt x="1168" y="240"/>
                  <a:pt x="1224" y="208"/>
                  <a:pt x="1344" y="152"/>
                </a:cubicBezTo>
                <a:cubicBezTo>
                  <a:pt x="1464" y="96"/>
                  <a:pt x="1632" y="16"/>
                  <a:pt x="1776" y="8"/>
                </a:cubicBezTo>
                <a:cubicBezTo>
                  <a:pt x="1920" y="0"/>
                  <a:pt x="2032" y="40"/>
                  <a:pt x="2208" y="104"/>
                </a:cubicBezTo>
                <a:cubicBezTo>
                  <a:pt x="2384" y="168"/>
                  <a:pt x="2616" y="272"/>
                  <a:pt x="2832" y="392"/>
                </a:cubicBezTo>
                <a:cubicBezTo>
                  <a:pt x="3048" y="512"/>
                  <a:pt x="3296" y="696"/>
                  <a:pt x="3504" y="824"/>
                </a:cubicBezTo>
                <a:cubicBezTo>
                  <a:pt x="3712" y="952"/>
                  <a:pt x="3824" y="1072"/>
                  <a:pt x="4080" y="1160"/>
                </a:cubicBezTo>
                <a:cubicBezTo>
                  <a:pt x="4336" y="1248"/>
                  <a:pt x="4688" y="1300"/>
                  <a:pt x="5040" y="1352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 – High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1 – Low-leve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2 –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257800"/>
            <a:ext cx="2819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 – Uni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– Component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– 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440" y="161136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47720"/>
            <a:ext cx="2666880" cy="3089520"/>
          </a:xfrm>
          <a:custGeom>
            <a:avLst/>
            <a:gdLst/>
            <a:ahLst/>
            <a:rect l="l" t="t" r="r" b="b"/>
            <a:pathLst>
              <a:path w="1680" h="1946">
                <a:moveTo>
                  <a:pt x="0" y="1938"/>
                </a:moveTo>
                <a:cubicBezTo>
                  <a:pt x="8" y="1942"/>
                  <a:pt x="16" y="1946"/>
                  <a:pt x="48" y="1890"/>
                </a:cubicBezTo>
                <a:cubicBezTo>
                  <a:pt x="80" y="1834"/>
                  <a:pt x="152" y="1690"/>
                  <a:pt x="192" y="1602"/>
                </a:cubicBezTo>
                <a:cubicBezTo>
                  <a:pt x="232" y="1514"/>
                  <a:pt x="248" y="1450"/>
                  <a:pt x="288" y="1362"/>
                </a:cubicBezTo>
                <a:cubicBezTo>
                  <a:pt x="328" y="1274"/>
                  <a:pt x="371" y="1198"/>
                  <a:pt x="432" y="1074"/>
                </a:cubicBezTo>
                <a:cubicBezTo>
                  <a:pt x="493" y="950"/>
                  <a:pt x="593" y="746"/>
                  <a:pt x="656" y="617"/>
                </a:cubicBezTo>
                <a:cubicBezTo>
                  <a:pt x="719" y="488"/>
                  <a:pt x="746" y="393"/>
                  <a:pt x="811" y="297"/>
                </a:cubicBezTo>
                <a:cubicBezTo>
                  <a:pt x="876" y="201"/>
                  <a:pt x="960" y="82"/>
                  <a:pt x="1049" y="41"/>
                </a:cubicBezTo>
                <a:cubicBezTo>
                  <a:pt x="1138" y="0"/>
                  <a:pt x="1237" y="23"/>
                  <a:pt x="1342" y="50"/>
                </a:cubicBezTo>
                <a:cubicBezTo>
                  <a:pt x="1447" y="77"/>
                  <a:pt x="1610" y="173"/>
                  <a:pt x="1680" y="20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013280"/>
            <a:ext cx="3124440" cy="711000"/>
          </a:xfrm>
          <a:custGeom>
            <a:avLst/>
            <a:gdLst/>
            <a:ahLst/>
            <a:rect l="l" t="t" r="r" b="b"/>
            <a:pathLst>
              <a:path w="1968" h="448">
                <a:moveTo>
                  <a:pt x="0" y="448"/>
                </a:moveTo>
                <a:cubicBezTo>
                  <a:pt x="96" y="416"/>
                  <a:pt x="192" y="384"/>
                  <a:pt x="288" y="352"/>
                </a:cubicBezTo>
                <a:cubicBezTo>
                  <a:pt x="384" y="320"/>
                  <a:pt x="472" y="288"/>
                  <a:pt x="576" y="256"/>
                </a:cubicBezTo>
                <a:cubicBezTo>
                  <a:pt x="680" y="224"/>
                  <a:pt x="824" y="184"/>
                  <a:pt x="912" y="160"/>
                </a:cubicBezTo>
                <a:cubicBezTo>
                  <a:pt x="1000" y="136"/>
                  <a:pt x="1008" y="136"/>
                  <a:pt x="1104" y="112"/>
                </a:cubicBezTo>
                <a:cubicBezTo>
                  <a:pt x="1200" y="88"/>
                  <a:pt x="1360" y="32"/>
                  <a:pt x="1488" y="16"/>
                </a:cubicBezTo>
                <a:cubicBezTo>
                  <a:pt x="1616" y="0"/>
                  <a:pt x="1792" y="16"/>
                  <a:pt x="1872" y="16"/>
                </a:cubicBezTo>
                <a:cubicBezTo>
                  <a:pt x="1952" y="16"/>
                  <a:pt x="1944" y="8"/>
                  <a:pt x="1968" y="16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1320" y="2286000"/>
            <a:ext cx="121896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22860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2514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PS for Software Develo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5867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ts of early defect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fect remov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g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ew defects f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i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050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lity of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cato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rocess Metrics – Generic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at Effort vs.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is case, look at Inspection Process.  we want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good were the inspec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mpare with defec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help make the decision if defect ra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od 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3886200"/>
          <a:ext cx="6553080" cy="252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86200"/>
                    <a:ext cx="655308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product 1 represents the typical defect rate, we are building product 2, and we find a higher than average defec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53080" y="32004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oub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2362320"/>
          <a:ext cx="5486400" cy="30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548640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we determine that the inspection effectiveness/effort w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what does this in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:  Possibilit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we find a higher than average defec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00800" y="2590920"/>
            <a:ext cx="2057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 could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 good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752480"/>
          <a:ext cx="5486400" cy="30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548640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62120" y="480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we determine that the inspection effectiveness/effort w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what does this indic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the # of defects are the sam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219320"/>
          <a:ext cx="6840720" cy="38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684072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06360" y="52578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do you pref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800" y="589104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s found earlier cost less to fix…Prefer Re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86728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57913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we are finding a lower than average defect rate …. and, we determine that the inspection effectiveness/effort was high…what does this indic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have a good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may just have a lot of defects in total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Proc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in evaluating and understanding in-process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bservab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217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ight you measure the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– we want observable ev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17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agile methods, with monthly turn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rnovers may be good enough….with the on-going discu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a waterfall methodolog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be entering a long period where you need intermediate milestones and a understanding of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we will Look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al, Closure, Back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se are trying to measure develop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proc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 Know where you are in the cod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How much has been accomplish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Used:  KLOC of lines turned over to integration…called code integration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erminology for “turned over to integration” is: “under formal change control” or “integrated into librar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point at which formal change requests (trouble reports) are now required to upda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Again – this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servable 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ly we’ve seen – there is a pattern of KLOC turned over in a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99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-curve code integration patterns for organizations – KLOC is the # K Lines of code integrated (or under change control, or whatever you call it.) Cum is for cumu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438280"/>
          <a:ext cx="6553440" cy="36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6553440" cy="36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and Projects have patterns of successful (and unsuccessful) code integrations…will vary with organization and with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9436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676520" y="3809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3733920"/>
            <a:ext cx="3733560" cy="2171520"/>
          </a:xfrm>
          <a:custGeom>
            <a:avLst/>
            <a:gdLst/>
            <a:ahLst/>
            <a:rect l="l" t="t" r="r" b="b"/>
            <a:pathLst>
              <a:path w="2352" h="1368">
                <a:moveTo>
                  <a:pt x="0" y="1344"/>
                </a:moveTo>
                <a:cubicBezTo>
                  <a:pt x="216" y="1356"/>
                  <a:pt x="432" y="1368"/>
                  <a:pt x="576" y="1344"/>
                </a:cubicBezTo>
                <a:cubicBezTo>
                  <a:pt x="720" y="1320"/>
                  <a:pt x="744" y="1304"/>
                  <a:pt x="864" y="1200"/>
                </a:cubicBezTo>
                <a:cubicBezTo>
                  <a:pt x="984" y="1096"/>
                  <a:pt x="1160" y="896"/>
                  <a:pt x="1296" y="720"/>
                </a:cubicBezTo>
                <a:cubicBezTo>
                  <a:pt x="1432" y="544"/>
                  <a:pt x="1504" y="264"/>
                  <a:pt x="1680" y="144"/>
                </a:cubicBezTo>
                <a:cubicBezTo>
                  <a:pt x="1856" y="24"/>
                  <a:pt x="2216" y="32"/>
                  <a:pt x="23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733920"/>
            <a:ext cx="3733560" cy="2209680"/>
          </a:xfrm>
          <a:custGeom>
            <a:avLst/>
            <a:gdLst/>
            <a:ahLst/>
            <a:rect l="l" t="t" r="r" b="b"/>
            <a:pathLst>
              <a:path w="2352" h="1392">
                <a:moveTo>
                  <a:pt x="0" y="1392"/>
                </a:moveTo>
                <a:cubicBezTo>
                  <a:pt x="364" y="1392"/>
                  <a:pt x="728" y="1392"/>
                  <a:pt x="960" y="1344"/>
                </a:cubicBezTo>
                <a:cubicBezTo>
                  <a:pt x="1192" y="1296"/>
                  <a:pt x="1264" y="1184"/>
                  <a:pt x="1392" y="1104"/>
                </a:cubicBezTo>
                <a:cubicBezTo>
                  <a:pt x="1520" y="1024"/>
                  <a:pt x="1624" y="968"/>
                  <a:pt x="1728" y="864"/>
                </a:cubicBezTo>
                <a:cubicBezTo>
                  <a:pt x="1832" y="760"/>
                  <a:pt x="1944" y="608"/>
                  <a:pt x="2016" y="480"/>
                </a:cubicBezTo>
                <a:cubicBezTo>
                  <a:pt x="2088" y="352"/>
                  <a:pt x="2104" y="176"/>
                  <a:pt x="2160" y="96"/>
                </a:cubicBezTo>
                <a:cubicBezTo>
                  <a:pt x="2216" y="16"/>
                  <a:pt x="2284" y="8"/>
                  <a:pt x="23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3594240"/>
            <a:ext cx="3733560" cy="2425680"/>
          </a:xfrm>
          <a:custGeom>
            <a:avLst/>
            <a:gdLst/>
            <a:ahLst/>
            <a:rect l="l" t="t" r="r" b="b"/>
            <a:pathLst>
              <a:path w="2352" h="1528">
                <a:moveTo>
                  <a:pt x="0" y="1480"/>
                </a:moveTo>
                <a:cubicBezTo>
                  <a:pt x="596" y="1504"/>
                  <a:pt x="1192" y="1528"/>
                  <a:pt x="1536" y="1432"/>
                </a:cubicBezTo>
                <a:cubicBezTo>
                  <a:pt x="1880" y="1336"/>
                  <a:pt x="1952" y="1120"/>
                  <a:pt x="2064" y="904"/>
                </a:cubicBezTo>
                <a:cubicBezTo>
                  <a:pt x="2176" y="688"/>
                  <a:pt x="2160" y="272"/>
                  <a:pt x="2208" y="136"/>
                </a:cubicBezTo>
                <a:cubicBezTo>
                  <a:pt x="2256" y="0"/>
                  <a:pt x="2264" y="88"/>
                  <a:pt x="2352" y="88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733920"/>
            <a:ext cx="3581640" cy="2361960"/>
          </a:xfrm>
          <a:custGeom>
            <a:avLst/>
            <a:gdLst/>
            <a:ahLst/>
            <a:rect l="l" t="t" r="r" b="b"/>
            <a:pathLst>
              <a:path w="2256" h="1488">
                <a:moveTo>
                  <a:pt x="0" y="1392"/>
                </a:moveTo>
                <a:cubicBezTo>
                  <a:pt x="224" y="1440"/>
                  <a:pt x="448" y="1488"/>
                  <a:pt x="768" y="1296"/>
                </a:cubicBezTo>
                <a:cubicBezTo>
                  <a:pt x="1088" y="1104"/>
                  <a:pt x="1672" y="456"/>
                  <a:pt x="1920" y="240"/>
                </a:cubicBezTo>
                <a:cubicBezTo>
                  <a:pt x="2168" y="24"/>
                  <a:pt x="2112" y="48"/>
                  <a:pt x="2256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8080" y="43070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6019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27672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409720" y="35049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2767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on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successful (and unsuccessful) curves of your organization’s code integr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his release’s cod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is release’s plan vs. previous release’s plans (both successful and unsuccess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any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you code, track this release’s plan vs. act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“Quantitative, Early Warning” Indicator on the development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’s can have own heuristics of “upper limits” and “lower limits” for successfu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mplement and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compare 2 S-curves for co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urve do you like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1143000"/>
          <a:ext cx="83818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04920" y="5899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1 (blue) has less risk because code integrated 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tegration 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integration metric is a SMART metric we can use to tell where we are within the coding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nning to compare with other projects to see if plan is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ecution stage to compare with “actuals” (e.g., what is actually happening) and get early warnings if schedule is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ight you measure the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– we want observable ev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17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Report  (aka PTRS, MRs, CRs etc.)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s tracked in the trouble trac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s to be after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 of defects/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Development Progress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17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rouble report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act schedule signific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+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indicator of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indicator of testing (&amp; quality)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uld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 the progres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easure the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29577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teresting about T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ur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 Arriv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n build off integration/turnover plan, as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# TRs per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total can be estimated from historical data, FP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follow a reliability growth pattern – typically, if one large turnover to a testing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a custom model If incremental develop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art off with simple model and add more refin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rate of TRs,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–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a typical arrival rate of TRs once a unit of code is under change control – can think of it as a function TRA(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variety of shapes: based on testing methodolog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apes of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579132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600200" y="39625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7600" y="4064040"/>
            <a:ext cx="6261120" cy="1714320"/>
          </a:xfrm>
          <a:custGeom>
            <a:avLst/>
            <a:gdLst/>
            <a:ahLst/>
            <a:rect l="l" t="t" r="r" b="b"/>
            <a:pathLst>
              <a:path w="3944" h="1080">
                <a:moveTo>
                  <a:pt x="8" y="1040"/>
                </a:moveTo>
                <a:cubicBezTo>
                  <a:pt x="4" y="788"/>
                  <a:pt x="0" y="536"/>
                  <a:pt x="104" y="368"/>
                </a:cubicBezTo>
                <a:cubicBezTo>
                  <a:pt x="208" y="200"/>
                  <a:pt x="448" y="64"/>
                  <a:pt x="632" y="32"/>
                </a:cubicBezTo>
                <a:cubicBezTo>
                  <a:pt x="816" y="0"/>
                  <a:pt x="1040" y="112"/>
                  <a:pt x="1208" y="176"/>
                </a:cubicBezTo>
                <a:cubicBezTo>
                  <a:pt x="1376" y="240"/>
                  <a:pt x="1456" y="312"/>
                  <a:pt x="1640" y="416"/>
                </a:cubicBezTo>
                <a:cubicBezTo>
                  <a:pt x="1824" y="520"/>
                  <a:pt x="1976" y="696"/>
                  <a:pt x="2312" y="800"/>
                </a:cubicBezTo>
                <a:cubicBezTo>
                  <a:pt x="2648" y="904"/>
                  <a:pt x="3384" y="1000"/>
                  <a:pt x="3656" y="1040"/>
                </a:cubicBezTo>
                <a:cubicBezTo>
                  <a:pt x="3928" y="1080"/>
                  <a:pt x="3936" y="1060"/>
                  <a:pt x="3944" y="1040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4495680"/>
            <a:ext cx="6095880" cy="1295640"/>
          </a:xfrm>
          <a:custGeom>
            <a:avLst/>
            <a:gdLst/>
            <a:ahLst/>
            <a:rect l="l" t="t" r="r" b="b"/>
            <a:pathLst>
              <a:path w="3840" h="816">
                <a:moveTo>
                  <a:pt x="0" y="816"/>
                </a:moveTo>
                <a:cubicBezTo>
                  <a:pt x="124" y="804"/>
                  <a:pt x="248" y="792"/>
                  <a:pt x="384" y="672"/>
                </a:cubicBezTo>
                <a:cubicBezTo>
                  <a:pt x="520" y="552"/>
                  <a:pt x="560" y="192"/>
                  <a:pt x="816" y="96"/>
                </a:cubicBezTo>
                <a:cubicBezTo>
                  <a:pt x="1072" y="0"/>
                  <a:pt x="1656" y="96"/>
                  <a:pt x="1920" y="96"/>
                </a:cubicBezTo>
                <a:cubicBezTo>
                  <a:pt x="2184" y="96"/>
                  <a:pt x="2120" y="16"/>
                  <a:pt x="2400" y="96"/>
                </a:cubicBezTo>
                <a:cubicBezTo>
                  <a:pt x="2680" y="176"/>
                  <a:pt x="3360" y="456"/>
                  <a:pt x="3600" y="576"/>
                </a:cubicBezTo>
                <a:cubicBezTo>
                  <a:pt x="3840" y="696"/>
                  <a:pt x="3800" y="792"/>
                  <a:pt x="3840" y="816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2760" y="3978360"/>
            <a:ext cx="100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s per K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60879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Report Arriv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 TR arrival Model just like you had a code integr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514600"/>
            <a:ext cx="144792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2666880"/>
            <a:ext cx="2209680" cy="609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O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809880"/>
            <a:ext cx="182880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 Arri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962520"/>
            <a:ext cx="28191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5" idx="6"/>
            <a:endCxn id="216" idx="1"/>
          </p:cNvCxnSpPr>
          <p:nvPr/>
        </p:nvCxnSpPr>
        <p:spPr>
          <a:xfrm flipV="1">
            <a:off x="1905120" y="2971440"/>
            <a:ext cx="915120" cy="38880"/>
          </a:xfrm>
          <a:prstGeom prst="curvedConnector5">
            <a:avLst>
              <a:gd name="adj1" fmla="val 49980"/>
              <a:gd name="adj2" fmla="val 49532"/>
              <a:gd name="adj3" fmla="val 4998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endCxn id="218" idx="1"/>
          </p:cNvCxnSpPr>
          <p:nvPr/>
        </p:nvCxnSpPr>
        <p:spPr>
          <a:xfrm flipV="1">
            <a:off x="3809520" y="4228560"/>
            <a:ext cx="839160" cy="114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7" idx="2"/>
            <a:endCxn id="216" idx="3"/>
          </p:cNvCxnSpPr>
          <p:nvPr/>
        </p:nvCxnSpPr>
        <p:spPr>
          <a:xfrm flipH="1" rot="10800000">
            <a:off x="1980000" y="2971080"/>
            <a:ext cx="3048840" cy="1334160"/>
          </a:xfrm>
          <a:prstGeom prst="curvedConnector5">
            <a:avLst>
              <a:gd name="adj1" fmla="val -7498"/>
              <a:gd name="adj2" fmla="val 28556"/>
              <a:gd name="adj3" fmla="val -7498"/>
            </a:avLst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a Trouble Report Arriv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de Integr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TRA(t) and the new/changed KLOC per turnover, determine expected number of TR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hen integration pla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plan vs. ac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historically, TRs = 1 per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distribution of discovery (use historical data to pred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i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ek after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 i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i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in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 in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following KLOC turned over by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,0,0,0,10,20,10,0,25,30,90,20,10,5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hat would be the Expected TR arriv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ntegration and TR Arriv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914400"/>
          <a:ext cx="670572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67057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28600" y="5638680"/>
          <a:ext cx="8686800" cy="46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638680"/>
                    <a:ext cx="86868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our project has 100KLOC.  You will turn it over in 3 builds, on Jan.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b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development team tells you that they are turning over 20% of the code in build 1, then 30%, then 50%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code integration plan by # of KL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once the code is turned over, you find defects at the rate of 30% the first month, then 40% each the next 2 months.  You have predicted an inserted defect density of 10 per K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expected TR arrival cu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rriv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gainst actual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gainst othe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as Integration Pla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Rs are arriving faster or slower tha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y Using Effort/Outcome Indica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1040" y="6172200"/>
            <a:ext cx="29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“actuals” means what actually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ack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 Backlo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TR that haven’t been fixed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uild up to large numbers on big projects (e.g., in the hundreds or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 Trying to predict when the backlog of “unfixed” TRs will be low enough to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Proc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you a variety of ways to tell where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mportant is to have a project pla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lestones which is tracked and reviewed (and action taken) frequentl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Report 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eate a TR backlog model just like you had a code integration and TR arriv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676520"/>
            <a:ext cx="1447920" cy="9903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905120"/>
            <a:ext cx="220968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O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1752480"/>
            <a:ext cx="182880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 Ar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3276720"/>
            <a:ext cx="28191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roubl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9" idx="6"/>
            <a:endCxn id="240" idx="1"/>
          </p:cNvCxnSpPr>
          <p:nvPr/>
        </p:nvCxnSpPr>
        <p:spPr>
          <a:xfrm>
            <a:off x="1676160" y="2171520"/>
            <a:ext cx="61020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/>
          <p:nvPr/>
        </p:nvCxnSpPr>
        <p:spPr>
          <a:xfrm flipH="1">
            <a:off x="990000" y="2286000"/>
            <a:ext cx="5639400" cy="1296000"/>
          </a:xfrm>
          <a:prstGeom prst="curvedConnector5">
            <a:avLst>
              <a:gd name="adj1" fmla="val -4053"/>
              <a:gd name="adj2" fmla="val 29397"/>
              <a:gd name="adj3" fmla="val -405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1" idx="2"/>
            <a:endCxn id="240" idx="3"/>
          </p:cNvCxnSpPr>
          <p:nvPr/>
        </p:nvCxnSpPr>
        <p:spPr>
          <a:xfrm rot="10800000">
            <a:off x="4494960" y="2208960"/>
            <a:ext cx="30564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4267080" y="3200400"/>
            <a:ext cx="144792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 Back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276720"/>
            <a:ext cx="28191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Troubl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2" idx="3"/>
            <a:endCxn id="246" idx="2"/>
          </p:cNvCxnSpPr>
          <p:nvPr/>
        </p:nvCxnSpPr>
        <p:spPr>
          <a:xfrm>
            <a:off x="3809880" y="3543120"/>
            <a:ext cx="457920" cy="1530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9" name=""/>
          <p:cNvCxnSpPr>
            <a:stCxn id="246" idx="6"/>
            <a:endCxn id="247" idx="1"/>
          </p:cNvCxnSpPr>
          <p:nvPr/>
        </p:nvCxnSpPr>
        <p:spPr>
          <a:xfrm flipV="1">
            <a:off x="5714640" y="3542760"/>
            <a:ext cx="3056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 Backlo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24080"/>
            <a:ext cx="144792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2666880"/>
            <a:ext cx="2209680" cy="609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495680"/>
            <a:ext cx="1828800" cy="9907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2" idx="6"/>
            <a:endCxn id="253" idx="1"/>
          </p:cNvCxnSpPr>
          <p:nvPr/>
        </p:nvCxnSpPr>
        <p:spPr>
          <a:xfrm flipV="1">
            <a:off x="1905120" y="2971080"/>
            <a:ext cx="91512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7" idx="3"/>
          </p:cNvCxnSpPr>
          <p:nvPr/>
        </p:nvCxnSpPr>
        <p:spPr>
          <a:xfrm rot="5400000">
            <a:off x="5404680" y="4114800"/>
            <a:ext cx="1077120" cy="76248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7" idx="2"/>
            <a:endCxn id="253" idx="3"/>
          </p:cNvCxnSpPr>
          <p:nvPr/>
        </p:nvCxnSpPr>
        <p:spPr>
          <a:xfrm rot="10800000">
            <a:off x="5028480" y="2971080"/>
            <a:ext cx="686520" cy="227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5715000" y="2438280"/>
            <a:ext cx="1219320" cy="15192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800600"/>
            <a:ext cx="251460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Troubl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95480" y="5029200"/>
            <a:ext cx="99072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 Backlo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Rates of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simpler model based upon typical closur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as highly predictive, but easier and us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velop more complex models based upon testing sche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 the final part of the development/tes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Backlo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Come up with a model for number of TRs in back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de Integration Pattern, arriv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TR closur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log = Arrivals minus clo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 Closur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 would be some number per 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more complex based upon how much effort is going in to fixing T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, on average, a programmer can close 1 TRs per day (lots of tools) pre-release when they work fulltime on bug fixing (use historical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estimate # of programmers per day working fulltime on bug fixing, then can project closur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lo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assume in our example we have 6 programmers and we estimate the % of programmers debugging each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constant number since more will be debugging at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log Model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937040"/>
            <a:ext cx="7696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djustments possible to spreadsheet model.  Possibil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bugs at the end – so less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s do not work 100% on new bugs a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eping feat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1520" y="3581280"/>
            <a:ext cx="795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of char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an ship with no backlog?        [Can not really go negativ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s are fixing bugs as per plan – no new fea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920" y="1074600"/>
          <a:ext cx="835956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74600"/>
                    <a:ext cx="83595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4648320" y="3581280"/>
            <a:ext cx="350496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model to implement and underst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:  Code Integration Plan, TR arrival rates (based upon Code), bug fixing productivity, % of effort fixing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t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weeks (Holi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dd in break/fix as well if you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ensitivities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, bug fixing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log Model: Sensitivity to Bug Fixing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638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to ship dates from a backlog perspective:  1TR -~wk 21; .75 TRs ~ wk 23; 1.5 TRs ~ wk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4920" y="990720"/>
          <a:ext cx="830556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ba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re: delivery date vs. TR fix produ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the manager, what might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iability Growth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where you are in the qualit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variations of exponential in shape (rather than rayle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is that quality should be continuing to improve…so fewer and fewer faults/failures are being found or experie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17520"/>
            <a:ext cx="735336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Growth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for Reliability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Quality Mgmt prior to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curves of previou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t the beginning of system test (or operational profile testing re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st code inte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fit with the Rayleigh cur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leigh is for entire TR arr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for ST -&gt;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Raleigh curv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33520" y="2666880"/>
          <a:ext cx="655308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66880"/>
                    <a:ext cx="6553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2514600" y="34290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4290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29000" y="3123720"/>
            <a:ext cx="281952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28954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 interval – exp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60958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gain, this is dependent upon your testing method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at do you do 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520" y="1143000"/>
          <a:ext cx="8153280" cy="43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esting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type of effort/outcom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reason to believe that the testing is much more effective, then …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ns that your TR arrival rate in ST is well above previou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mplement Quality Improvement Program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ssue project advisory re: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In-Process Metrics for Smal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-end: Inspection/Review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Heuristic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end:  Testing Defect Arrivals, Back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Progr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should be track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the curve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366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gr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vs. Attempted vs. 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S-shaped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istorical data fo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have any, create a plan anyway.  It will be useful for the nex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weight test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vs. least (scale of 1 -&gt;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To start, have everything weighted the s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/- 15% should trigger al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92280" y="1139760"/>
          <a:ext cx="8154720" cy="39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39760"/>
                    <a:ext cx="81547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533520" y="5181480"/>
            <a:ext cx="3124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is s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sting right now is in tr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d what is holding up the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, one or two “blocking” fixes will unlock the su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 testers are trying to test as much as possible – is this really effective if the issue is blocking T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fixes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t more programmers to TRs if still doing features (or next phase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Rs for patterns….is there some troublesome code?  Do we need to inspect/have a QIP (Quality Improvement Plan) on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are real milest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379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c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3 major blocking 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ake 1 week to 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testing can refocus on othe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esting is going to be stressed after turnover…if possible, give some time off now to help facilitate OT after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 higher mgmt to potential schedule/qua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esting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ing is a different type of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ooking at performance and capac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break the system by running huge volumes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“heisenbu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ing Metrics need to look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utilization by unit of test time (and any other areas of concern), Hangs &amp; Cr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metrics such as weekly CPU hours per hang/crash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part of reliability tes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In-Process Metrics for Smal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-end: Inspection/Review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Code Integratio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Heuristic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end:  Testing Defect Arrivals, Back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In-proc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process quality and schedu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MART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bservable Events, not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simple models based upon these observab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tools and techniques are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need to be quite as precise and stri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agement info rather than predicting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Benchmark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39114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ing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9126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int of reference from which measurements can be m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Benchm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tart with a knowledge of where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risons bo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tern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ive improv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learning from others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 continuous benchmarking, measure success of improv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identification of internal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identification of improve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at how others per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with sharing of data between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look for competitive advantages and to drive strategy and technology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evelopment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build an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Objectives/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Development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ternal Benchma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targets for DOD projects  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60958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NetFocus,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09480" y="2514600"/>
          <a:ext cx="769644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6964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ternal Benchma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targets for D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60958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NetFocus,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676520"/>
          <a:ext cx="7772400" cy="291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you use the effort/outcome mat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code integration schedule, an expected defect density of 5 TRs per every new/changed KLOC, and assuming TRs are surfaced at the rate of:  30% i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. after turnover, 35%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, 20%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in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rojected TR arrival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at you have 15 programmers on the project, and each can fix 1 TR per day (when that is all that they are doing), graph the back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ship criteria is &lt; 5 TRs in backlog, what week can you sh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5486400"/>
          <a:ext cx="7772400" cy="50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486400"/>
                    <a:ext cx="7772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5002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care about CPU utilization in stress testing?  Why do you care about CPU hours per week in t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you use the effort/outcome mat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 understand the quality of the process execution in order to better understand the in-process data such as defect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following code integration schedule, an expected defect density of 5 TRs per every new/changed KLOC, and assuming TRs are surfaced at the rate of:  30%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urnover, 35% in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e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% in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 in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i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projected TR arrival grap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n that you have 15 programmers on the project, and each can fix 2 TR per day (when that is all that they are doing), graph the back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r ship criteria is &lt; 5 TRs in backlog, what week can you shi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 arrival graph will be-  5* (.3*KLOC previous week+.35*KLOC 2 weeks ago+.2*KLOC 3 weeks ago+.1*KLOC 4 weeks ago+.05* KLOC 5 weeks a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numbers given for programmers working on fixes.  Multiply that by 15*2*5 to get number of potential fixes per week.  Subtract # fixed from backlog and new arrivals to get new backlog.  Adjust so it doesn’t go below 0. See when ship dat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care about CPU utilization in stress testing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want to be running your CPU over 60% during stress test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therwise the test is invalid. Why do you care about CPU hours per week in testing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rder to make some sense out out of defect arrival data per week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04920" y="1066680"/>
          <a:ext cx="8458200" cy="21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45820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ater Tickets Project – 2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enchmarks do you think are relevant for the theater ticket project? Include both the name of the metric, the value that should be used for comparison, and the rationa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Project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rouble Report Arrival Plan based up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K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Pl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xpect TR arrival to be algorithmically: 10%, 80%, 10% per week after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xpect to find 10 defects per KLOC before you 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Backlo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is that each programmers can fix 2 TRs per staff week) if they work full time at it  - 10 programmers on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n 10% fixing per turnover date, 100% after turnover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the backlog be cleare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2nd Backlo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n 10% fixing until week 6, when 50% start to fix troubles, then 100% after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the backlog be cleare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1722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Are these SMART milest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requirements available for review – 6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quirement review held for development/testing – 6/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updated and delivered to customer for concurrence – 6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oncurrence obtained – 6/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quirements published and put under formal change control – 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19:00:09Z</dcterms:created>
  <dc:creator>Linda  Laird</dc:creator>
  <dc:description/>
  <dc:language>en-US</dc:language>
  <cp:lastModifiedBy>linda laird</cp:lastModifiedBy>
  <dcterms:modified xsi:type="dcterms:W3CDTF">2006-11-16T16:33:53Z</dcterms:modified>
  <cp:revision>213</cp:revision>
  <dc:subject/>
  <dc:title>PowerPoint Presentation</dc:title>
</cp:coreProperties>
</file>