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84B-5C87-482B-BAA2-A9E6DD51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A59-23BB-48DE-ABD4-50AE860A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A69-19B1-40FC-98CE-AA21AB1A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345-FD06-4558-9743-B10891AD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1F4-1988-4357-AAF4-FEDA8C99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741-9919-4535-91E9-F6A4F6FD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EA0-AA57-4D22-882B-BE315531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9D8-D2DF-494F-AB5F-F4257D5B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6EC-72BF-4EB8-BD81-F4693899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CBE-E204-4848-9352-EF359A29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AF4-3218-4B78-AF19-3A80263A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DA2-335D-4F32-8898-35A93792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948A-89FD-4F7A-A407-3384ABAE3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57909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HPLC sample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4952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. Collect cell pellets or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. Homogenize in HPLC start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. Collect soluble extract by centrifu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92428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. Resolve the extract on a mixed-bed IEX by salt gradient e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. Collect fractions (1- 2 min e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. Precipitate protein fractions with TCA/Ace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. Dissolve pellet and digest with immobilized try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525780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. Collect digested peptides in LCMS start buffer by centrifu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. Separate and detect peptides with 1D-LCMS (2-3 h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. Use computer algorithm (e.g. SEQUEST) to translate MS/MS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246400"/>
            <a:ext cx="62481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 HPLC sample pre-fracti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570560"/>
            <a:ext cx="649584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LC-MS sample and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9144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8954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72320" y="2476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29400" y="20952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2057400"/>
            <a:ext cx="0" cy="220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9760" y="1295280"/>
            <a:ext cx="8658720" cy="5488560"/>
            <a:chOff x="239760" y="1295280"/>
            <a:chExt cx="8658720" cy="54885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rcRect l="21641" t="32264" r="904" b="13596"/>
            <a:stretch/>
          </p:blipFill>
          <p:spPr>
            <a:xfrm>
              <a:off x="1154160" y="1828800"/>
              <a:ext cx="708660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6200000">
              <a:off x="-721800" y="3400560"/>
              <a:ext cx="22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BSORBANCE @ 280 n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93160" y="1304640"/>
              <a:ext cx="49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A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77960" y="1295280"/>
              <a:ext cx="1200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-EQUILIBR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86320" y="1295280"/>
              <a:ext cx="1518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ALT GRADIENT E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9760" y="1295280"/>
              <a:ext cx="108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QUILIBR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0880" y="167616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4 M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886200" y="4857480"/>
              <a:ext cx="152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97200" y="5325840"/>
              <a:ext cx="62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U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49760" y="4495680"/>
              <a:ext cx="62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UN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095720" y="4695120"/>
              <a:ext cx="457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934920" y="1599840"/>
              <a:ext cx="7439040" cy="4429080"/>
              <a:chOff x="934920" y="1599840"/>
              <a:chExt cx="7439040" cy="4429080"/>
            </a:xfrm>
          </p:grpSpPr>
          <p:sp>
            <p:nvSpPr>
              <p:cNvPr id="66" name=""/>
              <p:cNvSpPr/>
              <p:nvPr/>
            </p:nvSpPr>
            <p:spPr>
              <a:xfrm flipH="1">
                <a:off x="1143000" y="2514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31080" y="251460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2154240" y="1695240"/>
                <a:ext cx="7920" cy="4105440"/>
              </a:xfrm>
              <a:prstGeom prst="line">
                <a:avLst/>
              </a:prstGeom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6172200" y="1599840"/>
                <a:ext cx="39600" cy="419076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010280" y="1600200"/>
                <a:ext cx="0" cy="4190760"/>
              </a:xfrm>
              <a:prstGeom prst="line">
                <a:avLst/>
              </a:prstGeom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8211960" y="1752480"/>
                <a:ext cx="9720" cy="406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1096560" y="1752480"/>
                <a:ext cx="9720" cy="403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44640" y="234288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34920" y="193356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211960" y="563868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221680" y="33433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211960" y="197172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1106640" y="5790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34920" y="562932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44640" y="27525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44640" y="32004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44640" y="358128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44640" y="39621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44640" y="43909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44640" y="48099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44640" y="52290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1095120" y="5790960"/>
                <a:ext cx="713412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2154240" y="57812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116160" y="58003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125960" y="58003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105520" y="5790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164280" y="57906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7183440" y="58003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flipV="1">
              <a:off x="8211960" y="579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2680" y="1817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7700400" y="3470400"/>
              <a:ext cx="20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[SODIUM CHLORIDE]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9000" y="2361960"/>
              <a:ext cx="16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Fractions collec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6562440" y="1257120"/>
              <a:ext cx="75960" cy="7621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1562040" y="112356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4124160" y="-380880"/>
              <a:ext cx="152280" cy="39621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3320 h 3962160"/>
                <a:gd name="textAreaBottom" fmla="*/ 3858840 h 39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7591320" y="1066320"/>
              <a:ext cx="75960" cy="11430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496800" y="1600200"/>
              <a:ext cx="8218800" cy="5183640"/>
              <a:chOff x="496800" y="1600200"/>
              <a:chExt cx="8218800" cy="5183640"/>
            </a:xfrm>
          </p:grpSpPr>
          <p:sp>
            <p:nvSpPr>
              <p:cNvPr id="103" name=""/>
              <p:cNvSpPr/>
              <p:nvPr/>
            </p:nvSpPr>
            <p:spPr>
              <a:xfrm>
                <a:off x="3964320" y="59626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8880" y="54878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13840" y="5494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823560" y="64767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IME (MI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84240" y="59608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16000" y="5964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43520" y="59436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04080" y="595296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23240" y="596412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052120" y="595152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43360" y="5960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9680" y="22096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4360" y="3809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04120" y="3200400"/>
                <a:ext cx="40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7880" y="4678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7880" y="30574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6800" y="1790640"/>
                <a:ext cx="51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80360" y="1600200"/>
                <a:ext cx="435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348320" y="167616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 M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8720" y="1676160"/>
              <a:ext cx="59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0 M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64760" y="16794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 M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371600" y="2743200"/>
              <a:ext cx="6743880" cy="533160"/>
              <a:chOff x="1371600" y="2743200"/>
              <a:chExt cx="6743880" cy="533160"/>
            </a:xfrm>
          </p:grpSpPr>
          <p:sp>
            <p:nvSpPr>
              <p:cNvPr id="125" name=""/>
              <p:cNvSpPr/>
              <p:nvPr/>
            </p:nvSpPr>
            <p:spPr>
              <a:xfrm>
                <a:off x="8115480" y="2743200"/>
                <a:ext cx="0" cy="53316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1371600" y="2743200"/>
                <a:ext cx="3238560" cy="533160"/>
                <a:chOff x="1371600" y="2743200"/>
                <a:chExt cx="3238560" cy="5331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1371600" y="2743200"/>
                  <a:ext cx="1619280" cy="533160"/>
                  <a:chOff x="1371600" y="2743200"/>
                  <a:chExt cx="1619280" cy="533160"/>
                </a:xfrm>
              </p:grpSpPr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1371600" y="2743200"/>
                    <a:ext cx="809640" cy="533160"/>
                    <a:chOff x="1371600" y="2743200"/>
                    <a:chExt cx="809640" cy="5331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137160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62864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90512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218124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2181240" y="2743200"/>
                    <a:ext cx="809640" cy="533160"/>
                    <a:chOff x="2181240" y="2743200"/>
                    <a:chExt cx="809640" cy="53316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218124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243828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271476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299088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2990880" y="2743200"/>
                  <a:ext cx="1619280" cy="533160"/>
                  <a:chOff x="2990880" y="2743200"/>
                  <a:chExt cx="1619280" cy="53316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990880" y="2743200"/>
                    <a:ext cx="809640" cy="533160"/>
                    <a:chOff x="2990880" y="2743200"/>
                    <a:chExt cx="809640" cy="53316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99088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324792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352440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380052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3800520" y="2743200"/>
                    <a:ext cx="809640" cy="533160"/>
                    <a:chOff x="3800520" y="2743200"/>
                    <a:chExt cx="809640" cy="53316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380052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05756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433404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61016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9" name=""/>
              <p:cNvGrpSpPr/>
              <p:nvPr/>
            </p:nvGrpSpPr>
            <p:grpSpPr>
              <a:xfrm>
                <a:off x="4610160" y="2743200"/>
                <a:ext cx="3238560" cy="533160"/>
                <a:chOff x="4610160" y="2743200"/>
                <a:chExt cx="3238560" cy="53316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4610160" y="2743200"/>
                  <a:ext cx="1619280" cy="533160"/>
                  <a:chOff x="4610160" y="2743200"/>
                  <a:chExt cx="1619280" cy="53316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4610160" y="2743200"/>
                    <a:ext cx="809640" cy="533160"/>
                    <a:chOff x="4610160" y="2743200"/>
                    <a:chExt cx="809640" cy="53316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461016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486720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514368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541980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5419800" y="2743200"/>
                    <a:ext cx="809640" cy="533160"/>
                    <a:chOff x="5419800" y="2743200"/>
                    <a:chExt cx="809640" cy="5331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541980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567684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595332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22944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229440" y="2743200"/>
                  <a:ext cx="1619280" cy="533160"/>
                  <a:chOff x="6229440" y="2743200"/>
                  <a:chExt cx="1619280" cy="533160"/>
                </a:xfrm>
              </p:grpSpPr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6229440" y="2743200"/>
                    <a:ext cx="809640" cy="533160"/>
                    <a:chOff x="6229440" y="2743200"/>
                    <a:chExt cx="809640" cy="53316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22944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48648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76296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03908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7039080" y="2743200"/>
                    <a:ext cx="809640" cy="533160"/>
                    <a:chOff x="7039080" y="2743200"/>
                    <a:chExt cx="809640" cy="53316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03908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29612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757260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848720" y="2743200"/>
                      <a:ext cx="0" cy="533160"/>
                    </a:xfrm>
                    <a:prstGeom prst="line">
                      <a:avLst/>
                    </a:prstGeom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72" name=""/>
            <p:cNvSpPr/>
            <p:nvPr/>
          </p:nvSpPr>
          <p:spPr>
            <a:xfrm>
              <a:off x="7261560" y="2904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23520" y="2914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66080" y="2895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26240" y="29066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99040" y="2904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61360" y="2914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03920" y="2895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4080" y="29066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355760" y="289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95560" y="2904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0640" y="29178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79560" y="289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0360" y="2906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54160" y="37447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NaCl grad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91120" y="3962160"/>
              <a:ext cx="685800" cy="7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15337" t="17712" r="55989" b="5187"/>
          <a:stretch/>
        </p:blipFill>
        <p:spPr>
          <a:xfrm>
            <a:off x="5562720" y="1546200"/>
            <a:ext cx="3276360" cy="5006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850360" y="12193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X HP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68560" y="1219320"/>
            <a:ext cx="103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CE-LC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760" y="49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8360" y="763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97880" y="903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15040" y="1600200"/>
            <a:ext cx="182520" cy="4935600"/>
          </a:xfrm>
          <a:custGeom>
            <a:avLst/>
            <a:gdLst>
              <a:gd name="textAreaLeft" fmla="*/ 116640 w 182520"/>
              <a:gd name="textAreaRight" fmla="*/ 182880 w 182520"/>
              <a:gd name="textAreaTop" fmla="*/ 128520 h 4935600"/>
              <a:gd name="textAreaBottom" fmla="*/ 4807080 h 493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6440" y="1562040"/>
            <a:ext cx="152280" cy="4953240"/>
          </a:xfrm>
          <a:custGeom>
            <a:avLst/>
            <a:gdLst>
              <a:gd name="textAreaLeft" fmla="*/ 97200 w 152280"/>
              <a:gd name="textAreaRight" fmla="*/ 152640 w 15228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4120" y="1295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0160" y="1295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63760" y="1295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8680" y="1295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5240" y="1447920"/>
            <a:ext cx="1373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447920"/>
            <a:ext cx="1498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71960" y="1143000"/>
            <a:ext cx="5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3040" y="1143000"/>
            <a:ext cx="5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45485" t="21847" r="28504" b="4688"/>
          <a:stretch/>
        </p:blipFill>
        <p:spPr>
          <a:xfrm>
            <a:off x="878040" y="1522440"/>
            <a:ext cx="3746520" cy="4997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6200000">
            <a:off x="-1717560" y="3816360"/>
            <a:ext cx="43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teins identified by LC-MS (Spectral Cou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02440" y="762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PLC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5560" y="7621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C-MS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930400" y="3829320"/>
            <a:ext cx="43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teins identified by LC-MS (Spectral Cou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7:06:47Z</dcterms:created>
  <dc:creator>pierre</dc:creator>
  <dc:description/>
  <dc:language>en-US</dc:language>
  <cp:lastModifiedBy>pierre</cp:lastModifiedBy>
  <dcterms:modified xsi:type="dcterms:W3CDTF">2006-07-10T15:53:18Z</dcterms:modified>
  <cp:revision>21</cp:revision>
  <dc:subject/>
  <dc:title>Slide 1</dc:title>
</cp:coreProperties>
</file>