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FE1-728F-483E-85EB-39695B21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008-487C-4B4B-9E65-1E80D195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116-4D3B-4F3A-A707-05C0E01A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D37-16DF-4872-A1B2-E96E4EEA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6AC-E1D4-4919-9F92-1F0E89D7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67A-7832-4E1B-9D07-BAD01F95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E93-4B1E-4137-AEDF-23FA6A1A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3F6-D7E0-487E-9905-D640ED0C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F2F-CE7D-4893-B81B-C81B820F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7DE-6BBD-4770-BE87-4E443FFB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7EA-FD7F-4BD5-9DB0-B6F118CB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A6B-3A5F-4BCD-AF47-977690F2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8F2C-CD0F-4DCE-AC22-232E2DD83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5944" r="51202" b="5944"/>
          <a:stretch/>
        </p:blipFill>
        <p:spPr>
          <a:xfrm>
            <a:off x="2987640" y="1844640"/>
            <a:ext cx="1430280" cy="2781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42" name=""/>
          <p:cNvGrpSpPr/>
          <p:nvPr/>
        </p:nvGrpSpPr>
        <p:grpSpPr>
          <a:xfrm>
            <a:off x="4716360" y="1844640"/>
            <a:ext cx="1582920" cy="2808360"/>
            <a:chOff x="4716360" y="1844640"/>
            <a:chExt cx="1582920" cy="2808360"/>
          </a:xfrm>
        </p:grpSpPr>
        <p:graphicFrame>
          <p:nvGraphicFramePr>
            <p:cNvPr id="43" name=""/>
            <p:cNvGraphicFramePr/>
            <p:nvPr/>
          </p:nvGraphicFramePr>
          <p:xfrm>
            <a:off x="4716360" y="1844640"/>
            <a:ext cx="1582920" cy="280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16360" y="1844640"/>
                      <a:ext cx="1582920" cy="28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4717440" y="4561560"/>
              <a:ext cx="23364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5:38:44Z</dcterms:created>
  <dc:creator>Raymond M. Reilly</dc:creator>
  <dc:description/>
  <dc:language>en-US</dc:language>
  <cp:lastModifiedBy>jrose</cp:lastModifiedBy>
  <dcterms:modified xsi:type="dcterms:W3CDTF">2006-08-23T18:48:12Z</dcterms:modified>
  <cp:revision>14</cp:revision>
  <dc:subject/>
  <dc:title>Slide 1</dc:title>
</cp:coreProperties>
</file>