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19320" y="6243480"/>
            <a:ext cx="7772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1371600" y="6248520"/>
            <a:ext cx="6400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2</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rug Manufacturing</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Stability testing</a:t>
            </a:r>
            <a:endParaRPr b="0" lang="en-US" sz="2800" spc="-1" strike="noStrike">
              <a:solidFill>
                <a:srgbClr val="333399"/>
              </a:solidFill>
              <a:latin typeface="Tahoma"/>
            </a:endParaRPr>
          </a:p>
        </p:txBody>
      </p:sp>
      <p:sp>
        <p:nvSpPr>
          <p:cNvPr id="114" name="PlaceHolder 2"/>
          <p:cNvSpPr>
            <a:spLocks noGrp="1"/>
          </p:cNvSpPr>
          <p:nvPr>
            <p:ph/>
          </p:nvPr>
        </p:nvSpPr>
        <p:spPr>
          <a:xfrm>
            <a:off x="1182600" y="19051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bility testing permits the determination of the length of time that the drug product is expected to remain within the approved acceptance criteria as long as the drug product has been stored as stated on the container labe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umber of containers from a production batch are placed in storage at specified conditions.  These are chosen to reflect the typical conditions in which the drug product will be stored in regular patient us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es are then taken and tested at certain specified intervals (e.g., every three to six months), at which times the drug product’s physical, chemical, and biological attributes are evaluated.  Linear regression is typically used to analyze long-term stability data, although several more complex approaches are possibl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Biopharmaceutical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 scale ‘manufacture’ of biopharmaceuticals involves the use of genetically engineered host cells with maximum efficiency in producing proteins that are safe and effec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karyotic and eukaryotic cells can be used as host cell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karyotic cells are lower organisms (including bacteria) in which DNA is not organized into chromosomes.  In contrast, eukaryotic cells have chromosomal DNA.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qual rates of production yield of recombinant protein and similar purification costs, prokaryotic cells with the highest growth rate should be a less expensive way to produce the desired protein than eukaryotic cell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Recombinant Proteins</a:t>
            </a: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er eukaryotic cells such as yeast can be used where appropriate.  The costs here are more than for prokaryotic cells, but less than for higher eukaryotic cel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er eukaryotic cells (mammalian cells) are used where necessary.  In these cases, the cost of production typically exceeds $1 million per kilogram (Ho and Gibaldi, 2003).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se of prokaryote host cells (a less expensive option), lower eukaryote cells (of intermediate cost), or mammalian cells (as just noted, more than $1 million per kilogram) is predicated on what kind of host cell is needed to best express the recombinant protein being manufactur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Recombinant Proteins</a:t>
            </a: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3773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karyotes such as </a:t>
            </a:r>
            <a:r>
              <a:rPr b="0" i="1" lang="en-US" sz="2000" spc="-1" strike="noStrike">
                <a:solidFill>
                  <a:srgbClr val="000000"/>
                </a:solidFill>
                <a:latin typeface="Tahoma"/>
              </a:rPr>
              <a:t>E. coli</a:t>
            </a:r>
            <a:r>
              <a:rPr b="0" lang="en-US" sz="2000" spc="-1" strike="noStrike">
                <a:solidFill>
                  <a:srgbClr val="000000"/>
                </a:solidFill>
                <a:latin typeface="Tahoma"/>
              </a:rPr>
              <a:t> cannot carry out post-translational modifications such as glycosylation, which can limit their usefulness in producing certain therapeutically useful proteins: many such proteins are glycosylated when they are produced naturally in the body (Walsh, 2003).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ycoproteins have a range of biological activities, including two of particular relevance to this presentation’s contents: they act as receptors and enzym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Recombinant Proteins</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alsh (2003) noted, yeast cells (particularly </a:t>
            </a:r>
            <a:r>
              <a:rPr b="0" i="1" lang="en-US" sz="2000" spc="-1" strike="noStrike">
                <a:solidFill>
                  <a:srgbClr val="000000"/>
                </a:solidFill>
                <a:latin typeface="Tahoma"/>
              </a:rPr>
              <a:t>Saccharomyces cerevisiae</a:t>
            </a:r>
            <a:r>
              <a:rPr b="0" lang="en-US" sz="2000" spc="-1" strike="noStrike">
                <a:solidFill>
                  <a:srgbClr val="000000"/>
                </a:solidFill>
                <a:latin typeface="Tahoma"/>
              </a:rPr>
              <a:t>) have several characteristics that make them useful production systems for recombinant biopharmaceutical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molecular biology has been studied in detail, providing information that facilitates genetic manipulation.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have a long history of industrial applications in brewing and baking, and many of them are ‘generally regarded as safe,’ i.e., they are GRAS-listed.</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grow relatively quickly in relatively inexpensive media.</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tough outer cell wall protects them from physical damag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can carry out post-translational modifications of proteins, but while the products resemble the products of human cells they are not identical.</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chnology for their use, industrial scale fermentation equipment, is already avail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Recombinant Proteins</a:t>
            </a:r>
            <a:endParaRPr b="0" lang="en-US" sz="28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enetic manipulation of animal cells allows the production of therapeutic proteins in animal cell culture system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mmalian cells such as Chinese hamster ovarian cells and baby hamster kidney cells are commonly used.  These mammalian hosts produce recombinant proteins that have almost identical pharmaceutical properties to those made by human cell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the use of mammalian cells does have disadvantages.  As noted earlier, they are expensive to manufacture.  This is influenced by their more complex nutritional requirements, their slower growth, and their increased susceptibility to physical damage (Walsh, 2003).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ommercial scale</a:t>
            </a:r>
            <a:endParaRPr b="0" lang="en-US" sz="2800" spc="-1" strike="noStrike">
              <a:solidFill>
                <a:srgbClr val="333399"/>
              </a:solidFill>
              <a:latin typeface="Tahoma"/>
            </a:endParaRPr>
          </a:p>
        </p:txBody>
      </p:sp>
      <p:sp>
        <p:nvSpPr>
          <p:cNvPr id="126" name="PlaceHolder 2"/>
          <p:cNvSpPr>
            <a:spLocks noGrp="1"/>
          </p:cNvSpPr>
          <p:nvPr>
            <p:ph/>
          </p:nvPr>
        </p:nvSpPr>
        <p:spPr>
          <a:xfrm>
            <a:off x="1219320" y="1980720"/>
            <a:ext cx="7772400" cy="4343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ss of fermentation is used in the production of protein biopharmaceutical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ocess involves growing cells and microbes for the production of the desired product in large quantities under well-specified conditions.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rmentation procedures are typically optimized in a systematic manner in a pilot plant with a fermentor with a capacity in the order of 30 liters, and engineers then determine the best strategies to develop fermentors with a capacity in the order of 100,000 liters.  (Ho and Gibaldi, 2003)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rmentation can only be used for cells that can grow in suspen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ommercial scale</a:t>
            </a:r>
            <a:endParaRPr b="0" lang="en-US" sz="2800" spc="-1" strike="noStrike">
              <a:solidFill>
                <a:srgbClr val="333399"/>
              </a:solidFill>
              <a:latin typeface="Tahoma"/>
            </a:endParaRPr>
          </a:p>
        </p:txBody>
      </p:sp>
      <p:sp>
        <p:nvSpPr>
          <p:cNvPr id="128" name="PlaceHolder 2"/>
          <p:cNvSpPr>
            <a:spLocks noGrp="1"/>
          </p:cNvSpPr>
          <p:nvPr>
            <p:ph/>
          </p:nvPr>
        </p:nvSpPr>
        <p:spPr>
          <a:xfrm>
            <a:off x="1182600" y="182844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cludes most prokaryotes (including </a:t>
            </a:r>
            <a:r>
              <a:rPr b="0" i="1" lang="en-US" sz="2000" spc="-1" strike="noStrike">
                <a:solidFill>
                  <a:srgbClr val="000000"/>
                </a:solidFill>
                <a:latin typeface="Tahoma"/>
              </a:rPr>
              <a:t>E. coli</a:t>
            </a:r>
            <a:r>
              <a:rPr b="0" lang="en-US" sz="2000" spc="-1" strike="noStrike">
                <a:solidFill>
                  <a:srgbClr val="000000"/>
                </a:solidFill>
                <a:latin typeface="Tahoma"/>
              </a:rPr>
              <a:t>) and lower eukaryotes (including yeast), but only a small percentage of mammalian cell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recombinant mammalian cells require a surface support to replica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ion of protein biopharmaceuticals synthesized in recombinant prokaryotic or eukaryotic cells can be divided into three stages (Walsh, 2003):</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stream processing. The initial fermentation process that initially generates the product.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stream processing.  Purification of the protein product, and placing the product into the finished format.  This includes filling the product into its containers and sealing the container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beling and packag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hapter 13</a:t>
            </a:r>
            <a:endParaRPr b="0" lang="en-US" sz="40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stmarketing Surveillance and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idence-based Medicin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Introduction</a:t>
            </a:r>
            <a:endParaRPr b="0" lang="en-US" sz="28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safety is extremely important and is addressed throughout lifecycle drug developm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ug design during the drug discovery process focuses on minimizing potential toxicodynamics by ‘engineering safety’ into new molecular entit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fety is assessed in nonclinical and clinical development program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lso addressed after the drug has been given marketing approval.</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ection of the presentation focuses on assessing safety once the drug has been approved and is being taken by many patients.  This takes us into the realm of postmarketing surveillance and pharmacovigilan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Introduction</a:t>
            </a:r>
            <a:endParaRPr b="0" lang="en-US" sz="2800" spc="-1" strike="noStrike">
              <a:solidFill>
                <a:srgbClr val="333399"/>
              </a:solidFill>
              <a:latin typeface="Tahoma"/>
            </a:endParaRPr>
          </a:p>
        </p:txBody>
      </p:sp>
      <p:sp>
        <p:nvSpPr>
          <p:cNvPr id="98"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eutical and biopharmaceutical manufacturing processes differ according to the stage of new drug development.  </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ly, very small amounts of the drug are needed, and this ‘manufacturing’ typically occurs on a laboratory scale.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mount of drug candidate needed becomes progressively larger as the clinical development program proceeds.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ually, once the drug is approved by a regulatory agency, full-scale commercial manufacturing is needed. </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ansition from small-scale production to commercial-scale manufacturing is far more complex than simply building proportionately larger manufacturing equipment.  For example, many laboratory-scale manufacturing processes in the biopharmaceutical arena cannot be easily scaled or proportionally increased to produce commercially useful quantities of the drug: different processes are need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this point in the presentation we have focused on the need for clinical trials in drug development.  However, they do have their limitation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The randomized controlled clinical trial is the method of choice for the objective and quantitative demonstration of the efficacy and tolerability of a new medicine.  None the less, such studies have limitations in discovering possible adverse events that may occur, in particular those that are rare or develop after prolonged use, in combination with other drugs, or perhaps due to unidentified risk factors.  Clinical trials are inherently limited in duration and number of patients, and, significantly, patients are selected prior to inclusion.  In other words, the conditions of a trial are artificial compared with the real-life use after the introduction of a medicine.”   (Olsson and Meyboom, 2006)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now on in this presentation it may be helpful to think in terms of the clinical trials discussed so far as being preapproval clinical trials, i.e., clinical trials whose results are reported in regulatory applications for marketing approval.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preapproval clinical trials are crucial in drug development, even the gold standard double-blind, randomized, concurrently controlled clinical trials are limited in their ability to provide information that truly represents the safety and effectiveness of the drug once it has been widely prescribed, and is being taken by many more individuals than participated in the preapproval clinical trials.</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several pertinent issues arise, as described in the following slid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issue is the (very) low probability of observing rare adverse events in clinical trials, even in large therapeutic confirmatory trials.  Rare side effects are probabilistically much more likely to surface once the drug is widely used, and unfortunately some of these side effects may be extremely serious. </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ule of threes” is instructive here.  In preapproval trials the sample size that would be needed to be 95% confident that a single case of an identified AE of interest would be seen is roughly three times the reciprocal of the frequency of the adverse event (AE) in the general population.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for an event that occurs in 1/1000 individuals, a sample size of around 3000 subjects would be needed to be 95% confident of observing at least one A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40"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ample size needed to be 95% confident of observing at least one AE in a preapproval clinical trial when the frequency of the AE is 1/10,000 (~ 30,000 subjects) is much larger than is feasible in conducting these tria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once the drug is approved and being taken by, say, 100,000 patients, we would expect that 10 of these patients would experience this relatively rare side effec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at the frequency of an AE is 1/100,000, a figure that sounds very rare.  However, once a million patients are taking the drug (and this certainly occurs) we would again expect that 10 of these patients would experience the A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postmarketing surveillance is critically importa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cond issue concerns the fact that, for scientifically sound reasons, these trials typically employ relatively homogeneous subject samples resulting from relatively limiting inclusion criteria and extensive exclusion criteria:</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subjects who have other illnesses or medical conditions, including renal and hepatic impairment, are typically excluded.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ge range of subjects can be fairly limited.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subjects taking certain concomitant medications may be excluded. </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rials are designed to provide the best opportunity to test the ‘pure’ effect caused by the drug, e.g., how much an investigative drug intended as an antihypertensive actually lowers blood pressure as compared with a control (typically a placebo contro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44"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is information is critical, once a drug is approved it can be (is likely to be) prescribed to a much more heterogeneous patient population, where the effect of the drug will not always be as seen in the carefully controlled environment of a pre-approval clinical trial.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Senn (1997) commented, these trials are comparative, not representative.  Representative knowledge must therefore be obtained once the approved drug is in widespread use.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ird issue concerns the length of time that a patient may take the new drug.  This may be (is likely to be) considerably longer than the treatment period for subjects in preapproval clinical trials.  The long-term safely of a drug that is suitable for chronic administration is therefore not likely known at the time that the drug is approv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ritical role</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ppropriate use of a drug can be a major cause of unexpected occurrences.  Medication errors are unfortunately higher than may be initially thought.  The potential for chronic inappropriate drug use, particularly as it relates to dependence, is also of concer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f these issues are of interest in pharmacovigilance.  After marketing approval for a new drug has been received, the sponsor must review all safety data it obtains from any source world-wide, includin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ercial marketing experienc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marketing clinical investiga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marketing epidemiological/surveillance stud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s in published scientific literatur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s in unpublished papers (as availabl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CDER Report</a:t>
            </a:r>
            <a:endParaRPr b="0" lang="en-US" sz="28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DA’s 2005 CDER Report to the Nation, “Improving Public Health through Human Drugs,” is a far-reaching report that is excellent reading for everyone interested in new drug development.  It contains informative discussions on many aspects of CDER’s activiti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relevance to this section of the presentation are CDER’s drug safety activities, particularly CDER’s role in drug safety oversight and surveillance of the safety of products sold in the United Stat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ort noted that, during this time, CDER processed and evaluated “more than 460,000 reports of adverse drug events, including more than 25,000 submitted directly from individual health-care providers and patien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a:t>
            </a:r>
            <a:r>
              <a:rPr b="0" lang="en-US" sz="2400" spc="-1" strike="noStrike">
                <a:solidFill>
                  <a:srgbClr val="333399"/>
                </a:solidFill>
                <a:latin typeface="Tahoma"/>
              </a:rPr>
              <a:t>CDER Report</a:t>
            </a:r>
            <a:endParaRPr b="0" lang="en-US" sz="2400" spc="-1" strike="noStrike">
              <a:solidFill>
                <a:srgbClr val="333399"/>
              </a:solidFill>
              <a:latin typeface="Tahoma"/>
            </a:endParaRPr>
          </a:p>
        </p:txBody>
      </p:sp>
      <p:sp>
        <p:nvSpPr>
          <p:cNvPr id="150" name="PlaceHolder 2"/>
          <p:cNvSpPr>
            <a:spLocks noGrp="1"/>
          </p:cNvSpPr>
          <p:nvPr>
            <p:ph/>
          </p:nvPr>
        </p:nvSpPr>
        <p:spPr>
          <a:xfrm>
            <a:off x="1182600" y="2017440"/>
            <a:ext cx="7772400" cy="38494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ER’s new initiatives included:</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blishing a Drug Safety Oversight Board.  In its initial meetings, board members explored the methods used in risk assessment of marketed drugs, including review and analysis of spontaneous reports of adverse events, drug use data, health-care administrative data, epidemiological and observational (nonexperimental) studies, post-approval clinical trials, and active surveillance systems. </a:t>
            </a:r>
            <a:endParaRPr b="0" lang="en-US" sz="18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aring drug safety information sooner and more broadly.</a:t>
            </a:r>
            <a:endParaRPr b="0" lang="en-US" sz="18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ying the foundations of an electronic information infrastructure that will give patients, health-care professionals, and consumers quick and easy access to the most up-to-date and accurate information on medicines.</a:t>
            </a:r>
            <a:endParaRPr b="0" lang="en-US" sz="18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taining public input on their drug risk communication strategie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IOM Report</a:t>
            </a:r>
            <a:endParaRPr b="0" lang="en-US" sz="28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stitute of Medicine (IOM) of the National Academies is a non-for-profit organization that was chartered in 1970 as a component of the National Academy of Sciences.  It publishes reports on many topics in the fields of biomedical science, medicine, and health.</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eptember 2006 the IOM’s Committee on the Assessment of the U.S. Drug Safety System issued a report, commissioned by FDA, entitled “The Future of Drug Safety: Promoting and Protecting the Health of the Public.”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ort offered a broad set of recommendations to ensure that consideration of safety extends from before product approval through the entire time the product is marketed and used.  These recommendations were as follow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Nonclinical study needs</a:t>
            </a:r>
            <a:endParaRPr b="0" lang="en-US" sz="28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arly phases of nonclinical development relatively smaller amounts of the drug product (test materials) are needed, and the immediate focus of manufacturing attention is on small scale synthesis of the drug substan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stage the quantities needed are in the gram range.  Studies do not need to be conducted to cGLP standards, and the drug compound does not need to be manufactured to cGMP standard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both cGLP and cGMP standards must be met by later nonclinical studies.  Therefore, the drug compound for these toxicological evaluations has to be identical in terms of quality and characteristics to the substance that is administered to huma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IOM Report</a:t>
            </a:r>
            <a:endParaRPr b="0" lang="en-US" sz="28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rification of the FDA’s authority and additional enforcement tools for the agency. </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rification of FDA's role in gathering and communicating additional information on marketed products' risks and benefits.   </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datory registration of clinical trial results to facilitate public access to drug safety information. </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increased role for FDA's drug safety staff. </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arge boost in funding and staffing for the agency.</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currently somewhat paradoxical that the ‘best’ information about a drug’s safety and effectiveness is gathered post-marketing, and yet regulatory governance of the collection and dissemination of this information is considerably less than the regulatory governance of premarketing nonclinical and clinical research. Integrated and equally stringent regulatory governance throughout a drug’s lifecycle is a worthwhile goa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Effectiveness</a:t>
            </a:r>
            <a:endParaRPr b="0" lang="en-US" sz="2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drug safety is extremely important in post-marketing surveillance, it is also of great interest to investigate a drug’s effectivenes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noted earlier, another paradox in the clinical development arena is that the (desirable) nature of tightly controlled preapproval clinical trials, while necessary and informative in its own way, limits the generalizability of the therapeutic results obtained to interventional therapy outside that setting.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ve inclusion and exclusion criteria mean that these trials evaluate efficacy in a narrow segment of the ultimate target popul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stmarketing Surveillance: Effectiveness</a:t>
            </a:r>
            <a:endParaRPr b="0" lang="en-US" sz="28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one statistical perspective, this tightly controlled subject population is beneficial since it reduces extraneous variation that may lead to a treatment effect being difficult to detec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rigorous trials are necessary to address the biological importance of the drug’s pharmacodynamic profile, i.e., its efficacy.  However, a clinically important biological effect seen in well-controlled trials may not be reflected in the drug’s widespread therapeutic profile.  This is why effectiveness assessments are needed.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trials, or large-scale trials (Piantadosi, 2005) typically employ simple methods of assessment and data capture.  They collect data from a large number of patients from heterogeneous population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shing process</a:t>
            </a:r>
            <a:endParaRPr b="0" lang="en-US" sz="28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preparing and submitting documentation to regulatory agencies, the results of clinical studies are reported to the scientific and clinical communities via clinical communications published in medical journal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ding journals (in clinical and many other realms of scientific inquiry) use a peer-review process when deciding whether or not to accept a submitted paper for public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ublishing process is more involved than it may initially seem.  There are specific scientific aspects that should be addressed, and, as in so many areas discussed in this presentation, ethical considerations are paramou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shing process</a:t>
            </a:r>
            <a:endParaRPr b="0" lang="en-US" sz="28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Piantadosi (2005) noted:</a:t>
            </a:r>
            <a:endParaRPr b="0" lang="en-US" sz="20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ing the results of a clinical trial is one of the most important aspects of clinical research.  Investigators have an obligation to each other, the study participants, and the scientific community to disseminate results in a competent and timely manner. </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uthors and reviewers have critical obligations in the peer-review process.</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again, there are very important ethical considerations in this domain.</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lines for reporting clinical trials in clinical publications are provided by the Consolidated Standards of Reporting Trials (CONSORT) group.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cation bias</a:t>
            </a:r>
            <a:endParaRPr b="0" lang="en-US" sz="28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antadosi (2005) defined publication bias as a “tendency for studies with positive results, namely those finding significant differences, to be published in journals in preference to those with negative findings.”  This is a major concern in that the overall picture painted by the clinical literature on a particular topic can be skewed, or biased.</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wers et al. (2006) noted that publication bias can arise from various sources, including:</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urnals tend to favor accepting studies showing positive outcomes, i.e., statistically significant differences between treatments, in favor of negative outcomes (as just noted in Piantadosi’s definition).</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udies with positive findings are more likely to be published in English language journals.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udies with positive results are more likely to be cit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cation bias</a:t>
            </a:r>
            <a:endParaRPr b="0" lang="en-US" sz="2800" spc="-1" strike="noStrike">
              <a:solidFill>
                <a:srgbClr val="333399"/>
              </a:solidFill>
              <a:latin typeface="Tahoma"/>
            </a:endParaRPr>
          </a:p>
        </p:txBody>
      </p:sp>
      <p:sp>
        <p:nvSpPr>
          <p:cNvPr id="166"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udies with positive results are more likely to be published in more than one journal.  (Publishing results from a study in more than one journal is an ethical issue in itself.  While it can sometimes be acceptable, even helpful, to publish separate parts of a large study in separate reports, there is a fine line between this and ‘double publishing’ (or triple-publishing, etc.).</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studies are never submitted for publication.  These may include studies which fail to show a positive result, and studies that have unfavorable result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typical </a:t>
            </a:r>
            <a:r>
              <a:rPr b="0" i="1" lang="en-US" sz="2000" spc="-1" strike="noStrike">
                <a:solidFill>
                  <a:srgbClr val="000000"/>
                </a:solidFill>
                <a:latin typeface="Tahoma"/>
              </a:rPr>
              <a:t>p</a:t>
            </a:r>
            <a:r>
              <a:rPr b="0" lang="en-US" sz="2000" spc="-1" strike="noStrike">
                <a:solidFill>
                  <a:srgbClr val="000000"/>
                </a:solidFill>
                <a:latin typeface="Tahoma"/>
              </a:rPr>
              <a:t>&lt;0.05 level of statistical significance is adopted by many studies, one trial in twenty would be expected to demonstrate a significant effect even if there is no treatment effect.  If trials demonstrating positive results are more likely to be published, there is an immediate problem of distortion in the cumulative clinical literature (Matthews, 2006).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cation bias</a:t>
            </a:r>
            <a:endParaRPr b="0" lang="en-US" sz="2800" spc="-1" strike="noStrike">
              <a:solidFill>
                <a:srgbClr val="333399"/>
              </a:solidFill>
              <a:latin typeface="Tahoma"/>
            </a:endParaRPr>
          </a:p>
        </p:txBody>
      </p:sp>
      <p:sp>
        <p:nvSpPr>
          <p:cNvPr id="168" name="PlaceHolder 2"/>
          <p:cNvSpPr>
            <a:spLocks noGrp="1"/>
          </p:cNvSpPr>
          <p:nvPr>
            <p:ph/>
          </p:nvPr>
        </p:nvSpPr>
        <p:spPr>
          <a:xfrm>
            <a:off x="1182600" y="1828800"/>
            <a:ext cx="77724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ation bias can also influence published literature in an additional way.  Two kinds of summary papers, systematic reviews and meta-analyses, bring together many published papers and provide unifying report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ystematic review, studies are summarized and collated in a descriptive, non-quantitative manner to look for emerging patterns or pictures of eviden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quantitative approach is provided by the technique of meta-analysis.  The results of the different studies are combined according to certain rules, and an overall test statistic is provided.  The interpretation of this test statistic leads to the overall ‘message’ of the meta-analy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ation bias can have considerable impact on both.</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cation bias</a:t>
            </a:r>
            <a:endParaRPr b="0" lang="en-US" sz="2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reparing to write these types of papers, authors typically conduct a computer search for articles that meet certain criteria.  Examples of these criteria might b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ed in an English language journ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ed between 1995 and 2006.</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s original results from a randomized clinical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ains the key words X, Y, and Z.</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studies with positive findings are more likely to be published in English language journals the first bullet list gives articles with positive findings a better chance of capture in the computer search process, and, therefore, inclusion in the systematic review or meta-analysi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Publication bias</a:t>
            </a:r>
            <a:endParaRPr b="0" lang="en-US" sz="28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act that studies with positive results are more likely to be published in more than one journal also gives these articles a better chance of capture in the computer search process, and inclusion in the systematic review or meta-analy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clinical practice perspective a clinician’s treatment of a patient may be influenced by the results of a meta-analysis.  Therefore, if the result is influenced by the fact that the articles included in the analysis were not truly representative of all evaluations of the treatment, the result is not likely to be representative either.  The issue of publication bias is therefore of critical importance in the context of Evidence-based Medic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linical study needs</a:t>
            </a:r>
            <a:endParaRPr b="0" lang="en-US" sz="2800" spc="-1" strike="noStrike">
              <a:solidFill>
                <a:srgbClr val="333399"/>
              </a:solidFill>
              <a:latin typeface="Tahoma"/>
            </a:endParaRPr>
          </a:p>
        </p:txBody>
      </p:sp>
      <p:sp>
        <p:nvSpPr>
          <p:cNvPr id="102"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drug development program moves towards the commencement of clinical trials the production of clinical drug products needs to be addressed.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drug products include both the new investigative drug and the control materials, i.e., a placebo or an active comparator drug that will be administered to the control group.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 active comparator being used contains another company’s active pharmaceutical ingredient (API) permission from that company will be needed by the sponsor to proceed.</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aterials need to be manufactured in a way that facilitates the blinding that is a hallmark of blinded, concurrently controlled, randomized clinical trials (RCTs).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Its practice</a:t>
            </a:r>
            <a:endParaRPr b="0" lang="en-US" sz="28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idence-based medicine was defined by Sackett et al. (1996) as follows: </a:t>
            </a:r>
            <a:endParaRPr b="0" lang="en-US" sz="20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idence based medicine is the conscientious, explicit, and judicious use of current best evidence in making decisions about the care of individual patients. </a:t>
            </a:r>
            <a:endParaRPr b="0" lang="en-US" sz="1800" spc="-1" strike="noStrike">
              <a:solidFill>
                <a:srgbClr val="000000"/>
              </a:solidFill>
              <a:latin typeface="Tahoma"/>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components to evidence-based medicine, and two related sets of responsibilities.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component is clinical research.  Clinical research is a scientific endeavor that provides evidence concerning potential therapeutic interventions.  This presentation has focused on one particular therapeutic intervention, drug therapy.  Once clinical trials have been conducted the evidence obtained is published in clinical communications in journal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Its practice</a:t>
            </a:r>
            <a:endParaRPr b="0" lang="en-US" sz="2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cond component of evidence-based medicine is clinical practice.  Clinicians have the responsibility of providing the best possible care to each of their individual patient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part of being able to provide this optimum care is remaining aware of pertinent evidence that is published in clinical communications (this is no small tas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lso incumbent on clinicians to be able to decide for themselves if the evidence presented in a clinical communication is good evidence, and if the message of a systematic review or a meta-analysis is justified based on the quality of the repor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idence-based Medicine: Its challenges</a:t>
            </a:r>
            <a:endParaRPr b="0" lang="en-US" sz="2800" spc="-1" strike="noStrike">
              <a:solidFill>
                <a:srgbClr val="333399"/>
              </a:solidFill>
              <a:latin typeface="Tahoma"/>
            </a:endParaRPr>
          </a:p>
        </p:txBody>
      </p:sp>
      <p:sp>
        <p:nvSpPr>
          <p:cNvPr id="178"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Katz (2001) commented:</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 of the burden for the responsible cultivation of higher standards and better outcomes in medicine falls, naturally, to researchers and those who screen and publish their findings.  But application is ultimately the responsibility of the clinician, who is obligated to consider not only the pertinence of particular evidence to his of her practice but the adequacy and reliability of the evidence itself. </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z also commented on the challenges that face clinicians, who must utilize the results of clinical research on an individual-by-individual basis to the care of each of their patients:</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r patient is older than, younger than, sicker than, healthier than, ethnically different from, taller, shorter, simply different from the subjects of a study, do the results pertain?... The art of clinical decision making is judgment, an even more difficult concept to grapple with than eviden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linical study needs</a:t>
            </a:r>
            <a:endParaRPr b="0" lang="en-US" sz="2800" spc="-1" strike="noStrike">
              <a:solidFill>
                <a:srgbClr val="333399"/>
              </a:solidFill>
              <a:latin typeface="Tahoma"/>
            </a:endParaRPr>
          </a:p>
        </p:txBody>
      </p:sp>
      <p:sp>
        <p:nvSpPr>
          <p:cNvPr id="104"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inding makes the drug product and the comparator product look (smell, taste, etc.) the same.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izeable drug development program the clinical drug products needed for some of the trials may be different from those used in other trials, since dosage and formulation may change over time as the drug development program proceeds.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ven though the same new drug molecule is being investigated, several clinical drug products may need to be manufactured.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blinding also involves packaging drug products in such a way that they cannot be distinguished by the package in which they are supplied to investigators (a totally different practice from packaging approved drug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linical study need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er-phase trials can require considerable amounts of drug products and therefore their manufacture is not a trivial undertaking.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 majority of blinded trials are conducted using solid dosage forms blinding can also be needed for other drug forms, such as oral liquid formulations, injectable solutions, ointments, and metered dose inhalers (Brun, 2006).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protein biopharmaceuticals are typically administered by injection, manufacturing clinical drug products in this case can be a challen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linical study need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440"/>
            <a:ext cx="7772400" cy="34686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common method of blinding solid dosage forms is over-encapsulation into opaque, hard gelatin capsul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active filler material is used to fill any excess space once the drug being blinded has been placed inside the capsul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employing this methodology, comparative dissolution testing is necessary since the over-encapsulation is a modification of the dru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ommercial scale</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khouse (2006) made the following comments in the context of the difficulties of preparing for commercial scale manufacturing: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fficulty of converting a laboratory concept into a consistent and well-characterized medical product that can be mass-produced has been highly under-rated…Problems in physical design, characterization, manufacturing scale-up, and quality control routinely derail or delay development programs.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nting to sell a drug as soon as it is approved (a sensible financial strategy) can lead to the sponsor’s desire to make the transition from laboratory scale manufacturing to commercial scale manufacturing by simply increasing the size of each component of the manufacturing process in a linear fashion.  However, this rarely works wel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Manufacturing: Commercial scale</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etter long-term, cost-effective strategy is to develop manufacturing processes and facilities specifically suited for the commercial deman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ing quality into the manufacturing process rather than using post-testing of the finished product is a particularly desirable strategy once the commercial production scale is reach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se automation and continuous process monitoring involves measuring product attributes in real time and adjusting process operating parameters via feed-back/feed-forward controls to make necessary adjustments during the manufacturing steps. This strategy can substantially decrease the need for rework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7:17:38Z</dcterms:created>
  <dc:creator>turnerr</dc:creator>
  <dc:description/>
  <dc:language>en-US</dc:language>
  <cp:lastModifiedBy>turnerr</cp:lastModifiedBy>
  <dcterms:modified xsi:type="dcterms:W3CDTF">2007-06-14T14:22:40Z</dcterms:modified>
  <cp:revision>10</cp:revision>
  <dc:subject/>
  <dc:title>Chapter 12</dc:title>
</cp:coreProperties>
</file>