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1294920" y="6248520"/>
            <a:ext cx="7696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2007 by John Wiley &amp; Sons, Inc.,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ftr" idx="2"/>
          </p:nvPr>
        </p:nvSpPr>
        <p:spPr>
          <a:xfrm>
            <a:off x="2057040" y="6248520"/>
            <a:ext cx="57913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7 by John Wiley &amp; Sons, Inc., All Rights Reserved</a:t>
            </a:r>
            <a:endParaRPr b="0" lang="en-US" sz="12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82880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 Drug Development</a:t>
            </a:r>
            <a:br>
              <a:rPr sz="4400"/>
            </a:br>
            <a:endParaRPr b="0" lang="en-US" sz="4400" spc="-1" strike="noStrike">
              <a:solidFill>
                <a:srgbClr val="333399"/>
              </a:solidFill>
              <a:latin typeface="Tahoma"/>
            </a:endParaRPr>
          </a:p>
        </p:txBody>
      </p:sp>
      <p:sp>
        <p:nvSpPr>
          <p:cNvPr id="96" name="PlaceHolder 2"/>
          <p:cNvSpPr>
            <a:spLocks noGrp="1"/>
          </p:cNvSpPr>
          <p:nvPr>
            <p:ph type="subTitle"/>
          </p:nvPr>
        </p:nvSpPr>
        <p:spPr>
          <a:xfrm>
            <a:off x="533520" y="3581280"/>
            <a:ext cx="8076960" cy="23623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PowerPoint Slides to Accompany</a:t>
            </a:r>
            <a:r>
              <a:rPr b="0" lang="en-US" sz="2400" spc="-1" strike="noStrike">
                <a:solidFill>
                  <a:srgbClr val="000000"/>
                </a:solidFill>
                <a:latin typeface="Tahoma"/>
              </a:rPr>
              <a:t> </a:t>
            </a:r>
            <a:endParaRPr b="0" lang="en-US" sz="24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Drug Development:</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esign, Methodology and Analysis</a:t>
            </a: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 Rick Turner, PhD</a:t>
            </a:r>
            <a:endParaRPr b="0" lang="en-US" sz="24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7 by John Wiley &amp; Sons, Inc., All Rights Reserved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A complex proces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ss of bringing a new drug from the research laboratory to marketing approval is not an easy journey: the vast majority of new drugs that start the race will not make it to the finishing line.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 of 10,000 compounds discovered, synthesized, and screened, only 10 make it to initial clinical trials in which the investigational drug is administered to humans for the first time.  Of these 10, only one will successfully make it through all phases of clinical trials and be approved by a regulatory agency for marketing.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The discipline of Statistic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methodology, and analysis are three key components of the discipline of Statistics as operationally defined her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s is an integrated discipline that is important in all many of the activities undertaken in new drug developme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urpose of Statistics in this context is to provide the evidence (numerical representations of information) that forms the rational basis for decision making throughout the drug development proc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The discipline of Statistics </a:t>
            </a: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operational definition of Statistics includ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ing a biologically important research question that needs to be answered.</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iding upon the design of the study, the methodology that will be employed, and the numerical information (data) that will be collected.</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ing the design, methodology, and data to be collected in a Study Protocol.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ing the statistical techniques that will be used to describe and analyze the data in an associated Statistical Analysis Plan.</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inu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The discipline of Statistics</a:t>
            </a:r>
            <a:endParaRPr b="0" lang="en-US" sz="28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ing and analyzing the data to see if there is compelling evidence that the drug is safe and effective.  This process includes evaluation of the statistical significance of the results obtained, and, very importantly, their clinical significance. </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ing the results of a clinical study to a regulatory agency in a Clinical Study Report, and presenting the results to the clinical community in journal publication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design and statistical analysis are intimately and inextricably linked. </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methodology is intimately related to both design and analysi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The discipline of Statistics</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methodology, and statistical analysis operate together during drug development in a process that is integrative, interactive, and ideally seamles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ign of a study determines the statistical analyses that will be conducted once the study data are collect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job of research methodology is to ensure (to the greatest degree possible) that optimum quality research data are collected for subsequent analysis and interpretation, and hence decision mak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Lifecycle drug development</a:t>
            </a:r>
            <a:endParaRPr b="0" lang="en-US" sz="28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fecycle drug development comprises various phas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ug discovery</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ug manufacturing</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clinical (nonhuman animal) research</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approval (i.e., premarketing approval) clinical trial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marketing surveillance (pharmacovigilanc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lifecycle perspective encapsulates bringing a drug to market, evaluating its safety and efficacy during widespread patient use, and potentially improving the drug or removing it from the mark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Drug discovery</a:t>
            </a:r>
            <a:endParaRPr b="0" lang="en-US" sz="28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discovery can be thought of as the work done from the time of the identification of a therapeutic need in a particular disease area to the time the drug candidate deemed most likely to safely affect the desired therapeutic benefit is identifie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rug candidate may be a small molecule, or a biological macromolecule such as a protein or nucleic aci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discovery activities vary between small molecules and biological macromolecules.  However, once a drug candidate has been identified and moves into the drug development phase, the regulatory governance of nonclinical and clinical trials and the marketing approval process is very similar in both cas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Manufacturing</a:t>
            </a:r>
            <a:endParaRPr b="0" lang="en-US" sz="28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drug candidate has been identified in drug discovery, it must be manufactured so that it can be administered in nonclinical studies and then in clinical trials.  </a:t>
            </a: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rug product has to be administered in a certain form in clinical trials, such as a tablet or an injection.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facturing the tablet or injection is an extremely complex procedure.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facturing process differ according to the stage of drug development (the amount of drug needed).</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eutical and biopharmaceutical manufacturing processes differ, but may challenges are shared.</a:t>
            </a:r>
            <a:endParaRPr b="0" lang="en-US" sz="2000" spc="-1" strike="noStrike">
              <a:solidFill>
                <a:srgbClr val="000000"/>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Nonclinical drug development</a:t>
            </a:r>
            <a:endParaRPr b="0" lang="en-US" sz="28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selected, the drug candidate moves to nonclinical develop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human pharmacological therapy is the ultimate goal, understanding nonclinical drug safety and efficacy is critical to subsequent rationally designed, ethical human trial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linical research involves both </a:t>
            </a:r>
            <a:r>
              <a:rPr b="0" i="1" lang="en-US" sz="2000" spc="-1" strike="noStrike">
                <a:solidFill>
                  <a:srgbClr val="000000"/>
                </a:solidFill>
                <a:latin typeface="Tahoma"/>
              </a:rPr>
              <a:t>in vitro</a:t>
            </a:r>
            <a:r>
              <a:rPr b="0" lang="en-US" sz="2000" spc="-1" strike="noStrike">
                <a:solidFill>
                  <a:srgbClr val="000000"/>
                </a:solidFill>
                <a:latin typeface="Tahoma"/>
              </a:rPr>
              <a:t> and </a:t>
            </a:r>
            <a:r>
              <a:rPr b="0" i="1" lang="en-US" sz="2000" spc="-1" strike="noStrike">
                <a:solidFill>
                  <a:srgbClr val="000000"/>
                </a:solidFill>
                <a:latin typeface="Tahoma"/>
              </a:rPr>
              <a:t>in vivo</a:t>
            </a:r>
            <a:r>
              <a:rPr b="0" lang="en-US" sz="2000" spc="-1" strike="noStrike">
                <a:solidFill>
                  <a:srgbClr val="000000"/>
                </a:solidFill>
                <a:latin typeface="Tahoma"/>
              </a:rPr>
              <a:t> testing, and gathers critical information concerning drug dose, frequency, and route of administr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Some nonclinical research—lengthier and more expensive research—is conducted in parallel with clinical researc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Clinical drug development</a:t>
            </a:r>
            <a:endParaRPr b="0" lang="en-US" sz="2800" spc="-1" strike="noStrike">
              <a:solidFill>
                <a:srgbClr val="333399"/>
              </a:solidFill>
              <a:latin typeface="Tahoma"/>
            </a:endParaRPr>
          </a:p>
        </p:txBody>
      </p:sp>
      <p:sp>
        <p:nvSpPr>
          <p:cNvPr id="132" name="PlaceHolder 2"/>
          <p:cNvSpPr>
            <a:spLocks noGrp="1"/>
          </p:cNvSpPr>
          <p:nvPr>
            <p:ph/>
          </p:nvPr>
        </p:nvSpPr>
        <p:spPr>
          <a:xfrm>
            <a:off x="1182600" y="1905120"/>
            <a:ext cx="7772400" cy="441936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trials examine the safety and efficacy of interventions, or treatments, in human subject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ord “subject” is used deliberately since all participants in clinical trials are subjects, even if they are under the care of a personal physician, and therefore a patient in that context, when they enroll in the trial.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difference between clinical care and clinical research is that clinical research is conducted for the general good of the population at large, not for the specific individual benefit of the participants in the study, while clinical care is concerned with the specific well-being of each individual patient.</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many forms of clinical trials, as will be seen later in this pres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762120"/>
            <a:ext cx="7792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Drug Development</a:t>
            </a:r>
            <a:endParaRPr b="0" lang="en-US" sz="3600" spc="-1" strike="noStrike">
              <a:solidFill>
                <a:srgbClr val="333399"/>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owerPoint presentation is divided into six files for ease of operation.  Within these files there are 14 sections that are associated with the 14 chapters in </a:t>
            </a:r>
            <a:r>
              <a:rPr b="0" i="1" lang="en-US" sz="2000" spc="-1" strike="noStrike">
                <a:solidFill>
                  <a:srgbClr val="000000"/>
                </a:solidFill>
                <a:latin typeface="Tahoma"/>
              </a:rPr>
              <a:t>New Drug Development.</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lides present key points from the book’s chapters but do not capture all of the detail presented in the book.  Reading the book in conjunction with this slide presentation will therefore be beneficial.</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s cited are provided in </a:t>
            </a:r>
            <a:r>
              <a:rPr b="0" i="1" lang="en-US" sz="2000" spc="-1" strike="noStrike">
                <a:solidFill>
                  <a:srgbClr val="000000"/>
                </a:solidFill>
                <a:latin typeface="Tahoma"/>
              </a:rPr>
              <a:t>New Drug Development.</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Biological considerations</a:t>
            </a:r>
            <a:endParaRPr b="0" lang="en-US" sz="28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the central themes of design, methodology, and analysis, two other very important considerations in this book concern biology and ethical conduct.</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ltimate goal of new drug development is to produce a biologically active drug that is reasonably safe, well tolerated, and useful in the treatment or prevention of patients’ biological states that are of clinical concern (the phrase “reasonably safe” relates to a reasonable benefit/risk ratio).  The engine that drives new drug development is an unmet medical need, which is ultimately an unmet biological need.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ating subjects in clinical trials in an ethical manner is of paramount importance. Key considerations are on the next slide:</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Ethical considerations</a:t>
            </a:r>
            <a:endParaRPr b="0" lang="en-US" sz="28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fundamental ethical principles guide drug development research in clinical trial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nical equipois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 for person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neficenc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stice</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hical considerations are of the utmost importance in clinical research, and permeate all aspects of it, as captured by the following quote from Derenzo and Moss (200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Ethical considerations</a:t>
            </a:r>
            <a:endParaRPr b="0" lang="en-US" sz="28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Each study component has an ethical aspect.  The ethical aspects of a clinical trial cannot be separated from the scientific objectives.  Segregation of ethical issues from the full range of study design components demonstrates a flaw in understanding the fundamental nature of research involving human subjects.  Compartmentalization of ethical issues is inconsistent with a well-run trial.  Ethical and scientific considerations are intertwin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quote makes it clear every aspect of the clinical trials (and I would also include nonclinical studies) discussed in this presentation require ethical awareness and consideration.  Subjects take part voluntarily in clinical trials for the “greater good” (not for their own benefit), and we owe them every ethical consider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Clinical trials</a:t>
            </a:r>
            <a:endParaRPr b="0" lang="en-US" sz="28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antadosi (2005) provided this succinct definition of a clinical trial:</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 clinical trial is an experiment testing a medical treatment on human subjects.”</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presentation we focus on pharmaceutical clinical trials conducted during the development of a new drug.  Since clinical trials cannot be conducted without related research and manufacturing endeavors, we will also discuss drug discovery, pharmaceutical manufacturing, and nonclinical research.  Nonetheless, throughout this presentation the driving force is the facilitation of successful pharmacological treatment of human patients with biological conditions of clinical concern.</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2</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gulatory Affair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The ICH</a:t>
            </a:r>
            <a:endParaRPr b="0" lang="en-US" sz="2800" spc="-1" strike="noStrike">
              <a:solidFill>
                <a:srgbClr val="333399"/>
              </a:solidFill>
              <a:latin typeface="Tahoma"/>
            </a:endParaRPr>
          </a:p>
        </p:txBody>
      </p:sp>
      <p:sp>
        <p:nvSpPr>
          <p:cNvPr id="144" name="PlaceHolder 2"/>
          <p:cNvSpPr>
            <a:spLocks noGrp="1"/>
          </p:cNvSpPr>
          <p:nvPr>
            <p:ph/>
          </p:nvPr>
        </p:nvSpPr>
        <p:spPr>
          <a:xfrm>
            <a:off x="1182600" y="1828800"/>
            <a:ext cx="7772400" cy="3657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drug development is conducted in a highly regulated environme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rrent regulatory environment is largely a result of the work of the International Conference on Harmonisation (ICH) of Technical Requirements for Registration of Pharmaceuticals for Human Us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CH is an amalgamation of expertise from various agencies and  organizations across the world.</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The ICH</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CH has several goals, including:</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maintain a forum for a constructive dialog between regulatory authorities and the pharmaceutical industry on differences in technical requirements for marketing approval in the European Union, the United States, and Japan in order to ensure a more timely introduction of new drugs, and hence their availability to pati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facilitate the adoption of new or improved technical research and development approaches that update or replace current practices. To monitor and update harmonized technical requirements leading to a greater mutual acceptance of research and development data.</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contribute to the protection of public health from an international perspectiv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encourage the implementation and integration of common standards of documentation and submission of regulatory applications by disseminating harmonized guidelin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The FDA</a:t>
            </a:r>
            <a:endParaRPr b="0" lang="en-US" sz="28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many regulatory agencies throughout the world. The regulatory agency responsible for the governance of new drug development in the U.S is the Food and Administration (FDA).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program centers facilitate the FDA’s operations, including:</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enter for Drug Evaluation and Research (CDE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enter for Biologics Evaluation and Research (CBE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enter for Veterinary Medicine (CVM)</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enter for Devices and Radiological Health (CDRH)</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enter for Food Safety and Applied Nutrition (CFSA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Good practices</a:t>
            </a:r>
            <a:endParaRPr b="0" lang="en-US" sz="28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 common terms and acronyms:</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Manufacturing Practice (GMP)</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Laboratory Practice (GLP)</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Clinical Practice (GCP).</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arious stages of new drug development should be conducted according to the appropriate regulations and guidanc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itial “c” in front of any of these acronyms stands for the word current.  The implication here is that, in the years between rewrites of regulations and guidances, certain modifications in the generally accepted best way of performing a certain activity (best practices) may occu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INDs and NDAs</a:t>
            </a:r>
            <a:endParaRPr b="0" lang="en-US" sz="28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rtant regulatory submission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stigational New Drug Application (IND).  This document is reviewed to see if clinical work should be allowed to start.  </a:t>
            </a: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w Drug Application (NDA) and Biologicals License Application (BLA).</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drug development and approval process includes several principal step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clinical testing.</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mission of an IND.</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DA review of the IND.</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aration and submission of an NDA or a BLA following clinical research.</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DA review and approval of the NDA or B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Drug Development</a:t>
            </a:r>
            <a:endParaRPr b="0" lang="en-US" sz="36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resentation advocates two central positions:</a:t>
            </a:r>
            <a:endParaRPr b="0" lang="en-US" sz="24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methodology, and analysis are central characters in the process of new drug development.  The scientific discipline of Statistics incorporates all three considerations. Statistical awareness is an integral component that is constructively and meaningfully woven into the very fabric of new drug development.</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research conducted during new drug development is done with the ultimate goal of improving patients’ health and well-being. The goal is to develop drugs that are safe and that effectively treat biological states of clinical concern.  We should remind ourselves of this goal often.</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The IND</a:t>
            </a:r>
            <a:endParaRPr b="0" lang="en-US" sz="28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 provides detailed documentation that will allow the </a:t>
            </a:r>
            <a:r>
              <a:rPr b="0" lang="en-US" sz="2000" spc="-1" strike="noStrike">
                <a:solidFill>
                  <a:srgbClr val="000000"/>
                </a:solidFill>
                <a:latin typeface="Tahoma"/>
              </a:rPr>
              <a:t>FDA to conclude that it is reasonable for the sponsor to proceed to clinical trials. Generally, this includes data and information in four broad areas:</a:t>
            </a:r>
            <a:r>
              <a:rPr b="0"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imal pharmacology and toxicology studies. </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facturing information.</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Study Protocols. </a:t>
            </a:r>
            <a:endParaRPr b="0" lang="en-US" sz="2000" spc="-1" strike="noStrike">
              <a:solidFill>
                <a:srgbClr val="000000"/>
              </a:solidFill>
              <a:latin typeface="Tahoma"/>
            </a:endParaRPr>
          </a:p>
          <a:p>
            <a:pPr lvl="1" marL="743040" indent="-285840">
              <a:lnSpc>
                <a:spcPct val="8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stigator informa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DA’s overall review process consists of several reviews, including medical/clinical, chemistry/pharmacology/toxicology, and statistical.</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The NDA</a:t>
            </a:r>
            <a:endParaRPr b="0" lang="en-US" sz="2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e completion of a clinical development program using an investigational new drug, and the completion of all nonclinical studies being conducted contemporaneously, an NDA is file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onsors typically meet with the FDA to discuss the content and format of an NDA prior to its preparation.  Such a “pre-NDA meeting” can be crucial for the sponsor to understand the content and format that will best facilitate the review process for a given submiss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DA’s review of the NDA focuses on determining if it finds the evidence concerning safety, efficacy, and manufacturing ability to be compelling, and if it is therefore prepared to approve the drug for market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Statistical reviews</a:t>
            </a:r>
            <a:endParaRPr b="0" lang="en-US" sz="28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an IND, an NDA receives many reviews: we will focus on the statistical review. Statistical reviewers typically review both the Statistics and Clinical Data sections, and they are also available to review other sections.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DA statisticians evaluate the statistical relevance of the data presented so that they can provide the medical officers with information concerning how well the findings are likely to generalize to the larger patient population in the country.  They evaluate the extent of any deviations from the protocols submitted in the IND in the conduct of the study, as well as the overall quality of the data collected.  All clinical study protocol amendments are reviewed to see what deviations from the original study design have occurred, and how these (and deviations that were not detailed in protocol amendments) may have influenced the data.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Statistical reviews</a:t>
            </a:r>
            <a:endParaRPr b="0" lang="en-US" sz="28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access to all study data in electronic form (submissions are now typically electronic) allows the FDA’s statisticians to replicate all analyses that are reported, and, importantly, to conduct any alternative and additional analyses they feel are warranted and which may help them to reach an informed decision concerning recommendation of the drug for marketin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insights to the Office of Biostatistics’ most up-to-date thinking can be found in the statistical reviews and evaluations written by their statisticians during the review of NDAs.  Once drugs are approved, these reports become public domain documents, allowing a window into the FDA statisticians’ think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gulatory Affairs: The CTD</a:t>
            </a:r>
            <a:endParaRPr b="0" lang="en-US" sz="28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mon Technical Document (CTD) is a method of submitting an NDA. While individual regulatory agencies still have different requirements requiring specific content of various documents, this standardized format is a considerable step forward in the harmonization of submissions to multiple agenci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urther development related to the CTD is the move toward submitting it electronically, a submission format called e-CTD that was initiated through ICH. The FDA actively encourages NDA submission in the e-CTD form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3</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rug Discovery</a:t>
            </a:r>
            <a:endParaRPr b="0" lang="en-US" sz="4400" spc="-1" strike="noStrike">
              <a:solidFill>
                <a:srgbClr val="000000"/>
              </a:solidFill>
              <a:latin typeface="Tahoma"/>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Introduction</a:t>
            </a:r>
            <a:endParaRPr b="0" lang="en-US" sz="28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discovery can be thought of as the work done from the time of the identification of a therapeutic need in a particular disease area to the time the drug candidate deemed most likely to safely affect the desired therapeutic benefit is identifie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rug candidate may be a small molecule, or a biological macromolecule such as a protein or nucleic aci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discovery activities vary between small molecules and biological macromolecules, but once a drug candidate has been identified and moves into the drug development phase the regulatory governance of nonclinical and clinical trials and the marketing approval process is very similar in both cas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Drug design”</a:t>
            </a:r>
            <a:endParaRPr b="0" lang="en-US" sz="28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rting point in contemporary small-molecule drug development is often knowledge of the molecular structure of the drug’s biological target, the target receptor, which is typically a macromolecul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this knowledge, molecular technologies are utilized to discover a drug whose molecular structure is appropriate to facilitate the desired pharmacological effec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Drug design” is concerned with modifying the structure of an existing chemical molecule in specific ways, including modification of its pharmacokinetic profile or synthesizing a related new chemical molecule specifically for its pharmacological benefi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Lead compounds</a:t>
            </a:r>
            <a:endParaRPr b="0" lang="en-US" sz="2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ltimate goals of drug discovery and design are to identify a lead compound, a drug molecule that is the first choice candidate for the next stage of the drug development process (nonclinical testing) and then to optimize the molecule.  This latter activity is called lead optimization.  It refers to searching for a closely related molecule, or chemically engineering modifications in the lead drug molecule to identify the molecule that is best suited to progress to nonclinical testing. </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noted earlier, the drug discovery processes for small-molecule and biopharmaceutical drugs differ, but once an investigational drug enters nonclinical and clinical research the studies and clinical trials conducted are essentially the sa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Drug receptors</a:t>
            </a:r>
            <a:endParaRPr b="0" lang="en-US" sz="28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pt of a drug receptor is an important on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drugs exert their influence by associating with specific macromolecules, often located in the surface membrane of a cell, in ways that alter the macromolecules’ biological activities.</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eptor is regarded as the component of a cell or organism that interacts with a drug, and initiates the chain of biochemical events leading to the drug’s observed effects (Bourne and von Zastrow, 2004).  The receptor concept has proved incredibly useful in molecular biology for explaining many aspects of biological regulation, and receptors have become a central focus of investigation in the areas of pharmacodynamics and the molecular basis of drug ac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Drug Development</a:t>
            </a:r>
            <a:endParaRPr b="0" lang="en-US" sz="36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opening quotes are helpful at this point in setting the scene for this presentatio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recent years, a confluence of spectacular advances in chemistry, molecular biology, genomics, and chemical technology, and the cognate fields of spectroscopy, chromatography, and crystallography have led to the discovery and development of numerous novel therapeutic agents for the treatment of a wide spectrum of diseases.”</a:t>
            </a:r>
            <a:endParaRPr b="0" lang="en-US" sz="2000" spc="-1" strike="noStrike">
              <a:solidFill>
                <a:srgbClr val="000000"/>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Chorghade (200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Receptors</a:t>
            </a:r>
            <a:endParaRPr b="0" lang="en-US" sz="28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receptors are proteins.  Wishart (2005) noted that proteins are perhaps the most complex chemical entities in nature: “No other class of molecule exhibits the variety and irregularity in shape, size, texture, and mobility than can be found in protein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remendous diversity in proteins, and their specificity of shape and electrical charge, may be the reason for the evolution of their role as receptor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ptors largely determine the quantitative relations between the concentration of a drug in the body and its pharmacological effect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Receptors</a:t>
            </a:r>
            <a:endParaRPr b="0" lang="en-US" sz="2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ptors are responsible for the selectivity of a drug’s action.  The molecular size, shape, and electrical charge of a drug determine whether, and with what affinity, it will bind to a particular receptor.  There are an enormous amount of chemically different receptor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ptors mediate the actions of both pharmacological agonists and antagonists.  Agonists activate the receptor to produce a physiological signal as a direct result of binding to it.  Antagonists bind to a receptor but do not activate a signal.  However, this binding has a very important consequence: other drugs that could have interacted with the receptor and caused a physiological signal are no longer able to.  That is, antagonists interfere with the ability of an agonist to activate the cell.  Discussions in this presentation focus on an agoni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Pharmaceutics</a:t>
            </a:r>
            <a:endParaRPr b="0" lang="en-US" sz="28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asic familiarity with pharmaceutics, pharmacokinetics, and pharmacodynamics is useful her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harmaceutical phase can be defined as the time from the point of administration of the drug molecule until it is absorbed into the circulation of the body.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harmaceutical scientist needs to consider the drug product’s formulation.  A tablet is a complex, manufactured drug molecule delivery system that gets the drug molecule to the point where it is absorbed in the small intestine.</a:t>
            </a:r>
            <a:r>
              <a:rPr b="0" lang="en-US" sz="1600" spc="-1" strike="noStrike">
                <a:solidFill>
                  <a:srgbClr val="000000"/>
                </a:solidFill>
                <a:latin typeface="Tahoma"/>
              </a:rPr>
              <a:t>  </a:t>
            </a:r>
            <a:r>
              <a:rPr b="0" lang="en-US" sz="2000" spc="-1" strike="noStrike">
                <a:solidFill>
                  <a:srgbClr val="000000"/>
                </a:solidFill>
                <a:latin typeface="Tahoma"/>
              </a:rPr>
              <a:t>This is the first step in its journey to the target receptor.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kinetics then becomes a very important topic.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Pharmacokinetics</a:t>
            </a:r>
            <a:endParaRPr b="0" lang="en-US" sz="2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kinetics is the study of the effect that the body has on the drug.  The pharmacokinetic phase can be defined as the time from the drug’s absorption into the body until it reaches the microenvironment of the receptor si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 pharmacokinetic processes that determine the concentration of a drug that has been administered are:</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orp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bolism</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imination</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bolism in the liver and excretion by the kidneys are two of the body’s main neutralization and elimination strategie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Pharmacokinetics</a:t>
            </a:r>
            <a:endParaRPr b="0" lang="en-US" sz="28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re exposed to a wide array of foreign compounds, or xenobiotics, every day. Fortunately, the body is very good at getting rid of these foreign substances, and it has sophisticated methods for neutralizing and eliminating them.  However, these sophisticated neutralization and elimination methods are problematic in the case of drugs, which are also xenobiotics, and are therefore subject to the same actions by the body.</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discovery/design has to take these methods into account, since a potentially effective drug (one with a good pharmacodynamic profile indicating successful interaction with its target receptor) will not be clinically useful if it does not reach the target receptor in the chemical state necessary to affect the desired therapeutic respons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Pharmacodynamics</a:t>
            </a:r>
            <a:endParaRPr b="0" lang="en-US" sz="28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armacodynamics is the study of the effect that a drug has on the body, such as lowering blood pressure.  The pharmacodynamic phase begins once the drug molecule reaches the microenvironment of its target receptor where it has the chance to approach the receptor, to dock with it, and to exert its pharmacological effect.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ility of a drug molecule to dock with its target receptor is facilitated by the fact that the molecular geometries of the drug’s functional groups and the receptor’s functional groups are complementary.  This docking, also known as binding, allows the electrons of the drug’s functional groups to interact with the electrons of the receptor’s functional groups, thus enabling an energetically favorable interaction to occur and a pharmacological (biological) effect to be exerted.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Medicinal chemistry</a:t>
            </a:r>
            <a:endParaRPr b="0" lang="en-US" sz="28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inal chemistry is the interdisciplinary science of medicinal chemistry provides “a molecular bridge between the basic science of biology and the clinical science of medicine” (Norgrady and Weaver, 2005).   It focuses on the discovery/design of new molecular entities, their optimization, and their development as useful drug molecules for the treatment of disease.</a:t>
            </a:r>
            <a:endParaRPr b="0" lang="en-US" sz="20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seful drug molecule has the following properties:</a:t>
            </a:r>
            <a:endParaRPr b="0" lang="en-US" sz="20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afe.</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efficacious.</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an successfully navigate all necessary regulatory oversight, including those that govern nonclinical trials and human clinical trials, and be approved by regulatory agencies for market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Medicinal chemistry</a:t>
            </a:r>
            <a:endParaRPr b="0" lang="en-US" sz="28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an be manufactured in sufficiently large quantities by processes that can comply with all necessary regulatory oversight and that are financially viable for the sponso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an be successfully marketed, and therefore be prescribed by clinicians for patien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an help individuals with a specified disease (and possibly other diseases too in the futur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disciplines provide considerable assistance in the discovery and/or design of a useful drug molecule.  These include computer-aided structure-activity modeling and molecular design, and bioinformatics and cheminformatics.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Molecular structure</a:t>
            </a:r>
            <a:endParaRPr b="0" lang="en-US" sz="2800" spc="-1" strike="noStrike">
              <a:solidFill>
                <a:srgbClr val="333399"/>
              </a:solidFill>
              <a:latin typeface="Tahoma"/>
            </a:endParaRPr>
          </a:p>
        </p:txBody>
      </p:sp>
      <p:sp>
        <p:nvSpPr>
          <p:cNvPr id="190"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rug molecule can be thought of as a “collection of molecular fragments held in a three-dimensional arrangement that determines and defines all of the properties of the drug molecule” (Nogrady and Weaver, 2005).  These properties are important in determining whether a drug molecule that is administered to an individual will reach the drug target.</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also important in determining whether the molecule will then dock with and interact successfully with the target receptor.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f interest to try and predict how a given drug molecule might interact with a specific receptor based on knowledge of the molecular structure of the drug and the receptor.  This is the province of computer-aided structure-activity modeling and molecular design mentioned earli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Molecular structure</a:t>
            </a:r>
            <a:endParaRPr b="0" lang="en-US" sz="2800" spc="-1" strike="noStrike">
              <a:solidFill>
                <a:srgbClr val="333399"/>
              </a:solidFill>
              <a:latin typeface="Tahoma"/>
            </a:endParaRPr>
          </a:p>
        </p:txBody>
      </p:sp>
      <p:sp>
        <p:nvSpPr>
          <p:cNvPr id="192"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ug molecules can also interact with non-target receptors.  This leads to unwanted effects, i.e., side effects.  This activity is known as toxicodynamic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erefore of interest to predict possible toxicodynamic effects as well as pharmacodynamic effect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oal in drug design is create a drug molecule that maximizes pharmacodynamic activity while also minimizing toxicodynamic activity.</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of the molecular structure of drugs and of receptors enhances such prediction and design, but this science is currently far from perfect, hence the need for nonclinical and clinical re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Drug Development</a:t>
            </a:r>
            <a:endParaRPr b="0" lang="en-US" sz="36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linical trials should be designed, conducted, and analyzed according to sound scientific principles to achieve their objectives; and should be reported appropriately. The essence of rational drug development is to ask important questions and answer them with appropriate studies.  The primary objectives of any study should be clear and explicitly stated.”</a:t>
            </a:r>
            <a:endParaRPr b="0" lang="en-US" sz="2000" spc="-1" strike="noStrike">
              <a:solidFill>
                <a:srgbClr val="000000"/>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CH Guidance E8: General Considerations for Clinical Tria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Molecular structure</a:t>
            </a:r>
            <a:endParaRPr b="0" lang="en-US" sz="2800" spc="-1" strike="noStrike">
              <a:solidFill>
                <a:srgbClr val="333399"/>
              </a:solidFill>
              <a:latin typeface="Tahoma"/>
            </a:endParaRPr>
          </a:p>
        </p:txBody>
      </p:sp>
      <p:sp>
        <p:nvSpPr>
          <p:cNvPr id="19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rn computing techniques are increasingly being used in drug discovery and design.  Two recent trends have facilitated this paradigm shift:</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enomenal growth in information from molecular biological studies provides the pharmaceutical industry with tremendous opportunities to capitalize on this information in the development of new drugs.  This includes a knowledge of how genetic material codes for the production of proteins, knowledge of the structure and function of proteins, how proteins create metabolic pathways, and how environmental factors affect the phenotypic expression of a person’s genotype to create a unique individual human being with a unique set of metabolic pathway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emendous advancement in computing systems that contain all of this information and make it available in many ways to many scientis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Molecular structure</a:t>
            </a:r>
            <a:endParaRPr b="0" lang="en-US" sz="28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bination of advances in these areas has facilitated the development of cheminformatics and bioinformatics, highly computational fields that deal with storing and communicating the ever-increasing amount of molecular chemical and molecular biological data availabl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informatics is at the heart of understanding the workings of the cell.  The vast amounts of information from many sub-disciplines within molecular and cell biology need to be integrated into a cellular model that can be used to generate hypotheses for testing.</a:t>
            </a:r>
            <a:endParaRPr b="0" lang="en-US" sz="20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to emphasize that while bioinformatics employs tremendous computing power it is, at heart, a biological disciplin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Proteins</a:t>
            </a:r>
            <a:endParaRPr b="0" lang="en-US" sz="2800" spc="-1" strike="noStrike">
              <a:solidFill>
                <a:srgbClr val="333399"/>
              </a:solidFill>
              <a:latin typeface="Tahoma"/>
            </a:endParaRPr>
          </a:p>
        </p:txBody>
      </p:sp>
      <p:sp>
        <p:nvSpPr>
          <p:cNvPr id="198" name="PlaceHolder 2"/>
          <p:cNvSpPr>
            <a:spLocks noGrp="1"/>
          </p:cNvSpPr>
          <p:nvPr>
            <p:ph/>
          </p:nvPr>
        </p:nvSpPr>
        <p:spPr>
          <a:xfrm>
            <a:off x="1182600" y="1905120"/>
            <a:ext cx="7772400" cy="4495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pharmaceuticals are large-molecule drugs, or macromolecule drugs. Walsh (2003) defined biopharmaceuticals as therapeutic protein or nucleic acid preparations made by techniques involving recombinant DNA technology. Attention in this presentation focuses on proteins.</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s have many biological functions.  Of particular relevance here are their function as drug receptors and their function as enzymes. </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zymes are the largest class of proteins.  Most enzyme names end in “-ase.”  Enzymes act as catalysts for almost all of the chemical reactions that occur in living organisms. Almost all steps in biological reactions, therefore, are catalyzed by enzymes.  It is thought that enzymes reduce the activation energy required for each of the stages in these reac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Proteins</a:t>
            </a:r>
            <a:endParaRPr b="0" lang="en-US" sz="28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gree of complexity inherent in proteins is captured in a descriptive hierarchical model comprisin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mary structure. This represents the sequence of a protein, the string of amino acids that comprise it.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ary structure. These substructures are formed by short stretches of amino acids.  They make up sequentially proximal components of proteins, and they have shap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tiary structure. This represents the overall three-dimensional structure of a protein.  The tertiary structure represents the “spatial packing” of secondary structures (Ofran and Rost, 2005).</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ishart (2005) expressed it, “proteins have a natural proclivity to form more complex structu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Recombinant DNA technology</a:t>
            </a:r>
            <a:endParaRPr b="0" lang="en-US" sz="28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mbinant DNA technology is “the capacity to edit DNA” (Watson, 2003).</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ynthesis of the proteins human growth hormone and insulin were among the first commercial biopharmaceutical applications of recombinant DNA technology.</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recombinant proteins were produced in bacteria. More complex recombinant human proteins are produced in various ways, including large scale mammalian cell culture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rganisms that carry the recombinant genes and in which recombinant DNA drugs are produced are called host organisms.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rug Discovery: Clinical trials are still essential</a:t>
            </a:r>
            <a:endParaRPr b="0" lang="en-US" sz="28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d knowledge we have concerning molecular chemistry, molecular biology, and the molecular basis of health and disease can confer considerable advantages in the drug discovery proces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even with all of these sophisticated strategies working in the research scientist’s favor, a drug candidate’s pharmacokinetic and pharmacodynamic activity in humans cannot be precisely specified by </a:t>
            </a:r>
            <a:r>
              <a:rPr b="0" i="1" lang="en-US" sz="2000" spc="-1" strike="noStrike">
                <a:solidFill>
                  <a:srgbClr val="000000"/>
                </a:solidFill>
                <a:latin typeface="Tahoma"/>
              </a:rPr>
              <a:t>in silico </a:t>
            </a:r>
            <a:r>
              <a:rPr b="0" lang="en-US" sz="2000" spc="-1" strike="noStrike">
                <a:solidFill>
                  <a:srgbClr val="000000"/>
                </a:solidFill>
                <a:latin typeface="Tahoma"/>
              </a:rPr>
              <a:t>and</a:t>
            </a:r>
            <a:r>
              <a:rPr b="0" i="1" lang="en-US" sz="2000" spc="-1" strike="noStrike">
                <a:solidFill>
                  <a:srgbClr val="000000"/>
                </a:solidFill>
                <a:latin typeface="Tahoma"/>
              </a:rPr>
              <a:t> in vitro </a:t>
            </a:r>
            <a:r>
              <a:rPr b="0" lang="en-US" sz="2000" spc="-1" strike="noStrike">
                <a:solidFill>
                  <a:srgbClr val="000000"/>
                </a:solidFill>
                <a:latin typeface="Tahoma"/>
              </a:rPr>
              <a:t>testing.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eans that nonclinical research and the clinical trial methodology that is the focus of this presentation is still absolutely essential to evaluate a new drug candidate’s biological activity in humans, and hence its safety and efficac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Drug Development</a:t>
            </a:r>
            <a:endParaRPr b="0" lang="en-US" sz="36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most critical and difficult prerequisite for a good study is to select an important feasible question to answer.  Accomplishing this is a consequence primarily of biological knowledge….Conceptual simplicity in design and analysis is a very important feature of good trials…Good trials are usually simple to analyze correctly.”</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iantadosi (200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Drug Development</a:t>
            </a:r>
            <a:endParaRPr b="0" lang="en-US" sz="36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tatistically significant difference, no matter how small the </a:t>
            </a:r>
            <a:r>
              <a:rPr b="0" i="1" lang="en-US" sz="2000" spc="-1" strike="noStrike">
                <a:solidFill>
                  <a:srgbClr val="000000"/>
                </a:solidFill>
                <a:latin typeface="Tahoma"/>
              </a:rPr>
              <a:t>p,</a:t>
            </a:r>
            <a:r>
              <a:rPr b="0" lang="en-US" sz="2000" spc="-1" strike="noStrike">
                <a:solidFill>
                  <a:srgbClr val="000000"/>
                </a:solidFill>
                <a:latin typeface="Tahoma"/>
              </a:rPr>
              <a:t> does not mean that the difference is clinically important.  A </a:t>
            </a:r>
            <a:r>
              <a:rPr b="0" i="1" lang="en-US" sz="2000" spc="-1" strike="noStrike">
                <a:solidFill>
                  <a:srgbClr val="000000"/>
                </a:solidFill>
                <a:latin typeface="Tahoma"/>
              </a:rPr>
              <a:t>p-</a:t>
            </a:r>
            <a:r>
              <a:rPr b="0" lang="en-US" sz="2000" spc="-1" strike="noStrike">
                <a:solidFill>
                  <a:srgbClr val="000000"/>
                </a:solidFill>
                <a:latin typeface="Tahoma"/>
              </a:rPr>
              <a:t>value of &lt;0.0001, if it emerges from a well-designed study, conveys a high degree of confidence that a difference really exists [between treatment groups in a clinical trial] but says nothing about the magnitude of that difference or its clinical importance.”</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etcher and Fletcher (200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ew Drug Development</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A complex proces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focuses on the development of new pharmaceuticals and biopharmaceuticals that safely and effectively treat, or prevent, biological states of clinical concer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drug development is a lengthy, expensive, and complex endeavor. While precise quantification of “lengthy” and “expensive” is difficult, respective values of 10-15 years and upward of one billion US dollars are realistic and informative approximations in 2007.</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20:12:15Z</dcterms:created>
  <dc:creator>turnerr</dc:creator>
  <dc:description/>
  <dc:language>en-US</dc:language>
  <cp:lastModifiedBy>turnerr</cp:lastModifiedBy>
  <dcterms:modified xsi:type="dcterms:W3CDTF">2007-06-14T14:05:19Z</dcterms:modified>
  <cp:revision>6</cp:revision>
  <dc:subject/>
  <dc:title>New Drug Development </dc:title>
</cp:coreProperties>
</file>