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ftr" idx="1"/>
          </p:nvPr>
        </p:nvSpPr>
        <p:spPr>
          <a:xfrm>
            <a:off x="1219320" y="6248520"/>
            <a:ext cx="7696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 2007 by John Wiley &amp; Sons, Inc.,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2438280"/>
            <a:ext cx="9009000" cy="1052640"/>
            <a:chOff x="0" y="2438280"/>
            <a:chExt cx="9009000" cy="1052640"/>
          </a:xfrm>
        </p:grpSpPr>
        <p:grpSp>
          <p:nvGrpSpPr>
            <p:cNvPr id="47" name=""/>
            <p:cNvGrpSpPr/>
            <p:nvPr/>
          </p:nvGrpSpPr>
          <p:grpSpPr>
            <a:xfrm>
              <a:off x="290520" y="2546280"/>
              <a:ext cx="711360" cy="474840"/>
              <a:chOff x="290520" y="2546280"/>
              <a:chExt cx="711360" cy="474840"/>
            </a:xfrm>
          </p:grpSpPr>
          <p:sp>
            <p:nvSpPr>
              <p:cNvPr id="4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 name=""/>
            <p:cNvGrpSpPr/>
            <p:nvPr/>
          </p:nvGrpSpPr>
          <p:grpSpPr>
            <a:xfrm>
              <a:off x="414360" y="2968560"/>
              <a:ext cx="737640" cy="474840"/>
              <a:chOff x="414360" y="2968560"/>
              <a:chExt cx="737640" cy="474840"/>
            </a:xfrm>
          </p:grpSpPr>
          <p:sp>
            <p:nvSpPr>
              <p:cNvPr id="5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7" name="PlaceHolder 2"/>
          <p:cNvSpPr>
            <a:spLocks noGrp="1"/>
          </p:cNvSpPr>
          <p:nvPr>
            <p:ph type="ftr" idx="2"/>
          </p:nvPr>
        </p:nvSpPr>
        <p:spPr>
          <a:xfrm>
            <a:off x="1295280" y="6248520"/>
            <a:ext cx="6477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7 by John Wiley &amp; Sons, Inc., All Rights Reserved</a:t>
            </a:r>
            <a:endParaRPr b="0" lang="en-US" sz="1200" spc="-1" strike="noStrike">
              <a:solidFill>
                <a:srgbClr val="000000"/>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9</a:t>
            </a:r>
            <a:endParaRPr b="0" lang="en-US" sz="4400" spc="-1" strike="noStrike">
              <a:solidFill>
                <a:srgbClr val="333399"/>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mple-size Estimation</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mple-size Estimation: The CRD</a:t>
            </a:r>
            <a:endParaRPr b="0" lang="en-US" sz="28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ing the CRD, the smallest effect size that is clinically meaningful, is relatively straightforward. This is based on clinical input.  For example, a decrease in SBP of 6 mmHg may be thought by the sponsor to be clinically relevant in this contex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andard deviation for change in SBP can be harder to determine.  Possible strategies include:  </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ine previously published data on similar outcomes (maybe other drugs in same clas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ulting with experts in this research domai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duct a small pilot study.  In the later phases of a clinical development program, data from earlier studies may be informative. This often means that for confirmatory clinical drug trials there will results from earlier trials, so information is readily available to the sponsor.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mple-size Estimation: Influences on </a:t>
            </a:r>
            <a:r>
              <a:rPr b="0" i="1" lang="en-US" sz="2800" spc="-1" strike="noStrike">
                <a:solidFill>
                  <a:srgbClr val="333399"/>
                </a:solidFill>
                <a:latin typeface="Tahoma"/>
              </a:rPr>
              <a:t>N</a:t>
            </a:r>
            <a:endParaRPr b="0" lang="en-US" sz="28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not discuss the actual formula used in the type of study design that we are using as our ongoing example.  However, it is valuable to be aware of the influences of each of the variables we have discussed upon the sample size, </a:t>
            </a:r>
            <a:r>
              <a:rPr b="0" i="1" lang="en-US" sz="2000" spc="-1" strike="noStrike">
                <a:solidFill>
                  <a:srgbClr val="000000"/>
                </a:solidFill>
                <a:latin typeface="Tahoma"/>
              </a:rPr>
              <a:t>N</a:t>
            </a:r>
            <a:r>
              <a:rPr b="0" lang="en-US" sz="2000" spc="-1" strike="noStrike">
                <a:solidFill>
                  <a:srgbClr val="000000"/>
                </a:solidFill>
                <a:latin typeface="Tahoma"/>
              </a:rPr>
              <a:t>, that will be given by the formula. Given that all of the others remain the sam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maller the chosen value of </a:t>
            </a:r>
            <a:r>
              <a:rPr b="0" lang="en-US" sz="1800" spc="-1" strike="noStrike">
                <a:solidFill>
                  <a:srgbClr val="000000"/>
                </a:solidFill>
                <a:latin typeface="Symbol"/>
                <a:ea typeface="Symbol"/>
              </a:rPr>
              <a:t></a:t>
            </a:r>
            <a:r>
              <a:rPr b="0" lang="en-US" sz="1800" spc="-1" strike="noStrike">
                <a:solidFill>
                  <a:srgbClr val="000000"/>
                </a:solidFill>
                <a:latin typeface="Tahoma"/>
              </a:rPr>
              <a:t>, the larger the value of </a:t>
            </a:r>
            <a:r>
              <a:rPr b="0" i="1" lang="en-US" sz="1800" spc="-1" strike="noStrike">
                <a:solidFill>
                  <a:srgbClr val="000000"/>
                </a:solidFill>
                <a:latin typeface="Tahoma"/>
              </a:rPr>
              <a:t>N</a:t>
            </a:r>
            <a:r>
              <a:rPr b="0" lang="en-US" sz="1800" spc="-1" strike="noStrike">
                <a:solidFill>
                  <a:srgbClr val="000000"/>
                </a:solidFill>
                <a:latin typeface="Tahoma"/>
              </a:rPr>
              <a:t>  that will be give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maller the chosen value of </a:t>
            </a:r>
            <a:r>
              <a:rPr b="0" lang="en-US" sz="1800" spc="-1" strike="noStrike">
                <a:solidFill>
                  <a:srgbClr val="000000"/>
                </a:solidFill>
                <a:latin typeface="Symbol"/>
                <a:ea typeface="Symbol"/>
              </a:rPr>
              <a:t></a:t>
            </a:r>
            <a:r>
              <a:rPr b="0" lang="en-US" sz="1800" spc="-1" strike="noStrike">
                <a:solidFill>
                  <a:srgbClr val="000000"/>
                </a:solidFill>
                <a:latin typeface="Tahoma"/>
              </a:rPr>
              <a:t>, the larger the value of </a:t>
            </a:r>
            <a:r>
              <a:rPr b="0" i="1" lang="en-US" sz="1800" spc="-1" strike="noStrike">
                <a:solidFill>
                  <a:srgbClr val="000000"/>
                </a:solidFill>
                <a:latin typeface="Tahoma"/>
              </a:rPr>
              <a:t>N</a:t>
            </a:r>
            <a:r>
              <a:rPr b="0" lang="en-US" sz="1800" spc="-1" strike="noStrike">
                <a:solidFill>
                  <a:srgbClr val="000000"/>
                </a:solidFill>
                <a:latin typeface="Tahoma"/>
              </a:rPr>
              <a:t>  that will be given.  This is because power is defined as (1 - </a:t>
            </a:r>
            <a:r>
              <a:rPr b="0" lang="en-US" sz="1800" spc="-1" strike="noStrike">
                <a:solidFill>
                  <a:srgbClr val="000000"/>
                </a:solidFill>
                <a:latin typeface="Symbol"/>
                <a:ea typeface="Symbol"/>
              </a:rPr>
              <a:t></a:t>
            </a:r>
            <a:r>
              <a:rPr b="0" lang="en-US" sz="1800" spc="-1" strike="noStrike">
                <a:solidFill>
                  <a:srgbClr val="000000"/>
                </a:solidFill>
                <a:latin typeface="Tahoma"/>
              </a:rPr>
              <a:t>).  As </a:t>
            </a:r>
            <a:r>
              <a:rPr b="0" lang="en-US" sz="1800" spc="-1" strike="noStrike">
                <a:solidFill>
                  <a:srgbClr val="000000"/>
                </a:solidFill>
                <a:latin typeface="Symbol"/>
                <a:ea typeface="Symbol"/>
              </a:rPr>
              <a:t></a:t>
            </a:r>
            <a:r>
              <a:rPr b="0" lang="en-US" sz="1800" spc="-1" strike="noStrike">
                <a:solidFill>
                  <a:srgbClr val="000000"/>
                </a:solidFill>
                <a:latin typeface="Tahoma"/>
              </a:rPr>
              <a:t> decreases, power increases: as power increases, the larger the value of </a:t>
            </a:r>
            <a:r>
              <a:rPr b="0" i="1" lang="en-US" sz="1800" spc="-1" strike="noStrike">
                <a:solidFill>
                  <a:srgbClr val="000000"/>
                </a:solidFill>
                <a:latin typeface="Tahoma"/>
              </a:rPr>
              <a:t>N</a:t>
            </a:r>
            <a:r>
              <a:rPr b="0" lang="en-US" sz="1800" spc="-1" strike="noStrike">
                <a:solidFill>
                  <a:srgbClr val="000000"/>
                </a:solidFill>
                <a:latin typeface="Tahoma"/>
              </a:rPr>
              <a:t>  that will be give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arger the standardized effect size, the smaller the value of </a:t>
            </a:r>
            <a:r>
              <a:rPr b="0" i="1" lang="en-US" sz="1800" spc="-1" strike="noStrike">
                <a:solidFill>
                  <a:srgbClr val="000000"/>
                </a:solidFill>
                <a:latin typeface="Tahoma"/>
              </a:rPr>
              <a:t>N</a:t>
            </a:r>
            <a:r>
              <a:rPr b="0" lang="en-US" sz="1800" spc="-1" strike="noStrike">
                <a:solidFill>
                  <a:srgbClr val="000000"/>
                </a:solidFill>
                <a:latin typeface="Tahoma"/>
              </a:rPr>
              <a:t> that will be given.</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mple-size Estimation: Influences on </a:t>
            </a:r>
            <a:r>
              <a:rPr b="0" i="1" lang="en-US" sz="2800" spc="-1" strike="noStrike">
                <a:solidFill>
                  <a:srgbClr val="333399"/>
                </a:solidFill>
                <a:latin typeface="Tahoma"/>
              </a:rPr>
              <a:t>N</a:t>
            </a:r>
            <a:endParaRPr b="0" lang="en-US" sz="2800" spc="-1" strike="noStrike">
              <a:solidFill>
                <a:srgbClr val="333399"/>
              </a:solidFill>
              <a:latin typeface="Tahoma"/>
            </a:endParaRPr>
          </a:p>
        </p:txBody>
      </p:sp>
      <p:sp>
        <p:nvSpPr>
          <p:cNvPr id="118"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hird of these relationships, the relationship between standardized effect size and </a:t>
            </a:r>
            <a:r>
              <a:rPr b="0" i="1" lang="en-US" sz="2000" spc="-1" strike="noStrike">
                <a:solidFill>
                  <a:srgbClr val="000000"/>
                </a:solidFill>
                <a:latin typeface="Tahoma"/>
              </a:rPr>
              <a:t>N</a:t>
            </a:r>
            <a:r>
              <a:rPr b="0" lang="en-US" sz="2000" spc="-1" strike="noStrike">
                <a:solidFill>
                  <a:srgbClr val="000000"/>
                </a:solidFill>
                <a:latin typeface="Tahoma"/>
              </a:rPr>
              <a:t>, is actually influenced by the two separate factors that determine the standardized effect size, CRD/SD, once each of these factors has been chosen:</a:t>
            </a:r>
            <a:endParaRPr b="0" lang="en-US" sz="20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nce the CRD is the numerator in this ratio, the larger the CRD the larger the standardized effect size will be for a given SD.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versely, since SD is the denominator in the ratio, the larger the SD the smaller the standardized effect size will be for a given CRD.  Therefore, the larger the SD, the larger the </a:t>
            </a:r>
            <a:r>
              <a:rPr b="0" i="1" lang="en-US" sz="1800" spc="-1" strike="noStrike">
                <a:solidFill>
                  <a:srgbClr val="000000"/>
                </a:solidFill>
                <a:latin typeface="Tahoma"/>
              </a:rPr>
              <a:t>N</a:t>
            </a:r>
            <a:r>
              <a:rPr b="0" lang="en-US" sz="1800" spc="-1" strike="noStrike">
                <a:solidFill>
                  <a:srgbClr val="000000"/>
                </a:solidFill>
                <a:latin typeface="Tahoma"/>
              </a:rPr>
              <a:t>  that will be given by the sample-size estimation.</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manner (and in analogous manners for different experimental designs) an appropriate sample size can be estimated in each ca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10</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fety Assessment in </a:t>
            </a:r>
            <a:endParaRPr b="0" lang="en-US" sz="44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nical Trials</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Lifecycle development</a:t>
            </a:r>
            <a:endParaRPr b="0" lang="en-US" sz="28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afety of a drug is addressed at all stages in its life history:</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covery and design. </a:t>
            </a:r>
            <a:r>
              <a:rPr b="0" i="1" lang="en-US" sz="1800" spc="-1" strike="noStrike">
                <a:solidFill>
                  <a:srgbClr val="000000"/>
                </a:solidFill>
                <a:latin typeface="Tahoma"/>
              </a:rPr>
              <a:t>In silico</a:t>
            </a:r>
            <a:r>
              <a:rPr b="0" lang="en-US" sz="1800" spc="-1" strike="noStrike">
                <a:solidFill>
                  <a:srgbClr val="000000"/>
                </a:solidFill>
                <a:latin typeface="Tahoma"/>
              </a:rPr>
              <a:t> modeling in the discovery phase of synthetic drugs can examine the potential interactions of centers of reactivity in a drug with non-target receptors, interactions that can lead to undesirable effects. </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clinical research.  In vitro and in vivo testing precedes FTIH studies.</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nical development.  Preapproval clinical trials</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tmarketing surveillance once the drug is in use in patients.</a:t>
            </a:r>
            <a:endParaRPr b="0" lang="en-US" sz="18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art of the presentation focuses on safety assessments during clinical development.</a:t>
            </a:r>
            <a:endParaRPr b="0" lang="en-US" sz="2000" spc="-1" strike="noStrike">
              <a:solidFill>
                <a:srgbClr val="000000"/>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s in preapproval trials</a:t>
            </a:r>
            <a:endParaRPr b="0" lang="en-US" sz="2800" spc="-1" strike="noStrike">
              <a:solidFill>
                <a:srgbClr val="333399"/>
              </a:solidFill>
              <a:latin typeface="Tahoma"/>
            </a:endParaRPr>
          </a:p>
        </p:txBody>
      </p:sp>
      <p:sp>
        <p:nvSpPr>
          <p:cNvPr id="124"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fore discussing safety assessment in clinical trials an overview of clinical trials is presented.  This overview is appropriate in terms of both safety assessments and efficacy assessment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armaceutical clinical trials are often categorized into various phases, with any given trial being identified as belonging to one of them.  These categories include:</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ase I</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ase II</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ase III</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hase IV trial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traditional’ description of Phases I-III is as follows: </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Categories of trials</a:t>
            </a:r>
            <a:endParaRPr b="0" lang="en-US" sz="28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ase I trials.  Pharmacologically oriented studies that typically look for the best dose to employ.  Comparison to other treatments is not typically built in to the study design.</a:t>
            </a:r>
            <a:endParaRPr b="0" lang="en-US" sz="2000" spc="-1" strike="noStrike">
              <a:solidFill>
                <a:srgbClr val="000000"/>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ase II trials.  Trials that look for evidence of activity, efficacy, and safety at a fixed dose.  Comparison to other treatments is not always built in to the study design.</a:t>
            </a:r>
            <a:endParaRPr b="0" lang="en-US" sz="2000" spc="-1" strike="noStrike">
              <a:solidFill>
                <a:srgbClr val="000000"/>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ase III trials.  Trials in which comparison with another treatment (e.g., placebo, an active control) is a fundamental component of the design.  These trials are undertaken if Phase I and Phase II studies have provided preliminary evidence that the new treatment is safe and effectiv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Categories of trials</a:t>
            </a:r>
            <a:endParaRPr b="0" lang="en-US" sz="28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these designations are not used consistently.  Therefore, two studies with the same aims may be classified into different phases, and two studies classified into the same phase may have different aims.  Alternate systems of categorization are arguably more informativ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CH Guideline E8 provides an approach to classifying clinical studies according to their objective.   Their categories are:</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uman pharmacology</a:t>
            </a:r>
            <a:r>
              <a:rPr b="1" lang="en-US" sz="1800" spc="-1" strike="noStrike">
                <a:solidFill>
                  <a:srgbClr val="000000"/>
                </a:solidFill>
                <a:latin typeface="Tahoma"/>
              </a:rPr>
              <a:t> </a:t>
            </a:r>
            <a:r>
              <a:rPr b="0" lang="en-US" sz="1800" spc="-1" strike="noStrike">
                <a:solidFill>
                  <a:srgbClr val="000000"/>
                </a:solidFill>
                <a:latin typeface="Tahoma"/>
              </a:rPr>
              <a:t>trial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apeutic exploratory studie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apeutic confirmatory trial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apeutic use trials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resentation focuses on safety and efficacy assessments in therapeutic confirmatory trial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Clinical trials</a:t>
            </a:r>
            <a:endParaRPr b="0" lang="en-US" sz="28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uman pharmacology and therapeutic exploratory studies define the most likely safe and effective dosage regimens for use in subsequent therapeutic confirmatory studie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herapeutic confirmatory studies are typically run as double-blind, randomized, concurrently controlled clinical trial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thews (1999) made the following observatio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ver the last two to three decades randomized concurrently controlled clinical trials have become established as the method which investigators must use to assess new treatments if their claims are to find widespread acceptanc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Safety data</a:t>
            </a:r>
            <a:endParaRPr b="0" lang="en-US" sz="2800" spc="-1" strike="noStrike">
              <a:solidFill>
                <a:srgbClr val="333399"/>
              </a:solidFill>
              <a:latin typeface="Tahoma"/>
            </a:endParaRPr>
          </a:p>
        </p:txBody>
      </p:sp>
      <p:sp>
        <p:nvSpPr>
          <p:cNvPr id="132"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fety related data can be considered at three levels:</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xtent of exposur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mon adverse events, and serious adverse events and other significant adverse event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mon laboratory tests.</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xtent of subjects’ exposure to a drug during in a clinical trial is a determinant of the extent to which safety can be assessed from the data collected.  Extent of exposure can be characterized in several ways:</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of subjects exposed.</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ration of exposur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se(s) to which subjects were exposed.</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tion of daily dose levels: maximum dose for each subject, dose with the longest exposure for each subject, mean daily dose, cumulative dos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mple-size Estimation: The process</a:t>
            </a:r>
            <a:endParaRPr b="0" lang="en-US" sz="2800" spc="-1" strike="noStrike">
              <a:solidFill>
                <a:srgbClr val="333399"/>
              </a:solidFill>
              <a:latin typeface="Tahoma"/>
            </a:endParaRPr>
          </a:p>
        </p:txBody>
      </p:sp>
      <p:sp>
        <p:nvSpPr>
          <p:cNvPr id="98" name="PlaceHolder 2"/>
          <p:cNvSpPr>
            <a:spLocks noGrp="1"/>
          </p:cNvSpPr>
          <p:nvPr>
            <p:ph/>
          </p:nvPr>
        </p:nvSpPr>
        <p:spPr>
          <a:xfrm>
            <a:off x="1182600" y="182880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e-size estimation is the process by which a sponsor decides how many subjects to include in a given clinical trial.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y sources use the terms ‘sample-size determination’ or ‘sample-size calculation’ when discussing this issue.  This presentation uses the term sample-size estimation to emphasize that deciding on the sample size that will be employed in a clinical trial is a process of estimation that involves both statistically and clinically informed judgment, and not a process of simply calculating the ‘right’ answer.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culations are indeed made in this process, and, for a given set of values that are placed into the appropriate formula in any given circumstance, a precise answer will be given.  However, the values that are placed into the formula are chosen by the sponsor, and two of these are “estimated.”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Safety data</a:t>
            </a:r>
            <a:endParaRPr b="0" lang="en-US" sz="28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s of subjects exposed to the dose(s) for certain periods of tim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file of exposure for different subject populations: subjects broken down by age, gender, ethnic subgroup, disease severity, concurrent illnesse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varying nomenclature used to describe safety data in clinical trials can be confusing.  Some of the terms used are:</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verse events, adverse experiences, adverse drug reaction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de effect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re adverse events, significant adverse events, serious adverse event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eatment-emergent adverse event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isks, toxicities.</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Safety data</a:t>
            </a:r>
            <a:endParaRPr b="0" lang="en-US" sz="28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CH E6 (R1) provides the following definition of the term adverse event:</a:t>
            </a:r>
            <a:endParaRPr b="0" lang="en-US" sz="2000" spc="-1" strike="noStrike">
              <a:solidFill>
                <a:srgbClr val="000000"/>
              </a:solidFill>
              <a:latin typeface="Tahoma"/>
            </a:endParaRPr>
          </a:p>
          <a:p>
            <a:pPr lvl="1" marL="727920" indent="-280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y untoward medical occurrence in a patient or clinical investigation subject administered a pharmaceutical product and which does not necessarily have a causal relationship with the treatment.  An adverse event (AE) can therefore be any unfavourable and unintended sign (including an abnormal laboratory finding), symptom, or disease temporally associated with the use of a medicinal (investigational) product, whether or not associated with the medicinal (investigational) product.</a:t>
            </a:r>
            <a:endParaRPr b="0" lang="en-US" sz="1800" spc="-1" strike="noStrike">
              <a:solidFill>
                <a:srgbClr val="000000"/>
              </a:solidFill>
              <a:latin typeface="Tahoma"/>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CH E2A provides a definition of the term adverse drug reaction that is applicable during preapproval clinical experiences with a new medicinal product:</a:t>
            </a:r>
            <a:endParaRPr b="0" lang="en-US" sz="2000" spc="-1" strike="noStrike">
              <a:solidFill>
                <a:srgbClr val="000000"/>
              </a:solidFill>
              <a:latin typeface="Tahoma"/>
            </a:endParaRPr>
          </a:p>
          <a:p>
            <a:pPr lvl="1" marL="727920" indent="-280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noxious and unintended responses to a medicinal product related to any dose should be considered adverse drug reactions. </a:t>
            </a:r>
            <a:endParaRPr b="0" lang="en-US" sz="1800" spc="-1" strike="noStrike">
              <a:solidFill>
                <a:srgbClr val="000000"/>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Adverse events (AEs)</a:t>
            </a:r>
            <a:endParaRPr b="0" lang="en-US" sz="28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reporting the results of a clinical trial it is of interest to know:</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requency of all adverse events (AEs) that occurred in a trial.</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y relationships of AEs with time.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mographic characteristic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lation to drug dose or concentration.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also of interest to differentiate as much as possible between those AEs that are drug related, i.e., those where there is a “reasonable possibility” of a relationship to the drug administered, and those that are no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AEs</a:t>
            </a:r>
            <a:endParaRPr b="0" lang="en-US" sz="28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mportant to differentiate in this context between the terms serious and sever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CH E2A notes that the term severe is typically used to describe the intensity or severity of a specific event. Typical categories used for describing degrees of severity include: </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ld</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erat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re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also noteworthy that a severe event, e.g., a severe headache, may be “of relatively minor medical significance” (ICH E2A).  It is seriousness, not severity, that serves as the guide for reporting obligations to regulatory agenci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AEs</a:t>
            </a:r>
            <a:endParaRPr b="0" lang="en-US" sz="28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CH E2A provides the following definition of a serious even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serious adverse event (experience) or reaction is any untoward medical occurrence that at any dose:</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ults in death,</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 life threatening (NOTE: The term “life-threatening” in the definition of “serious” refers to an event in which the patient was at risk of death at the time of the event; it does not refer to an event which hypothetically might have caused death if it were more sever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uires inpatient hospitalization or prolongation of existing hospitalizatio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ults in persistent or significant disability/incapacity, or</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 a congenital anomaly/birth defec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Acquisition of data</a:t>
            </a:r>
            <a:endParaRPr b="0" lang="en-US" sz="28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ing the course of a clinical trial it is likely that most subjects will have some form of AEs.  The longer the study and the sicker the subjects are, the more AEs there will be.  Adverse events can be grouped into various categories.  Two of these are:</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 AE reports.  The open form is the most common.  The nature of the AE is recorded in the subject’s own words, or in the investigator’s version of the subject’s words.</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cted signs and systems.  When a treatment has already shown a history of certain kinds of AEs, there may be particular interest in the frequency and severity of these specific AEs during the course of the study: The term ‘AEs of Special Interest’ is sometimes used in this context.  A list of these signs/symptoms is provided, and both subjects and investigators look for these events, identifying those that occurred or not with yes/no answer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Acquisition of data</a:t>
            </a:r>
            <a:endParaRPr b="0" lang="en-US" sz="2800" spc="-1" strike="noStrike">
              <a:solidFill>
                <a:srgbClr val="333399"/>
              </a:solidFill>
              <a:latin typeface="Tahoma"/>
            </a:endParaRPr>
          </a:p>
        </p:txBody>
      </p:sp>
      <p:sp>
        <p:nvSpPr>
          <p:cNvPr id="146"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both cases, the investigator generally makes an assessment of:</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rity.</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lationship to the treatment.</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tion taken.</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rt and stop dates or whether the event is ongoing.</a:t>
            </a:r>
            <a:endParaRPr b="0" lang="en-US" sz="1800" spc="-1" strike="noStrike">
              <a:solidFill>
                <a:srgbClr val="000000"/>
              </a:solidFill>
              <a:latin typeface="Tahoma"/>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ding is done by matching, or coding each reported AEs against a dictionary.  A widely used dictionary is MedDRA, the Medical Dictionary for Regulatory Activities.  This dictionary is particularly comprehensive in that it contains terms used in various contexts, including:</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eases.</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agnoses.</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s.</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mptoms.</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apeutic indication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Laboratory data</a:t>
            </a:r>
            <a:endParaRPr b="0" lang="en-US" sz="28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ommon analytical approach here is to examine the change from baseline to the last treatment visit.  There are several ways that “change” can be defined and quantified.  Examples include:  </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culate the absolute change.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using absolute changes, the data used in the analysis are continuous data, and the methods such as the </a:t>
            </a:r>
            <a:r>
              <a:rPr b="0" i="1" lang="en-US" sz="1800" spc="-1" strike="noStrike">
                <a:solidFill>
                  <a:srgbClr val="000000"/>
                </a:solidFill>
                <a:latin typeface="Tahoma"/>
              </a:rPr>
              <a:t>t</a:t>
            </a:r>
            <a:r>
              <a:rPr b="0" lang="en-US" sz="1800" spc="-1" strike="noStrike">
                <a:solidFill>
                  <a:srgbClr val="000000"/>
                </a:solidFill>
                <a:latin typeface="Tahoma"/>
              </a:rPr>
              <a:t>-test can be used in the analysis.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econd approach is to consider the number of subjects in each treatment group whose measurements were outside the “normal range” at baseline and at the last treatment visit (the normal range must be defined in the study protocol).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approach produces frequency data, which means that different analytical strategies are neede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Clinical Chemistry</a:t>
            </a:r>
            <a:endParaRPr b="0" lang="en-US" sz="28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very wide range of clinical chemistry tests that can be conducted.  For example, some liver function and kidney function tests ar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P (alkaline phosphatas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T/SGPT</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bumi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lirubi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lobuli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DH (lactic acid dehydrogenas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tal protei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N (blood urea nitroge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inin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inine clearan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Central labs</a:t>
            </a:r>
            <a:endParaRPr b="0" lang="en-US" sz="28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therapeutic confirmatory trials are run at multiple investigative sites in order to enroll enough subjects.  Central laboratories are testing laboratories to which samples from all of the investigative sites in a clinical trial are shipped.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strategy has two important advantages compared with using a large collection of ‘local laboratories,’  laboratories that are close to each investigative site:</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urance that the laboratory conducting the analyses of the samples is compliant with cGCP is much easier to obtain by the sponsor.</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stical difficulties associated with analyzing pooled laboratory data are avoided.  Analysis of data that have been collected from many sources and then ‘pooled’ into one data set can lead to considerable statistical problems.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mple-size Estimation: Useful terms</a:t>
            </a:r>
            <a:endParaRPr b="0" lang="en-US" sz="28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ral variables need to be considered in the process of sample-size estimation.  The values of these variables in any given case can be chosen by the sponsor based on several considerations.  Some terms that will be useful for present discussions ar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e I errors and Type II errors.  A Type I error occurs when a significant result is found when it does not really exist, and a   Type II error occurs when one fails to find a significant difference that actually exist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 the probability of making a Type I error.  This is also the level of statistical significance chosen, typically 0.05, but it is possible to choose 0.01 or even more conservative valu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 the probability of making a Type II error.  (Since a probability value must be between 0 and 1, </a:t>
            </a:r>
            <a:r>
              <a:rPr b="0" lang="en-US" sz="1800" spc="-1" strike="noStrike">
                <a:solidFill>
                  <a:srgbClr val="000000"/>
                </a:solidFill>
                <a:latin typeface="Symbol"/>
                <a:ea typeface="Symbol"/>
              </a:rPr>
              <a:t></a:t>
            </a:r>
            <a:r>
              <a:rPr b="0" lang="en-US" sz="1800" spc="-1" strike="noStrike">
                <a:solidFill>
                  <a:srgbClr val="000000"/>
                </a:solidFill>
                <a:latin typeface="Tahoma"/>
              </a:rPr>
              <a:t> will be between 0 and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Analysis populations</a:t>
            </a:r>
            <a:endParaRPr b="0" lang="en-US" sz="28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ous analysis populations for clinical trial data can be defined and used in statistical analyses.  Of relevance for the analysis of safety data are the Intent-to-Treat (ITT) Population and the Safety Pop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TT population comprises all subjects in a clinical trial that were randomized to a treatment group, regardless of whether any data were actually collected from them.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afety population is a specified sub-set of the ITT population, and is defined as the population of subjects who received at least one dose of a treatment (only subjects who took a drug are at risk for an AE caused by the drug).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ITT and safety populations can be used in the analysis of safety da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Analytical approaches</a:t>
            </a:r>
            <a:endParaRPr b="0" lang="en-US" sz="28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tical approaches to safety data are very different from the analytical approaches to efficacy data that are discussed in due course in this presentation.  Some of the reasons for these differences are:</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fety analyses are not typically prespecified in the study protocol and/or the study analysis plan.  Studies are typically powered on efficacy outcomes and the sample size that results from this sample-size estimation may be considerably smaller that would be needed for a thorough investigation of safety data.</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involve numerous outcome events (e.g., all sorts of AEs, laboratory tests, ECG tests), and therefore multiple comparisons are possible (likely).   This means that considerable attention must be paid to issues of multiplicity making it important to protect Type I error.  A “significant” result is therefore difficult to interpre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Assessment: Analytical approaches</a:t>
            </a:r>
            <a:endParaRPr b="0" lang="en-US" sz="28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ce all of the necessary multiplicity considerations have been implemented, most studies are not sufficiently large to achieve statistical significance when comparing incidence rates of safety variables between treatment groups.</a:t>
            </a:r>
            <a:endParaRPr b="0" lang="en-US" sz="1800" spc="-1" strike="noStrike">
              <a:solidFill>
                <a:srgbClr val="000000"/>
              </a:solidFill>
              <a:latin typeface="Tahoma"/>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h safety analyses may therefore be regarded as hypothesis generating more so than hypothesis testing. </a:t>
            </a:r>
            <a:endParaRPr b="0" lang="en-US" sz="1800" spc="-1" strike="noStrike">
              <a:solidFill>
                <a:srgbClr val="000000"/>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e approach that can be adopted in the analysis of safety data is to identify a finding of interest and then look across different trials for consistency.  In the case of safety data evaluation, this may be more informative than the magnitude of specific </a:t>
            </a:r>
            <a:r>
              <a:rPr b="0" i="1" lang="en-US" sz="1800" spc="-1" strike="noStrike">
                <a:solidFill>
                  <a:srgbClr val="000000"/>
                </a:solidFill>
                <a:latin typeface="Tahoma"/>
              </a:rPr>
              <a:t>p</a:t>
            </a:r>
            <a:r>
              <a:rPr b="0" lang="en-US" sz="1800" spc="-1" strike="noStrike">
                <a:solidFill>
                  <a:srgbClr val="000000"/>
                </a:solidFill>
                <a:latin typeface="Tahoma"/>
              </a:rPr>
              <a:t>-values obtained.  Confidence intervals of adverse rates can be informative (particularly when they are narrow), and may be useful to regulatory agencies in their decision making.</a:t>
            </a: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11</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fficacy Assessment </a:t>
            </a:r>
            <a:endParaRPr b="0" lang="en-US" sz="44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 </a:t>
            </a:r>
            <a:endParaRPr b="0" lang="en-US" sz="44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nical Trial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Introduction</a:t>
            </a:r>
            <a:endParaRPr b="0" lang="en-US" sz="28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ddition to having an acceptable safety profile an investigational drug needs to display beneficial therapeutic effects. This takes us into the realm of therapeutic exploratory and therapeutic confirmatory trials.  The statistical approaches discussed in this presentation are characteristic of those employed in these trials, particularly therapeutic confirmatory trial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ussions focus on superiority trials, but also introduce:</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quivalenc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inferiority trial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oup sequential design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aptive study designs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Analysis populations</a:t>
            </a:r>
            <a:endParaRPr b="0" lang="en-US" sz="28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TT analysis population and the per-protocol (efficacy or evaluable) population are typically used in efficacy analyses.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many clinical trials, especially trials that occur later in a new drug development program, analyses are first conducted on the ITT Population.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analyses are considered to be the primary analyses. </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nt-to-treat analysis provides a conservative strategy.  The ITT study population therefore comprises the ‘purest’ population of subjects in the trial, and therefore the most appropriate population from which to make inferences to larger populations outside the parameters of the specific tria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Analysis populations</a:t>
            </a:r>
            <a:endParaRPr b="0" lang="en-US" sz="2800" spc="-1" strike="noStrike">
              <a:solidFill>
                <a:srgbClr val="333399"/>
              </a:solidFill>
              <a:latin typeface="Tahoma"/>
            </a:endParaRPr>
          </a:p>
        </p:txBody>
      </p:sp>
      <p:sp>
        <p:nvSpPr>
          <p:cNvPr id="166"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sis of the ITT population data may also provide estimates of treatment effects that are more likely to mirror those observed in subsequent clinical practice, i.e., the treatment of patients in real-world settings, should the drug subsequently be approved for marketing.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er-protocol population is comprised of subjects whose participation and involvement in the trial was compliant with all of the requirements and activities detailed in the study protocol.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er-protocol population is a specified sub-set of the ITT population: subjects who are not compliant are excluded from the per-protocol data se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Analysis populations</a:t>
            </a:r>
            <a:endParaRPr b="0" lang="en-US" sz="2800" spc="-1" strike="noStrike">
              <a:solidFill>
                <a:srgbClr val="333399"/>
              </a:solidFill>
              <a:latin typeface="Tahoma"/>
            </a:endParaRPr>
          </a:p>
        </p:txBody>
      </p:sp>
      <p:sp>
        <p:nvSpPr>
          <p:cNvPr id="168"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ontrast to the conservative ITT analysis, analysis of the per-protocol population may maximize the opportunity to demonstrate efficacy: the per-protocol population is the population in which the treatment is likely to perform best. This is why analysis of the per-protocol is considered secondary to the more conservative ITT analysi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picture painted by both the ITT analysis and the per-protocol analysis is similar, overall confidence in the trial results on the part of regulatory reviewers is increased.</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y are not similar, questions may be raised as to why they are not: Were there a lot of major protocol violations?  Were a lot of subjects removed for the same protocol violation? Were there systematic problems in the conduct of the trial?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Missing data</a:t>
            </a:r>
            <a:endParaRPr b="0" lang="en-US" sz="2800" spc="-1" strike="noStrike">
              <a:solidFill>
                <a:srgbClr val="333399"/>
              </a:solidFill>
              <a:latin typeface="Tahoma"/>
            </a:endParaRPr>
          </a:p>
        </p:txBody>
      </p:sp>
      <p:sp>
        <p:nvSpPr>
          <p:cNvPr id="170" name="PlaceHolder 2"/>
          <p:cNvSpPr>
            <a:spLocks noGrp="1"/>
          </p:cNvSpPr>
          <p:nvPr>
            <p:ph/>
          </p:nvPr>
        </p:nvSpPr>
        <p:spPr>
          <a:xfrm>
            <a:off x="1182600" y="1828440"/>
            <a:ext cx="777240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way(s) that missing data are addressed is important from the point of view of full interpretation of the analysis presented. One can:</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regard the observations that contain a missing valu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regard a particular variable if it has a high frequency of missing valu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lace the missing values by some appropriate value.</a:t>
            </a:r>
            <a:endParaRPr b="0" lang="en-US" sz="18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ast of these approaches is called imputation of missing values.  As Piantadosi (2005) commented, while this approach sounds a lot like “making up data,” it may be the most sensible strategy when done properly.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commonly used imputation method is called ‘last observation carried forward’ (LOCF).  In a study with repeated measurements over time, the most recent observation replaces any subsequent missing observation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Superiority trials</a:t>
            </a:r>
            <a:endParaRPr b="0" lang="en-US" sz="2800" spc="-1" strike="noStrike">
              <a:solidFill>
                <a:srgbClr val="333399"/>
              </a:solidFill>
              <a:latin typeface="Tahoma"/>
            </a:endParaRPr>
          </a:p>
        </p:txBody>
      </p:sp>
      <p:sp>
        <p:nvSpPr>
          <p:cNvPr id="172" name="PlaceHolder 2"/>
          <p:cNvSpPr>
            <a:spLocks noGrp="1"/>
          </p:cNvSpPr>
          <p:nvPr>
            <p:ph/>
          </p:nvPr>
        </p:nvSpPr>
        <p:spPr>
          <a:xfrm>
            <a:off x="1182600" y="1905120"/>
            <a:ext cx="77724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l-defined study objectives and endpoints are extremely beneficial in these trial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of the studies that are performed before a therapeutic confirmatory trial is undertaken collect information that facilitates a logical scientific progression from FTIH studies to the point where the therapeutic confirmatory trial is appropriat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very real sense, all previous studies, and hence all of the information gained to date, have had one purpose: to allow the Primary Objective in the therapeutic confirmatory trial to be stated as simply as possi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mple-size Estimation: Useful terms</a:t>
            </a:r>
            <a:endParaRPr b="0" lang="en-US" sz="28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wer, calculated as (1 - </a:t>
            </a:r>
            <a:r>
              <a:rPr b="0" lang="en-US" sz="1800" spc="-1" strike="noStrike">
                <a:solidFill>
                  <a:srgbClr val="000000"/>
                </a:solidFill>
                <a:latin typeface="Symbol"/>
                <a:ea typeface="Symbol"/>
              </a:rPr>
              <a:t></a:t>
            </a:r>
            <a:r>
              <a:rPr b="0" lang="en-US" sz="1800" spc="-1" strike="noStrike">
                <a:solidFill>
                  <a:srgbClr val="000000"/>
                </a:solidFill>
                <a:latin typeface="Tahoma"/>
              </a:rPr>
              <a:t>).  Since the probability represented by </a:t>
            </a:r>
            <a:r>
              <a:rPr b="0" lang="en-US" sz="1800" spc="-1" strike="noStrike">
                <a:solidFill>
                  <a:srgbClr val="000000"/>
                </a:solidFill>
                <a:latin typeface="Symbol"/>
                <a:ea typeface="Symbol"/>
              </a:rPr>
              <a:t></a:t>
            </a:r>
            <a:r>
              <a:rPr b="0" lang="en-US" sz="1800" spc="-1" strike="noStrike">
                <a:solidFill>
                  <a:srgbClr val="000000"/>
                </a:solidFill>
                <a:latin typeface="Tahoma"/>
              </a:rPr>
              <a:t> will be between 0 and 1, power will also be between 0 and 1 since it is defined as (1 - </a:t>
            </a:r>
            <a:r>
              <a:rPr b="0" lang="en-US" sz="1800" spc="-1" strike="noStrike">
                <a:solidFill>
                  <a:srgbClr val="000000"/>
                </a:solidFill>
                <a:latin typeface="Symbol"/>
                <a:ea typeface="Symbol"/>
              </a:rPr>
              <a:t></a:t>
            </a:r>
            <a:r>
              <a:rPr b="0" lang="en-US" sz="1800" spc="-1" strike="noStrike">
                <a:solidFill>
                  <a:srgbClr val="000000"/>
                </a:solidFill>
                <a:latin typeface="Tahoma"/>
              </a:rPr>
              <a:t>).  In the context of developing a new antihypertensive, the power of a trial describes its ability to find a difference between treatment groups when such a difference actually exists.  The power of a statistical test is the probability that the null hypothesis is rejected when it is indeed fals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estimation of the treatment effect.  This is usually the difference between means or proportions.  In this presentation’s ongoing example involving a new investigative antihypertensive drug, the treatment effect is the difference between the mean drug treatment group SBP response and the mean placebo treatment group SBP respons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How many objectives?</a:t>
            </a:r>
            <a:endParaRPr b="0" lang="en-US" sz="28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context, the word simple is not pejorative.  To the contrary, a primary objective that can be stated simply can be tested simply, i.e., in a straightforward and unambiguous manner.  This is a highly desirable attribute in a primary objectiv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umber of objectives that should be incorporated in any clinical trial is often a topic of considerable debate among study teams.  This author’s view is to limit the number to one or possibly two.</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Machin and Campbell (2005) commented, “If there are too many endpoints defined, the multiplicity of comparisons then made at the analysis stage may result in spurious statistical significanc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Analysis of covariance</a:t>
            </a:r>
            <a:endParaRPr b="0" lang="en-US" sz="28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the process of randomization is very efficient in distributing random sources of variation among treatment groups, it is certainly possible (and indeed likely) that the drug treatment group and the control treatment group will differ to some extent in some way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tatistical technique called analysis of covariance (ANCOVA) permits differences in other important variables to be taken into account in the statistical analyses by incorporating their values as well as subjects’ responses to the treatment they receiv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me ANCOVA indicates that covariates are taken into account in the analysis.  A covariate is a variable other than the main variable of interes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Analysis of covariance</a:t>
            </a:r>
            <a:endParaRPr b="0" lang="en-US" sz="28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case examining decreases in SBP, subjects’ baseline SBP readings are likely to be of considerable interest.  The technique of ANCOVA can be used to control statistically for baseline differences, and to prevent them from skewing the results for the treatment effect.</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sis of covariance facilitates the following:</a:t>
            </a:r>
            <a:endParaRPr b="0" lang="en-US" sz="2000" spc="-1" strike="noStrike">
              <a:solidFill>
                <a:srgbClr val="000000"/>
              </a:solidFill>
              <a:latin typeface="Tahoma"/>
            </a:endParaRPr>
          </a:p>
          <a:p>
            <a:pPr lvl="1" marL="727920" indent="-280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takes into account chance imbalances that have occurred in a variable despite randomization.</a:t>
            </a:r>
            <a:endParaRPr b="0" lang="en-US" sz="1800" spc="-1" strike="noStrike">
              <a:solidFill>
                <a:srgbClr val="000000"/>
              </a:solidFill>
              <a:latin typeface="Tahoma"/>
            </a:endParaRPr>
          </a:p>
          <a:p>
            <a:pPr lvl="1" marL="727920" indent="-280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gives a more precise estimate of the treatment effect, because some of the variation in the outcome can be ascribed to concomitant variation in the covariate.  This allows this variation to be removed from the total error variation against which the effect variation is compared.  This means that the denominator in the effect variance/error variance ratio is smaller, making the test statistic calculated of larger magnitud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Subgroup analysis</a:t>
            </a:r>
            <a:endParaRPr b="0" lang="en-US" sz="2800" spc="-1" strike="noStrike">
              <a:solidFill>
                <a:srgbClr val="333399"/>
              </a:solidFill>
              <a:latin typeface="Tahoma"/>
            </a:endParaRPr>
          </a:p>
        </p:txBody>
      </p:sp>
      <p:sp>
        <p:nvSpPr>
          <p:cNvPr id="180" name="PlaceHolder 2"/>
          <p:cNvSpPr>
            <a:spLocks noGrp="1"/>
          </p:cNvSpPr>
          <p:nvPr>
            <p:ph/>
          </p:nvPr>
        </p:nvSpPr>
        <p:spPr>
          <a:xfrm>
            <a:off x="1182600" y="1905120"/>
            <a:ext cx="77724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ponse of well-defined subgroups of patients to a therapeutic drug is a topic of legitimate medical interes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ay well be biologically plausible that certain well-defined subgroups would respond differently than other well-defined subgroups, meaning that efficacy and/or safety concerns may be quite differen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 it is clinically important to address this ques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a strong note of caution is warranted.  There can also be temptation to look for any subgroup differences that may exist in a data set, and to be overly enthusiastic about any difference that may surface. This is of particular concern when the overall analysis did not reveal a statistically significant difference between the treatment subgroup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Subgroup analysis</a:t>
            </a:r>
            <a:endParaRPr b="0" lang="en-US" sz="28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n that the subjects in virtually any clinical trial will exhibit many features that could be used to define subgroups, why and how were the ones of interest selected in a given study?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thews (2006) distinguished between two sorts of subgroup formation, and hence analysis:</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mited number of subgroups identified </a:t>
            </a:r>
            <a:r>
              <a:rPr b="0" i="1" lang="en-US" sz="1800" spc="-1" strike="noStrike">
                <a:solidFill>
                  <a:srgbClr val="000000"/>
                </a:solidFill>
                <a:latin typeface="Tahoma"/>
              </a:rPr>
              <a:t>a priori</a:t>
            </a:r>
            <a:r>
              <a:rPr b="0" lang="en-US" sz="1800" spc="-1" strike="noStrike">
                <a:solidFill>
                  <a:srgbClr val="000000"/>
                </a:solidFill>
                <a:latin typeface="Tahoma"/>
              </a:rPr>
              <a:t> with an apparent biological/clinical reason for the difference of interest:</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bgroups whose apparent importance is </a:t>
            </a:r>
            <a:r>
              <a:rPr b="0" i="1" lang="en-US" sz="1800" spc="-1" strike="noStrike">
                <a:solidFill>
                  <a:srgbClr val="000000"/>
                </a:solidFill>
                <a:latin typeface="Tahoma"/>
              </a:rPr>
              <a:t>post hoc</a:t>
            </a:r>
            <a:r>
              <a:rPr b="0" lang="en-US" sz="1800" spc="-1" strike="noStrike">
                <a:solidFill>
                  <a:srgbClr val="000000"/>
                </a:solidFill>
                <a:latin typeface="Tahoma"/>
              </a:rPr>
              <a:t>, and arises only as a result of doing analyses.</a:t>
            </a:r>
            <a:endParaRPr b="0" lang="en-US" sz="1800" spc="-1" strike="noStrike">
              <a:solidFill>
                <a:srgbClr val="000000"/>
              </a:solidFill>
              <a:latin typeface="Tahoma"/>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treatment effect appears to differ across subgroups identified in the first way, the phenomenon “should be taken much more seriously” that if the subgroup differences came to light via the second process (Matthews, 2006).</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Equivalence trials</a:t>
            </a:r>
            <a:endParaRPr b="0" lang="en-US" sz="28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goal of equivalence trials is to demonstrate that the test drug and an active comparator drug are ‘equivalent.’  </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stically, equivalence means that in the best case scenario the test treatment is trivially better than the reference treatment, and in the worst case scenario it is tolerably worse.</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re is already an approved treatment for a disease or condition, a question arises: Why would a new drug that is of ‘equivalent efficacy’ be of interest to clinicians who may prescribe it for their patients? There need to be other benefits to patients for this to occur, e.g.:</a:t>
            </a:r>
            <a:endParaRPr b="0" lang="en-US" sz="2000" spc="-1" strike="noStrike">
              <a:solidFill>
                <a:srgbClr val="000000"/>
              </a:solidFill>
              <a:latin typeface="Tahoma"/>
            </a:endParaRPr>
          </a:p>
          <a:p>
            <a:pPr lvl="1" marL="720720" indent="-27720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ower incidence of side effects</a:t>
            </a:r>
            <a:endParaRPr b="0" lang="en-US" sz="1800" spc="-1" strike="noStrike">
              <a:solidFill>
                <a:srgbClr val="000000"/>
              </a:solidFill>
              <a:latin typeface="Tahoma"/>
            </a:endParaRPr>
          </a:p>
          <a:p>
            <a:pPr lvl="1" marL="720720" indent="-27720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eater dosing convenience, e.g., taking a tablet one a week instead of once a day.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Equivalence trials</a:t>
            </a:r>
            <a:endParaRPr b="0" lang="en-US" sz="28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ypothesis testing is also used in equivalence trials, but it takes a different form than in superiority trials.</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CH Guidance E9 states:</a:t>
            </a:r>
            <a:endParaRPr b="0" lang="en-US" sz="2000" spc="-1" strike="noStrike">
              <a:solidFill>
                <a:srgbClr val="000000"/>
              </a:solidFill>
              <a:latin typeface="Tahoma"/>
            </a:endParaRPr>
          </a:p>
          <a:p>
            <a:pPr lvl="1" marL="705600" indent="-2714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cluding equivalence…based on observing a nonsignificant test result of the null hypothesis that there is no difference between the investigational product and the active comparator is inappropriate.”</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ther words, obtaining a nonsignificant </a:t>
            </a:r>
            <a:r>
              <a:rPr b="0" i="1" lang="en-US" sz="2000" spc="-1" strike="noStrike">
                <a:solidFill>
                  <a:srgbClr val="000000"/>
                </a:solidFill>
                <a:latin typeface="Tahoma"/>
              </a:rPr>
              <a:t>p</a:t>
            </a:r>
            <a:r>
              <a:rPr b="0" lang="en-US" sz="2000" spc="-1" strike="noStrike">
                <a:solidFill>
                  <a:srgbClr val="000000"/>
                </a:solidFill>
                <a:latin typeface="Tahoma"/>
              </a:rPr>
              <a:t>-value in a superiority trial does not demonstrate that the two treatments are the same. This point is often misunderstood, and is emphasized here. </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 conventional</a:t>
            </a:r>
            <a:r>
              <a:rPr b="0" i="1" lang="en-US" sz="2000" spc="-1" strike="noStrike">
                <a:solidFill>
                  <a:srgbClr val="000000"/>
                </a:solidFill>
                <a:latin typeface="Tahoma"/>
              </a:rPr>
              <a:t> p</a:t>
            </a:r>
            <a:r>
              <a:rPr b="0" lang="en-US" sz="2000" spc="-1" strike="noStrike">
                <a:solidFill>
                  <a:srgbClr val="000000"/>
                </a:solidFill>
                <a:latin typeface="Tahoma"/>
              </a:rPr>
              <a:t>-values have no role in establishing equivalence.  Instead, confidence intervals are utiliz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Equivalence trials</a:t>
            </a:r>
            <a:endParaRPr b="0" lang="en-US" sz="2800" spc="-1" strike="noStrike">
              <a:solidFill>
                <a:srgbClr val="333399"/>
              </a:solidFill>
              <a:latin typeface="Tahoma"/>
            </a:endParaRPr>
          </a:p>
        </p:txBody>
      </p:sp>
      <p:sp>
        <p:nvSpPr>
          <p:cNvPr id="188"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case, the research hypothesis and null hypothesis are: </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earch hypothesis: the two drugs are equivalent.</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ll hypothesis: the two drugs are not equivalent.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type of trial, the first step is to establish an equivalence margin.  Put another way, the study team has to choose the amount that they will define as clinically unimportant in the context of that trial.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hoice may or not be “right,” whatever right is, but it must be made in order for an equivalence trial to be conducted, and it must be made before the trial data are collected and specified in the study protocol.  The trial is then conducted in the usual manne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Equivalence trials</a:t>
            </a:r>
            <a:endParaRPr b="0" lang="en-US" sz="2800" spc="-1" strike="noStrike">
              <a:solidFill>
                <a:srgbClr val="333399"/>
              </a:solidFill>
              <a:latin typeface="Tahom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an equivalence trial to be conducted with the aim of demonstrating that a new drug represented by “N,” is similar (“equivalent”) to an active control agent or reference drug, represented by “R.”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imary goal of the trial is to demonstrate that the responses to N and R differ by an amount that is clinically unimportan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sis focuses on both safety and efficacy data.  Consider the efficacy analysis firs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Equivalence trials</a:t>
            </a:r>
            <a:endParaRPr b="0" lang="en-US" sz="2800" spc="-1" strike="noStrike">
              <a:solidFill>
                <a:srgbClr val="333399"/>
              </a:solidFill>
              <a:latin typeface="Tahoma"/>
            </a:endParaRPr>
          </a:p>
        </p:txBody>
      </p:sp>
      <p:sp>
        <p:nvSpPr>
          <p:cNvPr id="192" name="PlaceHolder 2"/>
          <p:cNvSpPr>
            <a:spLocks noGrp="1"/>
          </p:cNvSpPr>
          <p:nvPr>
            <p:ph/>
          </p:nvPr>
        </p:nvSpPr>
        <p:spPr>
          <a:xfrm>
            <a:off x="1182600" y="1599840"/>
            <a:ext cx="7772400" cy="480060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reatment effect is calculated as in superiority trials, but attention then moves directly to the calculation of the 95% CI for this effect.</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cations of the lower and the upper limit of the 95% CI determine whether or not the null hypothesis is rejected.  </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both the lower limit and the upper limit lie within the equivalence margin, we reject the null hypothesis and the new drug and the reference drug are declared to be equivalent.  </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either the lower limit or the upper limit lies outside the equivalence margin, or if both limits lie outside, we fail to reject the null hypothesis, and the drugs are not declared to be equivalent. </a:t>
            </a:r>
            <a:endParaRPr b="0" lang="en-US" sz="20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mple-size Estimation: Useful terms</a:t>
            </a:r>
            <a:endParaRPr b="0" lang="en-US" sz="2800" spc="-1" strike="noStrike">
              <a:solidFill>
                <a:srgbClr val="333399"/>
              </a:solidFill>
              <a:latin typeface="Tahoma"/>
            </a:endParaRPr>
          </a:p>
        </p:txBody>
      </p:sp>
      <p:sp>
        <p:nvSpPr>
          <p:cNvPr id="104" name="PlaceHolder 2"/>
          <p:cNvSpPr>
            <a:spLocks noGrp="1"/>
          </p:cNvSpPr>
          <p:nvPr>
            <p:ph/>
          </p:nvPr>
        </p:nvSpPr>
        <p:spPr>
          <a:xfrm>
            <a:off x="1182600" y="1904760"/>
            <a:ext cx="7772400" cy="4227480"/>
          </a:xfrm>
          <a:prstGeom prst="rect">
            <a:avLst/>
          </a:prstGeom>
          <a:noFill/>
          <a:ln w="0">
            <a:noFill/>
          </a:ln>
        </p:spPr>
        <p:txBody>
          <a:bodyPr lIns="90000" rIns="90000" tIns="46800" bIns="46800" anchor="t">
            <a:normAutofit/>
          </a:bodyPr>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estimation of the variance in the treatment effect (the standard deviation is typically used her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tandardized treatment effect, calculated by dividing the estimated treatment effect by its estimated standard deviation. </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stimation of a sample size, </a:t>
            </a:r>
            <a:r>
              <a:rPr b="0" i="1" lang="en-US" sz="2000" spc="-1" strike="noStrike">
                <a:solidFill>
                  <a:srgbClr val="000000"/>
                </a:solidFill>
                <a:latin typeface="Tahoma"/>
              </a:rPr>
              <a:t>N</a:t>
            </a:r>
            <a:r>
              <a:rPr b="0" lang="en-US" sz="2000" spc="-1" strike="noStrike">
                <a:solidFill>
                  <a:srgbClr val="000000"/>
                </a:solidFill>
                <a:latin typeface="Tahoma"/>
              </a:rPr>
              <a:t>, requires several variables to be chosen.  In each case the following need to be selected: </a:t>
            </a:r>
            <a:endParaRPr b="0" lang="en-US" sz="20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stimated treatment effec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stimated SD for the treatment effect</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values for the last two of these chosen items, the standardized treatment effect can be calculated. </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Equivalence trials</a:t>
            </a:r>
            <a:endParaRPr b="0" lang="en-US" sz="28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next that the new drug N displays superior safety.  It is then possible (likely) that this drug would be chosen over the existing (reference) drug R in clinical practice because it has been declared to have equivalent efficacy and, importantly, it has a better safety profil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oice of the equivalence margins, which must be made before the trial is conducted, is a clinical judgment.  Once the data have been collected, a statistical technique is used to determine if the drugs are to be deemed equivalen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a powerful example of how statistical considerations and clinical considerations work together in the clinical trial arena.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Noninferiority trials</a:t>
            </a:r>
            <a:endParaRPr b="0" lang="en-US" sz="28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inferiority trials are very similar to equivalence trials in the manner of their statistical approach.</a:t>
            </a:r>
            <a:endParaRPr b="0" lang="en-US" sz="2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equivalence trials, a new drug (N) may be of interest even though an improvement in efficacy is not anticipated, since is has fewer side effects than an existing (reference) drug (R).  </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case of noninferiority we are prepared to go one step further.  If the side effect profile of the new drug N is dramatically better than that of the existing drug R we may be prepared to accept slightly reduced, but noninferior efficacy. </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in equivalence trials, a statistical definition—here for noninferiority—is needed.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Noninferiority trials</a:t>
            </a:r>
            <a:endParaRPr b="0" lang="en-US" sz="2800" spc="-1" strike="noStrike">
              <a:solidFill>
                <a:srgbClr val="333399"/>
              </a:solidFill>
              <a:latin typeface="Tahoma"/>
            </a:endParaRPr>
          </a:p>
        </p:txBody>
      </p:sp>
      <p:sp>
        <p:nvSpPr>
          <p:cNvPr id="198"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requires the determination of a noninferiority margi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question here is: Given a much better safety profile, what decrease in mean efficiency would we accep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a clinical question, not a statistical question.  The study team must choose this value.  This choice may or not be “right,” whatever right is, but it must be made in order for a noninferiority trial to be conducted.  As for the equivalence margin in equivalence trials, this decision must be part of the study design.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lowing the study, the treatment effect is calculated, as in superiority trials and equivalence trials, as the difference between the treatment group mean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Noninferiority trials</a:t>
            </a:r>
            <a:endParaRPr b="0" lang="en-US" sz="2800" spc="-1" strike="noStrike">
              <a:solidFill>
                <a:srgbClr val="333399"/>
              </a:solidFill>
              <a:latin typeface="Tahoma"/>
            </a:endParaRPr>
          </a:p>
        </p:txBody>
      </p:sp>
      <p:sp>
        <p:nvSpPr>
          <p:cNvPr id="2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study design the hypotheses are:</a:t>
            </a:r>
            <a:endParaRPr b="0" lang="en-US" sz="2000" spc="-1" strike="noStrike">
              <a:solidFill>
                <a:srgbClr val="000000"/>
              </a:solidFill>
              <a:latin typeface="Tahoma"/>
            </a:endParaRPr>
          </a:p>
          <a:p>
            <a:pPr lvl="1" marL="713160" indent="-27432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earch hypothesis: the test drug is noninferior compared with the reference drug. </a:t>
            </a:r>
            <a:endParaRPr b="0" lang="en-US" sz="1800" spc="-1" strike="noStrike">
              <a:solidFill>
                <a:srgbClr val="000000"/>
              </a:solidFill>
              <a:latin typeface="Tahoma"/>
            </a:endParaRPr>
          </a:p>
          <a:p>
            <a:pPr lvl="1" marL="713160" indent="-27432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ll hypothesis: the test drug is not noninferior compared with the reference drug. </a:t>
            </a:r>
            <a:endParaRPr b="0" lang="en-US" sz="1800" spc="-1" strike="noStrike">
              <a:solidFill>
                <a:srgbClr val="000000"/>
              </a:solidFill>
              <a:latin typeface="Tahoma"/>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for equivalence trials, </a:t>
            </a:r>
            <a:r>
              <a:rPr b="0" i="1" lang="en-US" sz="2000" spc="-1" strike="noStrike">
                <a:solidFill>
                  <a:srgbClr val="000000"/>
                </a:solidFill>
                <a:latin typeface="Tahoma"/>
              </a:rPr>
              <a:t>p</a:t>
            </a:r>
            <a:r>
              <a:rPr b="0" lang="en-US" sz="2000" spc="-1" strike="noStrike">
                <a:solidFill>
                  <a:srgbClr val="000000"/>
                </a:solidFill>
                <a:latin typeface="Tahoma"/>
              </a:rPr>
              <a:t>-values are not used in noninferiority trials: Attention moves straight to confidence intervals. </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CH E9 states the following: </a:t>
            </a:r>
            <a:endParaRPr b="0" lang="en-US" sz="2000" spc="-1" strike="noStrike">
              <a:solidFill>
                <a:srgbClr val="000000"/>
              </a:solidFill>
              <a:latin typeface="Tahoma"/>
            </a:endParaRPr>
          </a:p>
          <a:p>
            <a:pPr lvl="1" marL="713160" indent="-27432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noninferiority, a one-sided confidence interval should be used. </a:t>
            </a:r>
            <a:endParaRPr b="0" lang="en-US" sz="1800" spc="-1" strike="noStrike">
              <a:solidFill>
                <a:srgbClr val="000000"/>
              </a:solidFill>
              <a:latin typeface="Tahoma"/>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erm one-sided confidence interval arises since attention only needs to be paid to one limit, the lower end, of the 95% CI to investigate noninferiority.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Noninferiority trials</a:t>
            </a:r>
            <a:endParaRPr b="0" lang="en-US" sz="2800" spc="-1" strike="noStrike">
              <a:solidFill>
                <a:srgbClr val="333399"/>
              </a:solidFill>
              <a:latin typeface="Tahoma"/>
            </a:endParaRPr>
          </a:p>
        </p:txBody>
      </p:sp>
      <p:sp>
        <p:nvSpPr>
          <p:cNvPr id="202" name="PlaceHolder 2"/>
          <p:cNvSpPr>
            <a:spLocks noGrp="1"/>
          </p:cNvSpPr>
          <p:nvPr>
            <p:ph/>
          </p:nvPr>
        </p:nvSpPr>
        <p:spPr>
          <a:xfrm>
            <a:off x="1182600" y="2286000"/>
            <a:ext cx="7772400" cy="32767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cation of the lower limit of the 95% CI for the treatment effect determines whether or not the null hypothesis is rejected.</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lower limit falls to the right of the noninferiority margin, we reject the null hypothesis and the new drug N is declared to be noninferior.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lower limit falls to the left of the noninferiority margin, we fail to reject the null hypothesis, and the new drug is not declared to be noninferio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14200"/>
            <a:ext cx="8229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0" lang="en-US" sz="2800" spc="-1" strike="noStrike">
                <a:solidFill>
                  <a:srgbClr val="333399"/>
                </a:solidFill>
                <a:latin typeface="Tahoma"/>
              </a:rPr>
              <a:t>Efficacy Assessment: Group sequential designs</a:t>
            </a:r>
            <a:endParaRPr b="0" lang="en-US" sz="28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nical trials, with almost no exception, are longitudinal (Chow and Liu, 2004).  This means that data are accumulated sequentially over tim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perspective outlined in this presentation so far, the statistical analysis takes place once the number of subjects stated in the study protocol have been enrolled, randomized, and completed their participation in the trial.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pproach can be called the fixed design or fixed sample design approach.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other design of interest in clinical trials is the group sequential desig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Group sequential designs</a:t>
            </a:r>
            <a:endParaRPr b="0" lang="en-US" sz="2800" spc="-1" strike="noStrike">
              <a:solidFill>
                <a:srgbClr val="333399"/>
              </a:solidFill>
              <a:latin typeface="Tahoma"/>
            </a:endParaRPr>
          </a:p>
        </p:txBody>
      </p:sp>
      <p:sp>
        <p:nvSpPr>
          <p:cNvPr id="206" name="PlaceHolder 2"/>
          <p:cNvSpPr>
            <a:spLocks noGrp="1"/>
          </p:cNvSpPr>
          <p:nvPr>
            <p:ph/>
          </p:nvPr>
        </p:nvSpPr>
        <p:spPr>
          <a:xfrm>
            <a:off x="1182600" y="1828800"/>
            <a:ext cx="7772400" cy="46483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im analyses are a critical component of group sequential design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ral interim analyses may be performed at during an ongoing clinical trial at various pre-identified point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interim analysis conducted utilizes all of the data that have been collected to dat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ationale for this approach is that this strategy may reveal compelling evidence that the clinical trial should be stopped at the time of a particular interim analysis because there is already compelling evidence that the drug is effective, or that it is toxic.  This particular interim analysis could be conducted some considerable time before the trial would have otherwise been completed.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Group sequential designs</a:t>
            </a:r>
            <a:endParaRPr b="0" lang="en-US" sz="2800" spc="-1" strike="noStrike">
              <a:solidFill>
                <a:srgbClr val="333399"/>
              </a:solidFill>
              <a:latin typeface="Tahoma"/>
            </a:endParaRPr>
          </a:p>
        </p:txBody>
      </p:sp>
      <p:sp>
        <p:nvSpPr>
          <p:cNvPr id="208"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urpose of interim analyses in group sequential trials, then, is to determine if the clinical trial should be terminated at that poin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reason for the early termination of a clinical trial would be that the interim analysis provided compelling evidence that the drug under investigation was effectiv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an ethical standpoint, this would mean that, if the trial were continued, the subjects in the placebo treatment group would be receiving a placebo for no justifiable reason.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econd reason for early termination would be compelling evidence that the trial will not be able to achieve its intended purpose even if it carries on to its planned maximum number of subject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Group sequential designs</a:t>
            </a:r>
            <a:endParaRPr b="0" lang="en-US" sz="2800" spc="-1" strike="noStrike">
              <a:solidFill>
                <a:srgbClr val="333399"/>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third reason for early termination would be that the interim analysis provided compelling evidence that the drug under investigation was harmful.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facilitate interim analyses, a data monitoring process is necessary.  This is typically performed by a data monitoring committee (DMC) or similar committee with another nam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duct of interim monitoring is critical to the ethics, efficiency, integrity, and credibility of the trials and their conclusions, and increasingly such monitoring is conducted by formally established committees.  The purpose of these committees is “to protect the safety of subjects, the credibility of the study, and the validity of the results” (Ellenberg et al, 2003).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Group sequential designs</a:t>
            </a:r>
            <a:endParaRPr b="0" lang="en-US" sz="28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stical methods have been developed for interim analysi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dependent stopping rules are established for each trial, stating under what circumstances the results of interim analyses will lead to the early termination of a clinical trial.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dependent stopping is the process of evaluating accumulating data in a clinical trial and making a decision whether the trial should be continued or should be stopped because the available evidence is already convincing (Piantadosi, 2005).</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mple-size Estimation: Selecting </a:t>
            </a:r>
            <a:r>
              <a:rPr b="0" lang="en-US" sz="2800" spc="-1" strike="noStrike">
                <a:solidFill>
                  <a:srgbClr val="333399"/>
                </a:solidFill>
                <a:latin typeface="Symbol"/>
                <a:ea typeface="Symbol"/>
              </a:rPr>
              <a:t></a:t>
            </a:r>
            <a:endParaRPr b="0" lang="en-US" sz="2800" spc="-1" strike="noStrike">
              <a:solidFill>
                <a:srgbClr val="333399"/>
              </a:solidFill>
              <a:latin typeface="Tahoma"/>
            </a:endParaRPr>
          </a:p>
        </p:txBody>
      </p:sp>
      <p:sp>
        <p:nvSpPr>
          <p:cNvPr id="106" name="PlaceHolder 2"/>
          <p:cNvSpPr>
            <a:spLocks noGrp="1"/>
          </p:cNvSpPr>
          <p:nvPr>
            <p:ph/>
          </p:nvPr>
        </p:nvSpPr>
        <p:spPr>
          <a:xfrm>
            <a:off x="1182600" y="2017440"/>
            <a:ext cx="7772400" cy="40021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ing the significance level (or </a:t>
            </a:r>
            <a:r>
              <a:rPr b="0" lang="en-US" sz="2000" spc="-1" strike="noStrike">
                <a:solidFill>
                  <a:srgbClr val="000000"/>
                </a:solidFill>
                <a:latin typeface="Symbol"/>
                <a:ea typeface="Symbol"/>
              </a:rPr>
              <a:t></a:t>
            </a:r>
            <a:r>
              <a:rPr b="0" lang="en-US" sz="2000" spc="-1" strike="noStrike">
                <a:solidFill>
                  <a:srgbClr val="000000"/>
                </a:solidFill>
                <a:latin typeface="Tahoma"/>
              </a:rPr>
              <a:t>-level), </a:t>
            </a:r>
            <a:r>
              <a:rPr b="0" lang="en-US" sz="2000" spc="-1" strike="noStrike">
                <a:solidFill>
                  <a:srgbClr val="000000"/>
                </a:solidFill>
                <a:latin typeface="Symbol"/>
                <a:ea typeface="Symbol"/>
              </a:rPr>
              <a:t></a:t>
            </a:r>
            <a:r>
              <a:rPr b="0" lang="en-US" sz="2000" spc="-1" strike="noStrike">
                <a:solidFill>
                  <a:srgbClr val="000000"/>
                </a:solidFill>
                <a:latin typeface="Tahoma"/>
              </a:rPr>
              <a:t>, and </a:t>
            </a:r>
            <a:r>
              <a:rPr b="0" lang="en-US" sz="2000" spc="-1" strike="noStrike">
                <a:solidFill>
                  <a:srgbClr val="000000"/>
                </a:solidFill>
                <a:latin typeface="Symbol"/>
                <a:ea typeface="Symbol"/>
              </a:rPr>
              <a:t></a:t>
            </a:r>
            <a:r>
              <a:rPr b="0" lang="en-US" sz="2000" spc="-1" strike="noStrike">
                <a:solidFill>
                  <a:srgbClr val="000000"/>
                </a:solidFill>
                <a:latin typeface="Tahoma"/>
              </a:rPr>
              <a:t> (for use in calculating power) is relatively straightforward.</a:t>
            </a:r>
            <a:r>
              <a:rPr b="0" lang="en-US" sz="2400" spc="-1" strike="noStrike">
                <a:solidFill>
                  <a:srgbClr val="000000"/>
                </a:solidFill>
                <a:latin typeface="Tahoma"/>
              </a:rPr>
              <a:t> </a:t>
            </a:r>
            <a:r>
              <a:rPr b="0" lang="en-US" sz="2000" spc="-1" strike="noStrike">
                <a:solidFill>
                  <a:srgbClr val="000000"/>
                </a:solidFill>
                <a:latin typeface="Tahoma"/>
              </a:rPr>
              <a:t>First, consider the</a:t>
            </a:r>
            <a:r>
              <a:rPr b="0" lang="en-US" sz="24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level:</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lang="en-US" sz="1800" spc="-1" strike="noStrike">
                <a:solidFill>
                  <a:srgbClr val="000000"/>
                </a:solidFill>
                <a:latin typeface="Symbol"/>
                <a:ea typeface="Symbol"/>
              </a:rPr>
              <a:t></a:t>
            </a:r>
            <a:r>
              <a:rPr b="0" lang="en-US" sz="1800" spc="-1" strike="noStrike">
                <a:solidFill>
                  <a:srgbClr val="000000"/>
                </a:solidFill>
                <a:latin typeface="Tahoma"/>
              </a:rPr>
              <a:t>-level is usually set at (chosen to be) 0.05.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oosing </a:t>
            </a:r>
            <a:r>
              <a:rPr b="0" lang="en-US" sz="1800" spc="-1" strike="noStrike">
                <a:solidFill>
                  <a:srgbClr val="000000"/>
                </a:solidFill>
                <a:latin typeface="Symbol"/>
                <a:ea typeface="Symbol"/>
              </a:rPr>
              <a:t></a:t>
            </a:r>
            <a:r>
              <a:rPr b="0" lang="en-US" sz="1800" spc="-1" strike="noStrike">
                <a:solidFill>
                  <a:srgbClr val="000000"/>
                </a:solidFill>
                <a:latin typeface="Tahoma"/>
              </a:rPr>
              <a:t> = 0.05 means that on 95% of occasions the null hypothesis will be rejected correctly.  That is, the researcher is willing to accept a 5% chance that a positive finding will result by chance alone.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nerally, regulatory agencies are concerned about Type I (false-positive) errors: they do not want to grant marketing approval on the basis of erroneously favorable data.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occurrence is made acceptably low by typically choosing        </a:t>
            </a:r>
            <a:r>
              <a:rPr b="0" lang="en-US" sz="1800" spc="-1" strike="noStrike">
                <a:solidFill>
                  <a:srgbClr val="000000"/>
                </a:solidFill>
                <a:latin typeface="Symbol"/>
                <a:ea typeface="Symbol"/>
              </a:rPr>
              <a:t></a:t>
            </a:r>
            <a:r>
              <a:rPr b="0" lang="en-US" sz="1800" spc="-1" strike="noStrike">
                <a:solidFill>
                  <a:srgbClr val="000000"/>
                </a:solidFill>
                <a:latin typeface="Tahoma"/>
              </a:rPr>
              <a:t> = 0.05, and sometimes choosing </a:t>
            </a:r>
            <a:r>
              <a:rPr b="0" lang="en-US" sz="1800" spc="-1" strike="noStrike">
                <a:solidFill>
                  <a:srgbClr val="000000"/>
                </a:solidFill>
                <a:latin typeface="Symbol"/>
                <a:ea typeface="Symbol"/>
              </a:rPr>
              <a:t></a:t>
            </a:r>
            <a:r>
              <a:rPr b="0" lang="en-US" sz="1800" spc="-1" strike="noStrike">
                <a:solidFill>
                  <a:srgbClr val="000000"/>
                </a:solidFill>
                <a:latin typeface="Tahoma"/>
              </a:rPr>
              <a:t> = 0.01 to be really conservativ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Group sequential designs</a:t>
            </a:r>
            <a:endParaRPr b="0" lang="en-US" sz="2800" spc="-1" strike="noStrike">
              <a:solidFill>
                <a:srgbClr val="333399"/>
              </a:solidFill>
              <a:latin typeface="Tahoma"/>
            </a:endParaRPr>
          </a:p>
        </p:txBody>
      </p:sp>
      <p:sp>
        <p:nvSpPr>
          <p:cNvPr id="214"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data-dependent stopping rules, along with the number and the timing of planned interim analyses, should be stated in the study protocol and the statistical procedures to analyze the data at each time point should be specified in the associated statistical analysis plan.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time an interim analysis is conducted there will be more data available, since all data collected up to that time point are included in the analysi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pproach therefore contrasts with the fixed design in which only one analysis is conducted.</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act that more than one analysis may be conducted also raises issues surrounding multiple comparison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Group sequential designs</a:t>
            </a:r>
            <a:endParaRPr b="0" lang="en-US" sz="2800" spc="-1" strike="noStrike">
              <a:solidFill>
                <a:srgbClr val="333399"/>
              </a:solidFill>
              <a:latin typeface="Tahoma"/>
            </a:endParaRPr>
          </a:p>
        </p:txBody>
      </p:sp>
      <p:sp>
        <p:nvSpPr>
          <p:cNvPr id="216"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asic logic behind the need to take care when conducting multiple comparisons in this situation is the same as in other cases we have seen where such care is needed.</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ly here, each analysis conducted will be performed using progressively larger sample sizes.  This influences the manner in which multiplicity is addressed.</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common approaches here are the O’Brien-Fleming approach and employing group sequential alpha spending function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viduals interested in reading the details of these approaches are referred to the presentation’s accompanying book (Section 11.8.3.1/2).</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Adaptive designs</a:t>
            </a:r>
            <a:endParaRPr b="0" lang="en-US" sz="2800" spc="-1" strike="noStrike">
              <a:solidFill>
                <a:srgbClr val="333399"/>
              </a:solidFill>
              <a:latin typeface="Tahoma"/>
            </a:endParaRPr>
          </a:p>
        </p:txBody>
      </p:sp>
      <p:sp>
        <p:nvSpPr>
          <p:cNvPr id="218"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group sequential study design just discussed the results of an interim analysis permit the choice of one of two options based on the stopping criteria that have been previously stated in the study protocol:</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rminate the trial.</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inue the trial.</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daptive designs, the results of interim analyses are being used as the basis for other actions, such as changing the endpoints of interest, eliminating certain treatment groups, changing the sample size, or modifying the statistical analysis pla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pproach can improve expected trial outcomes during the experiment, reaching good statistical decisions in a timely fashion while still being able to carry out GC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Adaptive designs</a:t>
            </a:r>
            <a:endParaRPr b="0" lang="en-US" sz="2800" spc="-1" strike="noStrike">
              <a:solidFill>
                <a:srgbClr val="333399"/>
              </a:solidFill>
              <a:latin typeface="Tahoma"/>
            </a:endParaRPr>
          </a:p>
        </p:txBody>
      </p:sp>
      <p:sp>
        <p:nvSpPr>
          <p:cNvPr id="220"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ne sense, then, the idea of ‘adapting’ the nature of a clinical trial is not new: regulatory submissions have included trials with protocol amendments for many years.  What is relatively new, however, is the recognition that this has indeed been the case (Chow and Chang, 2007).</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inical and statistical implications of such amendments are now receiving considerable interest.  Moreover, more ‘formal’ and more sophisticated adaptive strategies and designs are being discussed.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w and Chang (2007) referred to an adaptive clinical trial design, sometimes called a flexible design, as “a design that allows adaptations or modifications to some aspects (e.g., trial and/or statistical procedures) of the trial after its initiation without undermining the validity and integrity of the trial.”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Adaptive designs</a:t>
            </a:r>
            <a:endParaRPr b="0" lang="en-US" sz="2800" spc="-1" strike="noStrike">
              <a:solidFill>
                <a:srgbClr val="333399"/>
              </a:solidFill>
              <a:latin typeface="Tahoma"/>
            </a:endParaRPr>
          </a:p>
        </p:txBody>
      </p:sp>
      <p:sp>
        <p:nvSpPr>
          <p:cNvPr id="2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is point (early 2007) there is relatively little guidance on adaptive design methodology. As Chow and Chang (2007)  observed:</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aptive design methods are very attractive to clinical researchers and/or sponsors due to their flexibility, especially when there are priority changes for budget/resources and timeline constraints, scientific/statistical justifications for study validity and integrity, medical considerations for safety, regulatory concerns for review/approval, and/or business strategies for go/no-go decisions.  However, there is little or no information available in regulatory requirements as to what level of flexibility in modifications of trial and/or statistical procedures of on-going trials would be acceptable.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viduals are referred to their book for further discuss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Bayesian approache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oughout this presentation the approach taken to hypothesis testing and statistical analysis has been a “frequentist approach.”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erm frequentist reflects its derivation from the definition of probability in terms of frequencies of outcome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this approach is likely the majority approach at this time, it should be noted that it is not the only on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alternative method of statistical inference is the Bayesian approach, named for Thomas Bayes’ work in the area of probability.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Bayesian approache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a clinical trial has been conducted the frequentist approach leads to certain statistical analyses being conducted.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i="1" lang="en-US" sz="2000" spc="-1" strike="noStrike">
                <a:solidFill>
                  <a:srgbClr val="000000"/>
                </a:solidFill>
                <a:latin typeface="Tahoma"/>
              </a:rPr>
              <a:t>p</a:t>
            </a:r>
            <a:r>
              <a:rPr b="0" lang="en-US" sz="2000" spc="-1" strike="noStrike">
                <a:solidFill>
                  <a:srgbClr val="000000"/>
                </a:solidFill>
                <a:latin typeface="Tahoma"/>
              </a:rPr>
              <a:t>-value is calculated, which provides information leading to the rejection of the null hypothesis or the failure to reject the null hypothesis.  Additionally, the analyses lead to an estimate of the treatment effect, and its associated confidence interval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Spiegelhalter et al. (2004) noted, a Bayesian analysis “supplements this by focusing on how the trial should change our opinion about the treatment effec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fficacy Assessment: Bayesian approache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ayesian approach forces the researcher to make certain explicit statements:</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reasonable opinion concerning the plausibility of different values of the treatment effect </a:t>
            </a:r>
            <a:r>
              <a:rPr b="0" i="1" lang="en-US" sz="1800" spc="-1" strike="noStrike">
                <a:solidFill>
                  <a:srgbClr val="000000"/>
                </a:solidFill>
                <a:latin typeface="Tahoma"/>
              </a:rPr>
              <a:t>excluding</a:t>
            </a:r>
            <a:r>
              <a:rPr b="0" lang="en-US" sz="1800" spc="-1" strike="noStrike">
                <a:solidFill>
                  <a:srgbClr val="000000"/>
                </a:solidFill>
                <a:latin typeface="Tahoma"/>
              </a:rPr>
              <a:t> the evidence obtained from the trial in question.  This is known as the ‘prior’ probability distribution.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upport for different values of the treatment effect based </a:t>
            </a:r>
            <a:r>
              <a:rPr b="0" i="1" lang="en-US" sz="1800" spc="-1" strike="noStrike">
                <a:solidFill>
                  <a:srgbClr val="000000"/>
                </a:solidFill>
                <a:latin typeface="Tahoma"/>
              </a:rPr>
              <a:t>solely</a:t>
            </a:r>
            <a:r>
              <a:rPr b="0" lang="en-US" sz="1800" spc="-1" strike="noStrike">
                <a:solidFill>
                  <a:srgbClr val="000000"/>
                </a:solidFill>
                <a:latin typeface="Tahoma"/>
              </a:rPr>
              <a:t> on data from the trial.  This is known as the ‘likelihood.’</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inal opinion about the treatment effect. This opinion is the result of combining the previous two sources, and it is known as the ‘posterior’ probability distribution.</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nal combination represented in the third statement is performed using Bayes theorem, which “essentially weights the likelihood from the trial with the relative plausibilities defined by the prior distribution” (Spiegelhalter et al., 2004).</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mple-size Estimation: Selecting </a:t>
            </a:r>
            <a:r>
              <a:rPr b="0" lang="en-US" sz="2800" spc="-1" strike="noStrike">
                <a:solidFill>
                  <a:srgbClr val="333399"/>
                </a:solidFill>
                <a:latin typeface="Symbol"/>
                <a:ea typeface="Symbol"/>
              </a:rPr>
              <a:t></a:t>
            </a:r>
            <a:r>
              <a:rPr b="0" lang="en-US" sz="2800" spc="-1" strike="noStrike">
                <a:solidFill>
                  <a:srgbClr val="333399"/>
                </a:solidFill>
                <a:latin typeface="Tahoma"/>
              </a:rPr>
              <a:t> </a:t>
            </a:r>
            <a:endParaRPr b="0" lang="en-US" sz="28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w consider </a:t>
            </a:r>
            <a:r>
              <a:rPr b="0" lang="en-US" sz="2000" spc="-1" strike="noStrike">
                <a:solidFill>
                  <a:srgbClr val="000000"/>
                </a:solidFill>
                <a:latin typeface="Symbol"/>
                <a:ea typeface="Symbol"/>
              </a:rPr>
              <a:t></a:t>
            </a:r>
            <a:r>
              <a:rPr b="0" lang="en-US" sz="2000" spc="-1" strike="noStrike">
                <a:solidFill>
                  <a:srgbClr val="000000"/>
                </a:solidFill>
                <a:latin typeface="Tahoma"/>
              </a:rPr>
              <a:t> and the desired power, calculated as (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want our trial to have “adequate power.’  </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context of our ongoing example, power is the ability of a study to find a difference between treatment groups when such a difference actually exists.   </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most clinical trials, adequate power is regarded as at least 80%, and it is typically 90%.  In contrast to regulatory agencies’ concern with Type I errors, sponsors are generally concerned about Type II (false-negative) errors: they do not want to erroneously conclude that their drug does not work by obtaining a non-significant result when the drug does work.</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ing this will likely result in the drug not being brought to market when it might have been.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mple-size Estimation: </a:t>
            </a:r>
            <a:r>
              <a:rPr b="0" lang="en-US" sz="2800" spc="-1" strike="noStrike">
                <a:solidFill>
                  <a:srgbClr val="333399"/>
                </a:solidFill>
                <a:latin typeface="Symbol"/>
                <a:ea typeface="Symbol"/>
              </a:rPr>
              <a:t></a:t>
            </a:r>
            <a:r>
              <a:rPr b="0" lang="en-US" sz="2800" spc="-1" strike="noStrike">
                <a:solidFill>
                  <a:srgbClr val="333399"/>
                </a:solidFill>
                <a:latin typeface="Tahoma"/>
              </a:rPr>
              <a:t> and </a:t>
            </a:r>
            <a:r>
              <a:rPr b="0" lang="en-US" sz="2800" spc="-1" strike="noStrike">
                <a:solidFill>
                  <a:srgbClr val="333399"/>
                </a:solidFill>
                <a:latin typeface="Symbol"/>
                <a:ea typeface="Symbol"/>
              </a:rPr>
              <a:t></a:t>
            </a:r>
            <a:r>
              <a:rPr b="0" lang="en-US" sz="2800" spc="-1" strike="noStrike">
                <a:solidFill>
                  <a:srgbClr val="333399"/>
                </a:solidFill>
                <a:latin typeface="Tahoma"/>
              </a:rPr>
              <a:t> </a:t>
            </a:r>
            <a:endParaRPr b="0" lang="en-US" sz="2800" spc="-1" strike="noStrike">
              <a:solidFill>
                <a:srgbClr val="333399"/>
              </a:solidFill>
              <a:latin typeface="Tahoma"/>
            </a:endParaRPr>
          </a:p>
        </p:txBody>
      </p:sp>
      <p:sp>
        <p:nvSpPr>
          <p:cNvPr id="110" name="PlaceHolder 2"/>
          <p:cNvSpPr>
            <a:spLocks noGrp="1"/>
          </p:cNvSpPr>
          <p:nvPr>
            <p:ph/>
          </p:nvPr>
        </p:nvSpPr>
        <p:spPr>
          <a:xfrm>
            <a:off x="1182600" y="2209320"/>
            <a:ext cx="7772400" cy="3922920"/>
          </a:xfrm>
          <a:prstGeom prst="rect">
            <a:avLst/>
          </a:prstGeom>
          <a:noFill/>
          <a:ln w="0">
            <a:noFill/>
          </a:ln>
        </p:spPr>
        <p:txBody>
          <a:bodyPr lIns="90000" rIns="90000" tIns="46800" bIns="46800" anchor="t">
            <a:normAutofit/>
          </a:bodyPr>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iven that sponsors want enough power to detect a real difference when it exists, i.e., to reject the null hypothesis when it should be rejected, they probably want at least 80% power, and often 90% power.  Selecting 90% power sets </a:t>
            </a:r>
            <a:r>
              <a:rPr b="0" lang="en-US" sz="1800" spc="-1" strike="noStrike">
                <a:solidFill>
                  <a:srgbClr val="000000"/>
                </a:solidFill>
                <a:latin typeface="Symbol"/>
                <a:ea typeface="Symbol"/>
              </a:rPr>
              <a:t></a:t>
            </a:r>
            <a:r>
              <a:rPr b="0" lang="en-US" sz="1800" spc="-1" strike="noStrike">
                <a:solidFill>
                  <a:srgbClr val="000000"/>
                </a:solidFill>
                <a:latin typeface="Tahoma"/>
              </a:rPr>
              <a:t> at 0.10, since power equals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ing chosen </a:t>
            </a:r>
            <a:r>
              <a:rPr b="0" lang="en-US" sz="2000" spc="-1" strike="noStrike">
                <a:solidFill>
                  <a:srgbClr val="000000"/>
                </a:solidFill>
                <a:latin typeface="Symbol"/>
                <a:ea typeface="Symbol"/>
              </a:rPr>
              <a:t></a:t>
            </a:r>
            <a:r>
              <a:rPr b="0" lang="en-US" sz="2000" spc="-1" strike="noStrike">
                <a:solidFill>
                  <a:srgbClr val="000000"/>
                </a:solidFill>
                <a:latin typeface="Tahoma"/>
              </a:rPr>
              <a:t> and </a:t>
            </a:r>
            <a:r>
              <a:rPr b="0" lang="en-US" sz="2000" spc="-1" strike="noStrike">
                <a:solidFill>
                  <a:srgbClr val="000000"/>
                </a:solidFill>
                <a:latin typeface="Symbol"/>
                <a:ea typeface="Symbol"/>
              </a:rPr>
              <a:t></a:t>
            </a:r>
            <a:r>
              <a:rPr b="0" lang="en-US" sz="2000" spc="-1" strike="noStrike">
                <a:solidFill>
                  <a:srgbClr val="000000"/>
                </a:solidFill>
                <a:latin typeface="Tahoma"/>
              </a:rPr>
              <a:t> the next step is to choose the estimated treatment effect and the estimated SD of the treatment effect that will be placed into the formula that will yield </a:t>
            </a:r>
            <a:r>
              <a:rPr b="0" i="1" lang="en-US" sz="2000" spc="-1" strike="noStrike">
                <a:solidFill>
                  <a:srgbClr val="000000"/>
                </a:solidFill>
                <a:latin typeface="Tahoma"/>
              </a:rPr>
              <a:t>N</a:t>
            </a:r>
            <a:r>
              <a:rPr b="0" lang="en-US" sz="2000" spc="-1" strike="noStrike">
                <a:solidFill>
                  <a:srgbClr val="000000"/>
                </a:solidFill>
                <a:latin typeface="Tahoma"/>
              </a:rPr>
              <a:t> once all chosen values have been placed into it and the computation has been performe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mple-size Estimation: The CRD</a:t>
            </a: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leads to the choice of:</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inically relevant difference (CRD) that the test is required to detect.  This is the treatment effect size, i.e., the difference between the mean drug treatment group response and the mean placebo treatment group response, that the sponsor deems clinically relevant.</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D of the treatment effect. </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the standardized effect size can be calculated as the ratio CRD/S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14:08:17Z</dcterms:created>
  <dc:creator>turnerr</dc:creator>
  <dc:description/>
  <dc:language>en-US</dc:language>
  <cp:lastModifiedBy>turnerr</cp:lastModifiedBy>
  <dcterms:modified xsi:type="dcterms:W3CDTF">2007-06-14T14:29:42Z</dcterms:modified>
  <cp:revision>16</cp:revision>
  <dc:subject/>
  <dc:title>Chapter 9</dc:title>
</cp:coreProperties>
</file>