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ftr" idx="1"/>
          </p:nvPr>
        </p:nvSpPr>
        <p:spPr>
          <a:xfrm>
            <a:off x="1219320" y="6243480"/>
            <a:ext cx="7696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 2007 by John Wiley &amp; Sons, Inc.,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2438280"/>
            <a:ext cx="9009000" cy="1052640"/>
            <a:chOff x="0" y="2438280"/>
            <a:chExt cx="9009000" cy="1052640"/>
          </a:xfrm>
        </p:grpSpPr>
        <p:grpSp>
          <p:nvGrpSpPr>
            <p:cNvPr id="47" name=""/>
            <p:cNvGrpSpPr/>
            <p:nvPr/>
          </p:nvGrpSpPr>
          <p:grpSpPr>
            <a:xfrm>
              <a:off x="290520" y="2546280"/>
              <a:ext cx="711360" cy="474840"/>
              <a:chOff x="290520" y="2546280"/>
              <a:chExt cx="711360" cy="474840"/>
            </a:xfrm>
          </p:grpSpPr>
          <p:sp>
            <p:nvSpPr>
              <p:cNvPr id="4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 name=""/>
            <p:cNvGrpSpPr/>
            <p:nvPr/>
          </p:nvGrpSpPr>
          <p:grpSpPr>
            <a:xfrm>
              <a:off x="414360" y="2968560"/>
              <a:ext cx="737640" cy="474840"/>
              <a:chOff x="414360" y="2968560"/>
              <a:chExt cx="737640" cy="474840"/>
            </a:xfrm>
          </p:grpSpPr>
          <p:sp>
            <p:nvSpPr>
              <p:cNvPr id="5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7" name="PlaceHolder 2"/>
          <p:cNvSpPr>
            <a:spLocks noGrp="1"/>
          </p:cNvSpPr>
          <p:nvPr>
            <p:ph type="ftr" idx="2"/>
          </p:nvPr>
        </p:nvSpPr>
        <p:spPr>
          <a:xfrm>
            <a:off x="1371600" y="6248520"/>
            <a:ext cx="6477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7 by John Wiley &amp; Sons, Inc., All Rights Reserved</a:t>
            </a:r>
            <a:endParaRPr b="0" lang="en-US" sz="1200" spc="-1" strike="noStrike">
              <a:solidFill>
                <a:srgbClr val="000000"/>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14</a:t>
            </a:r>
            <a:endParaRPr b="0" lang="en-US" sz="4400" spc="-1" strike="noStrike">
              <a:solidFill>
                <a:srgbClr val="333399"/>
              </a:solidFill>
              <a:latin typeface="Tahoma"/>
            </a:endParaRPr>
          </a:p>
        </p:txBody>
      </p:sp>
      <p:sp>
        <p:nvSpPr>
          <p:cNvPr id="96" name="PlaceHolder 2"/>
          <p:cNvSpPr>
            <a:spLocks noGrp="1"/>
          </p:cNvSpPr>
          <p:nvPr>
            <p:ph type="subTitle"/>
          </p:nvPr>
        </p:nvSpPr>
        <p:spPr>
          <a:xfrm>
            <a:off x="1371600" y="3885840"/>
            <a:ext cx="6400800" cy="2133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Unifying Themes </a:t>
            </a:r>
            <a:endParaRPr b="0" lang="en-US" sz="4000" spc="-1" strike="noStrike">
              <a:solidFill>
                <a:srgbClr val="000000"/>
              </a:solidFill>
              <a:latin typeface="Tahoma"/>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nd </a:t>
            </a:r>
            <a:endParaRPr b="0" lang="en-US" sz="4000" spc="-1" strike="noStrike">
              <a:solidFill>
                <a:srgbClr val="000000"/>
              </a:solidFill>
              <a:latin typeface="Tahoma"/>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cluding Comment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fying Themes: Pharmacogenetics</a:t>
            </a:r>
            <a:endParaRPr b="0" lang="en-US" sz="2800" spc="-1" strike="noStrike">
              <a:solidFill>
                <a:srgbClr val="333399"/>
              </a:solidFill>
              <a:latin typeface="Tahoma"/>
            </a:endParaRPr>
          </a:p>
        </p:txBody>
      </p:sp>
      <p:sp>
        <p:nvSpPr>
          <p:cNvPr id="114" name="PlaceHolder 2"/>
          <p:cNvSpPr>
            <a:spLocks noGrp="1"/>
          </p:cNvSpPr>
          <p:nvPr>
            <p:ph/>
          </p:nvPr>
        </p:nvSpPr>
        <p:spPr>
          <a:xfrm>
            <a:off x="1182600" y="1904760"/>
            <a:ext cx="7772400" cy="422748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other factors (e.g., existing disease, concomitant medication, nutrition, and use of tobacco and alcohol) can influence why different people respond differently to a given drug, the predominant factor is genetic variation, specifically variation in the structure of the target receptor and in pharmacokinetics (Primrose and Twyman, 2006).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tein manufacture is under direct genetic control, and two proteins are of particular relevance here.  First, the precise structure and function of protein macromolecules (receptors) targeted by a specific drug molecule will vary in different individuals.  Since the structure and function of the protein are directly related to how the drug molecule will interact with that protein, individuals’ responses to the drug will vary.  Second, there are genetic variations in metabolic enzymes (proteins), and hence metabolism.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fying Themes: Pharmacogenetics</a:t>
            </a:r>
            <a:endParaRPr b="0" lang="en-US" sz="28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versity in drug effects among different individuals presents a major problem in clinical medicine, and in drug developmen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rkol et al (2005) listed three major mechanisms by which genetic variation can produce variation in individual responses to drugs:</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riation within the drug target (e.g., ion channels). This may lead to altered drug efficacy, and differences in the expression of a physiological phenotyp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riation associated with altered distribution, metabolism, or uptake of the drug.  This may lead to enhanced drug clearance, impaired drug clearance, or inactivation of the drug.</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riation resulting in an unintended drug ac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fying Themes: Pharmacogenomics</a:t>
            </a:r>
            <a:endParaRPr b="0" lang="en-US" sz="28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otype information, information about a person’s whole genetic make-up, permits the possibility of pharmacological therapy targeted at particular individuals based on this knowledg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armacogenomics involves the use of genomic technologies is assessing differential responses to drug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erms pharmacogenomics and pharmacogenetics are not synonymous.  Rather, thanks to molecular genetics and genomics, the term pharmacogenomics “reflects the evolution of pharmacogenetics into the study of the entire spectrum of genes that determine drug response, including the assessment of the diversity of the human genome and its clinical consequences” (Meyer, 200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fying Themes: Pharmacogenomics</a:t>
            </a:r>
            <a:endParaRPr b="0" lang="en-US" sz="28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thstein (2003) noted that pharmacogenetics addresses “the role of genetic variation in differential response to pharmaceuticals” and pharmacogenomics addresses “the use of genomic technologies in assessing differential response to pharmaceutical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Lesko and Woodcock (2005) noted:</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rug companies reportedly collect DNA samples from subjects in approximately 80% of clinical studies so that they can have the chance to identify genomic biomarkers of drug safety, efficacy, and dosing.  The promise of [pharmacogenomics] lies in its potential to identify sources of interindividual variability in drug response (both efficacy and safety) that arise from genomic differences in disease pathophysiology and/or genomic differences in drug pharmacology.</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fying Themes: Precision medicine</a:t>
            </a:r>
            <a:endParaRPr b="0" lang="en-US" sz="2800" spc="-1" strike="noStrike">
              <a:solidFill>
                <a:srgbClr val="333399"/>
              </a:solidFill>
              <a:latin typeface="Tahoma"/>
            </a:endParaRPr>
          </a:p>
        </p:txBody>
      </p:sp>
      <p:sp>
        <p:nvSpPr>
          <p:cNvPr id="122" name="PlaceHolder 2"/>
          <p:cNvSpPr>
            <a:spLocks noGrp="1"/>
          </p:cNvSpPr>
          <p:nvPr>
            <p:ph/>
          </p:nvPr>
        </p:nvSpPr>
        <p:spPr>
          <a:xfrm>
            <a:off x="1182600" y="1828800"/>
            <a:ext cx="7772400" cy="45720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actice of precision medicine is predicated on knowledge of a person’s genotype.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erm precision medicine is deliberately used here instead of other common terms such as personalized medicine and individualized medicine: clinicians, as they will argue very reasonably, have always practiced personalized medicine to the limit of current knowledge.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oughtful clinical care of a patient has always involved, and always will involve, using all available evidence concerning an individual patient’s unique set of circumstances and knowledge of all available treatment options to tailor a course of treatment accordingly. The major difference in the context of present discussions is that, in the future, clinicians will likely have access to detailed information about the biological make-up of individual patients under their car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fying Themes: Critical Path Initiatives</a:t>
            </a:r>
            <a:endParaRPr b="0" lang="en-US" sz="2800" spc="-1" strike="noStrike">
              <a:solidFill>
                <a:srgbClr val="333399"/>
              </a:solidFill>
              <a:latin typeface="Tahoma"/>
            </a:endParaRPr>
          </a:p>
        </p:txBody>
      </p:sp>
      <p:sp>
        <p:nvSpPr>
          <p:cNvPr id="124"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March 2004 the FDA released its Critical Path Report, and subsequently released its Critical Path Opportunities List in March 2006.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2004 Report discussed the ‘pipeline problem,’ the slowdown in innovative medical therapies reaching patients, and invited comments and suggestions from public and private stakeholder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keholder response was considerable and positive, suggesting that the FDA “undertake research, develop guidances, initiate collaborations, and convene consensus-developing activities on a wide range of scientific issue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suggestions were well received by the FD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fying Themes: Critical Path Initiatives</a:t>
            </a:r>
            <a:endParaRPr b="0" lang="en-US" sz="2800" spc="-1" strike="noStrike">
              <a:solidFill>
                <a:srgbClr val="333399"/>
              </a:solidFill>
              <a:latin typeface="Tahoma"/>
            </a:endParaRPr>
          </a:p>
        </p:txBody>
      </p:sp>
      <p:sp>
        <p:nvSpPr>
          <p:cNvPr id="126" name="PlaceHolder 2"/>
          <p:cNvSpPr>
            <a:spLocks noGrp="1"/>
          </p:cNvSpPr>
          <p:nvPr>
            <p:ph/>
          </p:nvPr>
        </p:nvSpPr>
        <p:spPr>
          <a:xfrm>
            <a:off x="1182600" y="1828440"/>
            <a:ext cx="7772400" cy="472428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ir subsequent Critical Path Opportunities List, regarded as an initial summary of key scientific opportunities to improve product development, identifies targeted research that the FDA believes, if pursued, “will increase efficiency, predictability, and productivity in the development of new medical products.”</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ix topics that form the basis for the Opportunities List are:</a:t>
            </a:r>
            <a:endParaRPr b="0" lang="en-US" sz="2000" spc="-1" strike="noStrike">
              <a:solidFill>
                <a:srgbClr val="000000"/>
              </a:solidFill>
              <a:latin typeface="Tahoma"/>
            </a:endParaRPr>
          </a:p>
          <a:p>
            <a:pPr lvl="1" marL="705600" indent="-2714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tter evaluation tools—Developing new biomarkers and disease models. </a:t>
            </a:r>
            <a:endParaRPr b="0" lang="en-US" sz="1800" spc="-1" strike="noStrike">
              <a:solidFill>
                <a:srgbClr val="000000"/>
              </a:solidFill>
              <a:latin typeface="Tahoma"/>
            </a:endParaRPr>
          </a:p>
          <a:p>
            <a:pPr lvl="1" marL="705600" indent="-2714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eamlining clinical trials, including advancing innovative trial designs.</a:t>
            </a:r>
            <a:endParaRPr b="0" lang="en-US" sz="1800" spc="-1" strike="noStrike">
              <a:solidFill>
                <a:srgbClr val="000000"/>
              </a:solidFill>
              <a:latin typeface="Tahoma"/>
            </a:endParaRPr>
          </a:p>
          <a:p>
            <a:pPr lvl="1" marL="705600" indent="-2714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rnessing bioinformatics.</a:t>
            </a:r>
            <a:endParaRPr b="0" lang="en-US" sz="1800" spc="-1" strike="noStrike">
              <a:solidFill>
                <a:srgbClr val="000000"/>
              </a:solidFill>
              <a:latin typeface="Tahoma"/>
            </a:endParaRPr>
          </a:p>
          <a:p>
            <a:pPr lvl="1" marL="705600" indent="-2714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ving manufacturing into the 21st Century</a:t>
            </a:r>
            <a:endParaRPr b="0" lang="en-US" sz="1800" spc="-1" strike="noStrike">
              <a:solidFill>
                <a:srgbClr val="000000"/>
              </a:solidFill>
              <a:latin typeface="Tahoma"/>
            </a:endParaRPr>
          </a:p>
          <a:p>
            <a:pPr lvl="1" marL="705600" indent="-2714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veloping products to address urgent public health needs, including new antibiotics, vaccines and medical countermeasures against emerging infections and bioterrorism attacks.</a:t>
            </a:r>
            <a:endParaRPr b="0" lang="en-US" sz="1800" spc="-1" strike="noStrike">
              <a:solidFill>
                <a:srgbClr val="000000"/>
              </a:solidFill>
              <a:latin typeface="Tahoma"/>
            </a:endParaRPr>
          </a:p>
          <a:p>
            <a:pPr lvl="1" marL="705600" indent="-2714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risk populations—Pediatrics.</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fying Themes: Concluding comments</a:t>
            </a:r>
            <a:endParaRPr b="0" lang="en-US" sz="2800" spc="-1" strike="noStrike">
              <a:solidFill>
                <a:srgbClr val="333399"/>
              </a:solidFill>
              <a:latin typeface="Tahoma"/>
            </a:endParaRPr>
          </a:p>
        </p:txBody>
      </p:sp>
      <p:sp>
        <p:nvSpPr>
          <p:cNvPr id="128"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not all of these issues have been addressed in this presentation, new drug development requires attention be paid to ethical, intellectual, scientific, biological, clinical, organizational, regulatory, financial, legal, congressional, social, and political consideration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of the activities described in this presentation, and discussed in more detail in the accompanying book, are ultimately conducted to improve the health and well-being of patients by changing their biology for the better.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ugs have a very real impact on patients’ lives.  New drug development is a very complicated and difficult undertaking, but one that makes an enormous difference to the health of people across the globe.   It is a noble pursui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fying Themes: Introduction</a:t>
            </a:r>
            <a:endParaRPr b="0" lang="en-US" sz="2800" spc="-1" strike="noStrike">
              <a:solidFill>
                <a:srgbClr val="333399"/>
              </a:solidFill>
              <a:latin typeface="Tahoma"/>
            </a:endParaRPr>
          </a:p>
        </p:txBody>
      </p:sp>
      <p:sp>
        <p:nvSpPr>
          <p:cNvPr id="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presentation has provided an overview of individual steps in the immensely complex process of new drug development.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final part of the presentation takes a more global view.  It brings together threads that have run throughout the individual parts of the presentation, and provides an integrative summary of topics discussed.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also introduces pharmacogenetics and pharmacogenomics.</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material is covered in considerably more detail in     Chapter 14 of the accompanying book, and many additional references are provided ther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fying Themes: Introduction</a:t>
            </a:r>
            <a:endParaRPr b="0" lang="en-US" sz="28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oking back across the previous chapters’ discussion of new drug development, several themes eme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requires that attention be paid to ethical consideration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requires that attention be paid to design, methodological, and analytical consideration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armacokinetic and pharmacodynamic considerations are of interest at every stage of the proces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y decisions have to be made throughout the process, and each has major consequence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ultimate goal is to change patients’ biology for the better.</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will consider some of these again her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fying Themes: Ethical considerations</a:t>
            </a:r>
            <a:endParaRPr b="0" lang="en-US" sz="2800" spc="-1" strike="noStrike">
              <a:solidFill>
                <a:srgbClr val="333399"/>
              </a:solidFill>
              <a:latin typeface="Tahoma"/>
            </a:endParaRPr>
          </a:p>
        </p:txBody>
      </p:sp>
      <p:sp>
        <p:nvSpPr>
          <p:cNvPr id="102"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thical considerations are pervasive throughout new drug development:  Just like Statistics, ethics are not simply something for “someone else” to worry abou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ussions of ethical considerations include:</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ning a study in an ethical manner such that the design is capable of producing optimum quality data.</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bject recruitment, including providing informed consent.</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mple-size estimation.  A study design requires sufficient subjects, but not an unnecessarily large subject sample.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ducting all aspects of a study in the best manner possibl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monitoring committees having to decide whether a clinical trial should be terminated early.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thors have an ethical responsibility to report information accurately and fully in clinical communications, since these directly impact patient car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fying Themes: Importance of Statistics</a:t>
            </a:r>
            <a:endParaRPr b="0" lang="en-US" sz="2800" spc="-1" strike="noStrike">
              <a:solidFill>
                <a:srgbClr val="333399"/>
              </a:solidFill>
              <a:latin typeface="Tahoma"/>
            </a:endParaRPr>
          </a:p>
        </p:txBody>
      </p:sp>
      <p:sp>
        <p:nvSpPr>
          <p:cNvPr id="104" name="PlaceHolder 2"/>
          <p:cNvSpPr>
            <a:spLocks noGrp="1"/>
          </p:cNvSpPr>
          <p:nvPr>
            <p:ph/>
          </p:nvPr>
        </p:nvSpPr>
        <p:spPr>
          <a:xfrm>
            <a:off x="1182600" y="2017440"/>
            <a:ext cx="7772400" cy="44593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presentation’s operational definition of Statistics was presented earlier: Statistics can be thought of as an integrated discipline that is important in all of the following activitie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entifying a research question that needs to be answered.</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iding upon the design of the study, the methodology that will be employed, and the numerical information (data) that will be collected.</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enting the design, methodology, and data to be collected in a study protocol.  This study protocol specifies the manner of data collection, and addresses all methodological considerations necessary to ensure the collection of optimum quality data for subsequent statistical analysi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entifying the statistical techniques that will be used to describe and analyze the data in an associated statistical analysis plan, which should be written in conjunction with the study protoco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fying Themes: Importance of Statistics</a:t>
            </a:r>
            <a:endParaRPr b="0" lang="en-US" sz="28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cribing and analyzing the data.  This includes analyzing the variation in the data to see if there is compelling evidence that the drug is safe and effective.  This process includes evaluation of the statistical significance of the results obtained, and, very importantly, their clinical significanc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enting the results of a clinical study to a regulatory agency in a clinical study report, and presenting the results to the clinical community in journal publications.</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operational definition of Statistics may have seemed rather expansive when it was first encountered: hopefully it may now seem much more appropriate.  Statistical awareness is essential throughout the entire drug development process, from designing a study to answer a research question right through to presenting the study results to regulatory agencies and the clinical communit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fying Themes: Importance of Statistics</a:t>
            </a:r>
            <a:endParaRPr b="0" lang="en-US" sz="2800" spc="-1" strike="noStrike">
              <a:solidFill>
                <a:srgbClr val="333399"/>
              </a:solidFill>
              <a:latin typeface="Tahoma"/>
            </a:endParaRPr>
          </a:p>
        </p:txBody>
      </p:sp>
      <p:sp>
        <p:nvSpPr>
          <p:cNvPr id="108" name="PlaceHolder 2"/>
          <p:cNvSpPr>
            <a:spLocks noGrp="1"/>
          </p:cNvSpPr>
          <p:nvPr>
            <p:ph/>
          </p:nvPr>
        </p:nvSpPr>
        <p:spPr>
          <a:xfrm>
            <a:off x="1182600" y="1905120"/>
            <a:ext cx="77724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ata acquired in a clinical trial are not simply numbers: they are numerical representations of biologically important information.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umber “9” is meaningful by itself (it is an integer between 8 and 10).  However, in a clinical database, the digit 9 may represent a decrease of 9 mmHg seen in a subject’s SBP following the administration of an investigational antihypertensive drug for several week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context, the digit 9 is a numerical representation of biologically important information concerning a change in blood pressure.  The employment of the discipline of Statistics is a means to an end here, and the end is producing a drug that is safe and has a beneficial therapeutic effect on a patient’s biological well-being.</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fying Themes: Pharmacokinetics</a:t>
            </a:r>
            <a:endParaRPr b="0" lang="en-US" sz="2800" spc="-1" strike="noStrike">
              <a:solidFill>
                <a:srgbClr val="333399"/>
              </a:solidFill>
              <a:latin typeface="Tahoma"/>
            </a:endParaRPr>
          </a:p>
        </p:txBody>
      </p:sp>
      <p:sp>
        <p:nvSpPr>
          <p:cNvPr id="110" name="PlaceHolder 2"/>
          <p:cNvSpPr>
            <a:spLocks noGrp="1"/>
          </p:cNvSpPr>
          <p:nvPr>
            <p:ph/>
          </p:nvPr>
        </p:nvSpPr>
        <p:spPr>
          <a:xfrm>
            <a:off x="1182600" y="1828800"/>
            <a:ext cx="77724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investigational drug’s pharmacokinetic/pharmacodynamic profile is of critical importance in determining its therapeutic usefulness, and assessment of this profile continues throughout the entire spectrum of new drug development, and pharmacokinetic issues are being increasingly addressed in drug discovery.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armacokinetic issues are also a major factor in a drug’s success after it has received marketing approval.  A drug product certainly has to be safe and effective, but it also has to be convenient to use if it is going to be widely used and commercially successful.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armacokinetic characteristics are a major determinant of how convenient a drug is to us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fying Themes: Pharmacogenetics</a:t>
            </a:r>
            <a:endParaRPr b="0" lang="en-US" sz="28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armacogenetics studies the contribution of genetic variation to the variation in response to pharmacotherapy.  Interest lies both with desired therapeutic effects and with the range and severity of AEs.  When a given drug is administered to different patients for whom, based on the best available diagnostic evidence, it is appropriate, there can be different response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 will show a beneficial therapeutic respons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 may not show a beneficial therapeutic respons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 may show an undesired excessive therapeutic response (e.g., becoming hypotensive instead of normotensives following the administration of an antihypertensive agent).</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 may show relatively serious undesired effec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1T17:46:21Z</dcterms:created>
  <dc:creator>turnerr</dc:creator>
  <dc:description/>
  <dc:language>en-US</dc:language>
  <cp:lastModifiedBy>turnerr</cp:lastModifiedBy>
  <dcterms:modified xsi:type="dcterms:W3CDTF">2007-06-14T14:15:29Z</dcterms:modified>
  <cp:revision>5</cp:revision>
  <dc:subject/>
  <dc:title>Chapter 14</dc:title>
</cp:coreProperties>
</file>