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19320" y="6248520"/>
            <a:ext cx="7772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1371600" y="6248520"/>
            <a:ext cx="6400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4</a:t>
            </a: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nclinical Research</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logy</a:t>
            </a:r>
            <a:endParaRPr b="0" lang="en-US" sz="28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logy is the scientific discipline that specializes in the mechanisms of action, uses, and undesired effects of drugs.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logy studies fall into two categorie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pharmacology studies.  These address primary and secondary pharmacology. They do not need to be performed to cGLP standards.</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fety pharmacology studies.  These studies examine physiological functional changes related to the drug compound’s activity.  They are performed to cGLP standards.</a:t>
            </a:r>
            <a:endParaRPr b="0" lang="en-US" sz="1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ategories are considered here in tur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logy</a:t>
            </a:r>
            <a:endParaRPr b="0" lang="en-US" sz="2800" spc="-1" strike="noStrike">
              <a:solidFill>
                <a:srgbClr val="333399"/>
              </a:solidFill>
              <a:latin typeface="Tahoma"/>
            </a:endParaRPr>
          </a:p>
        </p:txBody>
      </p:sp>
      <p:sp>
        <p:nvSpPr>
          <p:cNvPr id="115"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 pharmacology studies are conducted at the start of a drug development program, and they fall outside the scope of regulatory governance.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harmacological actions of a drug can be categorized into primary and secondary actions.  Primary actions are related to the proposed therapeutic use, while secondary actions are not.</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ary pharmacology studies focus on the mechanism of action of the drug compound, and can be conducted </a:t>
            </a:r>
            <a:r>
              <a:rPr b="0" i="1" lang="en-US" sz="2000" spc="-1" strike="noStrike">
                <a:solidFill>
                  <a:srgbClr val="000000"/>
                </a:solidFill>
                <a:latin typeface="Tahoma"/>
              </a:rPr>
              <a:t>in vitro</a:t>
            </a:r>
            <a:r>
              <a:rPr b="0" lang="en-US" sz="2000" spc="-1" strike="noStrike">
                <a:solidFill>
                  <a:srgbClr val="000000"/>
                </a:solidFill>
                <a:latin typeface="Tahoma"/>
              </a:rPr>
              <a:t> and/or </a:t>
            </a:r>
            <a:r>
              <a:rPr b="0" i="1" lang="en-US" sz="2000" spc="-1" strike="noStrike">
                <a:solidFill>
                  <a:srgbClr val="000000"/>
                </a:solidFill>
                <a:latin typeface="Tahoma"/>
              </a:rPr>
              <a:t>in vivo</a:t>
            </a:r>
            <a:r>
              <a:rPr b="0" lang="en-US" sz="2000" spc="-1" strike="noStrike">
                <a:solidFill>
                  <a:srgbClr val="000000"/>
                </a:solidFill>
                <a:latin typeface="Tahoma"/>
              </a:rPr>
              <a:t>.  Studies conducted </a:t>
            </a:r>
            <a:r>
              <a:rPr b="0" i="1" lang="en-US" sz="2000" spc="-1" strike="noStrike">
                <a:solidFill>
                  <a:srgbClr val="000000"/>
                </a:solidFill>
                <a:latin typeface="Tahoma"/>
              </a:rPr>
              <a:t>in vitro</a:t>
            </a:r>
            <a:r>
              <a:rPr b="0" lang="en-US" sz="2000" spc="-1" strike="noStrike">
                <a:solidFill>
                  <a:srgbClr val="000000"/>
                </a:solidFill>
                <a:latin typeface="Tahoma"/>
              </a:rPr>
              <a:t> can include radioligand binding studies, and focus on the drug’s action at specific receptor sites in tissue preparations or in genetically engineered cell lines.  Studies conducted </a:t>
            </a:r>
            <a:r>
              <a:rPr b="0" i="1" lang="en-US" sz="2000" spc="-1" strike="noStrike">
                <a:solidFill>
                  <a:srgbClr val="000000"/>
                </a:solidFill>
                <a:latin typeface="Tahoma"/>
              </a:rPr>
              <a:t>in vivo</a:t>
            </a:r>
            <a:r>
              <a:rPr b="0" lang="en-US" sz="2000" spc="-1" strike="noStrike">
                <a:solidFill>
                  <a:srgbClr val="000000"/>
                </a:solidFill>
                <a:latin typeface="Tahoma"/>
              </a:rPr>
              <a:t> investigate the potential pharmacological action of the drug in animal models as it relates to its intended therapeutic u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logy</a:t>
            </a:r>
            <a:endParaRPr b="0" lang="en-US" sz="28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its intended therapeutic use, a drug may have other effects.  Some of these may actually be beneficial, while others cause undesirable effect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ary pharmacology studies focus on the overall pharmacological activity of the drug compound, activity that may occur that is not directly related to the drug’s proposed therapeutic us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studies can also be conducted </a:t>
            </a:r>
            <a:r>
              <a:rPr b="0" i="1" lang="en-US" sz="2000" spc="-1" strike="noStrike">
                <a:solidFill>
                  <a:srgbClr val="000000"/>
                </a:solidFill>
                <a:latin typeface="Tahoma"/>
              </a:rPr>
              <a:t>in vitro</a:t>
            </a:r>
            <a:r>
              <a:rPr b="0" lang="en-US" sz="2000" spc="-1" strike="noStrike">
                <a:solidFill>
                  <a:srgbClr val="000000"/>
                </a:solidFill>
                <a:latin typeface="Tahoma"/>
              </a:rPr>
              <a:t> and/or </a:t>
            </a:r>
            <a:r>
              <a:rPr b="0" i="1" lang="en-US" sz="2000" spc="-1" strike="noStrike">
                <a:solidFill>
                  <a:srgbClr val="000000"/>
                </a:solidFill>
                <a:latin typeface="Tahoma"/>
              </a:rPr>
              <a:t>in vivo</a:t>
            </a:r>
            <a:r>
              <a:rPr b="0" lang="en-US" sz="2000" spc="-1" strike="noStrike">
                <a:solidFill>
                  <a:srgbClr val="000000"/>
                </a:solidFill>
                <a:latin typeface="Tahoma"/>
              </a:rPr>
              <a:t>.  Studies conducted </a:t>
            </a:r>
            <a:r>
              <a:rPr b="0" i="1" lang="en-US" sz="2000" spc="-1" strike="noStrike">
                <a:solidFill>
                  <a:srgbClr val="000000"/>
                </a:solidFill>
                <a:latin typeface="Tahoma"/>
              </a:rPr>
              <a:t>in vitro</a:t>
            </a:r>
            <a:r>
              <a:rPr b="0" lang="en-US" sz="2000" spc="-1" strike="noStrike">
                <a:solidFill>
                  <a:srgbClr val="000000"/>
                </a:solidFill>
                <a:latin typeface="Tahoma"/>
              </a:rPr>
              <a:t> include the drug molecule’s likely binding with non-target receptors.  Studies conducted </a:t>
            </a:r>
            <a:r>
              <a:rPr b="0" i="1" lang="en-US" sz="2000" spc="-1" strike="noStrike">
                <a:solidFill>
                  <a:srgbClr val="000000"/>
                </a:solidFill>
                <a:latin typeface="Tahoma"/>
              </a:rPr>
              <a:t>in vivo</a:t>
            </a:r>
            <a:r>
              <a:rPr b="0" lang="en-US" sz="2000" spc="-1" strike="noStrike">
                <a:solidFill>
                  <a:srgbClr val="000000"/>
                </a:solidFill>
                <a:latin typeface="Tahoma"/>
              </a:rPr>
              <a:t> investigate the general pharmacological action of the drug in animal model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logy</a:t>
            </a:r>
            <a:endParaRPr b="0" lang="en-US" sz="2800" spc="-1" strike="noStrike">
              <a:solidFill>
                <a:srgbClr val="333399"/>
              </a:solidFill>
              <a:latin typeface="Tahoma"/>
            </a:endParaRPr>
          </a:p>
        </p:txBody>
      </p:sp>
      <p:sp>
        <p:nvSpPr>
          <p:cNvPr id="119"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ty pharmacology studies investigate potentially undesirable effects of the drug compoun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se studies are typically conducted in the rat and the dog, primate models can also be us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ly, studies are single dose studies using the intended therapeutic dose.  These studies focus on functional changes in major organ systems within the body.  Toxicology studies (see later) focus on structural chang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s of function and structure can be meaningfully separated here, although they can also be connected.  Functional changes can occur in the absence of structural change, they can precede structural change, and they can potentially contribute to structural chan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logy</a:t>
            </a:r>
            <a:endParaRPr b="0" lang="en-US" sz="28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ty pharmacology studies investigate potentially undesirable effects of the drug compound on the physiological function of the central nervous system, the respiratory system, and the cardiovascular system.  Some of the topics investigated ar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ral nervous system: Skeletal muscle tone, locomotion, reflex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iratory system: Rate and depth of breathing.</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diovascular system: Blood pressure, heart rate, and electrophysiology, including electrocardiographic studies.  Electrophysiological studies are conducted to examine the potential for QT interval prolongation. </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opic of QT interval prolongation is a complex one: specific regulatory guidances address th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QT interval analysis</a:t>
            </a:r>
            <a:endParaRPr b="0" lang="en-US" sz="2800" spc="-1" strike="noStrike">
              <a:solidFill>
                <a:srgbClr val="333399"/>
              </a:solidFill>
              <a:latin typeface="Tahoma"/>
            </a:endParaRPr>
          </a:p>
        </p:txBody>
      </p:sp>
      <p:sp>
        <p:nvSpPr>
          <p:cNvPr id="123" name="PlaceHolder 2"/>
          <p:cNvSpPr>
            <a:spLocks noGrp="1"/>
          </p:cNvSpPr>
          <p:nvPr>
            <p:ph/>
          </p:nvPr>
        </p:nvSpPr>
        <p:spPr>
          <a:xfrm>
            <a:off x="1182600" y="2017800"/>
            <a:ext cx="7772400" cy="3773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T interval can be seen on an electrocardiogram (ECG). The ECG consists of the P-wave, the QRS complex, and the T-wave. Each of these segments is associated with certain cardiac electrical activity occurring during each heart beat: atrial activity, excitation of the ventricles, and repolarization of the ventricles, respectively.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tual length of the QT interval is a representation of its time, or duration, measured in milliseconds. The time interval between the onset of the QRS complex and the offset of the T-wave is defined as the QT interval.</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QT interval analysis</a:t>
            </a:r>
            <a:endParaRPr b="0" lang="en-US" sz="2800" spc="-1" strike="noStrike">
              <a:solidFill>
                <a:srgbClr val="333399"/>
              </a:solidFill>
              <a:latin typeface="Tahoma"/>
            </a:endParaRPr>
          </a:p>
        </p:txBody>
      </p:sp>
      <p:sp>
        <p:nvSpPr>
          <p:cNvPr id="125"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interest in drug development is whether the investigational drug under development leads to prolongation of the QT interval:  while QT interval prolongation can be congenital, it can also be acquired, e.g., induced by drug therapy.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prolongation, which represents delayed cardiac repolarization of the myocardial cells, is regarded as the best surrogate marker currently available for certain dangerous cardiac arrhythmias.</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able evaluation of potential QT prolongation is also addressed in human subjects during clinical trials: Extensive ECG monitoring during pre-approval clinical trials is a critical part of clinical development programs, and results from this testing must be presented to a regulatory agency to obtain marketing approval.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Toxicology</a:t>
            </a:r>
            <a:endParaRPr b="0" lang="en-US" sz="2800" spc="-1" strike="noStrike">
              <a:solidFill>
                <a:srgbClr val="333399"/>
              </a:solidFill>
              <a:latin typeface="Tahoma"/>
            </a:endParaRPr>
          </a:p>
        </p:txBody>
      </p:sp>
      <p:sp>
        <p:nvSpPr>
          <p:cNvPr id="127"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drugs belonging to the same class often have some toxicological effects in common, i.e., side effects that can be reasonably expected from all drugs in that class.  However, it is also likely that each drug will have a unique toxicology profile, largely influenced by the drug’s physiochemical properties.</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toxicants exert their toxicological influences induce their effects by interacting with normal cellular processes.  The ultimate result of many toxic responses is cell death leading to loss of important organ function.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toxicological effects are the result of interactions with various biochemical and physiological processes that do not affect the survival of the cell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Toxicology</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mechanisms of toxic action includ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ference with cellular membrane func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urbed calcium homeostasi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rupted cellular energy produc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versible or nonreversible binding to various proteins, nucleic acids, and other macromolecule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in phases of nonclinical toxicology assessment for a new synthetic drug, in chronological order,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oratory toxicology studi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tory toxicology studies performed before drug is administered to humans for the first time in FTIH studi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tory toxicology studies performed in parallel with clinical tria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Toxicology</a:t>
            </a:r>
            <a:endParaRPr b="0" lang="en-US" sz="28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loratory Toxicology Studies:</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ed to provide an idea of the main organs and physiological systems involved, and to provide a quantitative estimation of the drug’s toxicity when administered, in single or repeated doses, across a relatively short period of time.  </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studies are typically not required to be reported to the regulatory agency prior to FTIH studies, do not need to be conducted according to cGLP guidelines, and they are not typically conducted with drug compound that has been manufactured to cGMP standards.</a:t>
            </a:r>
            <a:endParaRPr b="0" lang="en-US" sz="18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FTIH Regulatory Toxicology Studies:</a:t>
            </a:r>
            <a:r>
              <a:rPr b="0" lang="en-US" sz="2400" spc="-1" strike="noStrike">
                <a:solidFill>
                  <a:srgbClr val="000000"/>
                </a:solidFill>
                <a:latin typeface="Tahoma"/>
              </a:rPr>
              <a:t> </a:t>
            </a:r>
            <a:endParaRPr b="0" lang="en-US" sz="24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day repeated-dose toxicology studies it two non-human animal speci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otoxicity studi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roductive toxicity studies.</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fety pharmacology studi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Introduction</a:t>
            </a:r>
            <a:endParaRPr b="0" lang="en-US" sz="2800" spc="-1" strike="noStrike">
              <a:solidFill>
                <a:srgbClr val="333399"/>
              </a:solidFill>
              <a:latin typeface="Tahoma"/>
            </a:endParaRPr>
          </a:p>
        </p:txBody>
      </p:sp>
      <p:sp>
        <p:nvSpPr>
          <p:cNvPr id="97"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provides a brief overview of the typical nonclinical studies conducted in a drug development program.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of these studies are conducted under regulatory governance, and reports of them are included in regulatory submissions.</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 areas of study are considered here: pharmacokinetics, pharmacology, and toxicology.  </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however, a word about the use of animals in this research…Like many people, the author is an animal lover, and this topic is an emotional one.  However, the importance of information gained from animal studies in the development of medicines for humans cannot be oversta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Toxicology</a:t>
            </a:r>
            <a:endParaRPr b="0" lang="en-US" sz="2800" spc="-1" strike="noStrike">
              <a:solidFill>
                <a:srgbClr val="333399"/>
              </a:solidFill>
              <a:latin typeface="Tahoma"/>
            </a:endParaRPr>
          </a:p>
        </p:txBody>
      </p:sp>
      <p:sp>
        <p:nvSpPr>
          <p:cNvPr id="133" name="PlaceHolder 2"/>
          <p:cNvSpPr>
            <a:spLocks noGrp="1"/>
          </p:cNvSpPr>
          <p:nvPr>
            <p:ph/>
          </p:nvPr>
        </p:nvSpPr>
        <p:spPr>
          <a:xfrm>
            <a:off x="1219320" y="1904760"/>
            <a:ext cx="7772400" cy="3809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regulatory toxicology studies are typically conducted in parallel with clinical trials.  These are expensive to conduct, and not started until the candidate drug looks promising in humans: </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xicological studies in two or more non-human animal species lasting up to one year.</a:t>
            </a:r>
            <a:endParaRPr b="0" lang="en-US" sz="18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cinogenicity tests and reproductive toxicology studies lasting up to two years.</a:t>
            </a:r>
            <a:endParaRPr b="0" lang="en-US" sz="18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 studies that examine possible drug-drug interactions with other drugs that may be prescribed concurrently in humans for the same indication for which the new drug is being developed.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Toxicology</a:t>
            </a:r>
            <a:endParaRPr b="0" lang="en-US" sz="2800" spc="-1" strike="noStrike">
              <a:solidFill>
                <a:srgbClr val="333399"/>
              </a:solidFill>
              <a:latin typeface="Tahoma"/>
            </a:endParaRPr>
          </a:p>
        </p:txBody>
      </p:sp>
      <p:sp>
        <p:nvSpPr>
          <p:cNvPr id="135" name="PlaceHolder 2"/>
          <p:cNvSpPr>
            <a:spLocks noGrp="1"/>
          </p:cNvSpPr>
          <p:nvPr>
            <p:ph/>
          </p:nvPr>
        </p:nvSpPr>
        <p:spPr>
          <a:xfrm>
            <a:off x="1182600" y="19051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e range-finding toxicology studies are conducted to estimate the “no toxic effect level,” or NTEL.  There are several possible design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dministration (if possible, via the intended route of administration for humans) of a single dose at one particular dose level to each test animal.   Several widely spaced doses are chosen, and the animals are observed daily for two weeks.  Weight, morbidity, and visible signs of toxicity noted, and animals that die during this period are autopsied.  At the end of the two-week period, animals are sacrificed and autopsied to look for evidence of gross organ damag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escalation study in which animals receive increasing doses until toxicity appears or a predetermined maximum dose is reached.</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sts include investigation of reproductive impairment, teratogenicity, and neurotoxicity at some time in the future following exposure to the test material.</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5</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sign and Methodology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Clinical Tri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Experimental studies</a:t>
            </a:r>
            <a:endParaRPr b="0" lang="en-US" sz="28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fundamental types of study design, (Piantadosi, 2005):</a:t>
            </a:r>
            <a:endParaRPr b="0" lang="en-US" sz="20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mental studies</a:t>
            </a:r>
            <a:endParaRPr b="0" lang="en-US" sz="1800" spc="-1" strike="noStrike">
              <a:solidFill>
                <a:srgbClr val="000000"/>
              </a:solidFill>
              <a:latin typeface="Tahoma"/>
            </a:endParaRPr>
          </a:p>
          <a:p>
            <a:pPr lvl="1" marL="720720" indent="-27720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experimental studies</a:t>
            </a:r>
            <a:endParaRPr b="0" lang="en-US" sz="1800" spc="-1" strike="noStrike">
              <a:solidFill>
                <a:srgbClr val="000000"/>
              </a:solidFill>
              <a:latin typeface="Tahom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antadosi defines an experiment as a series of observations made under conditions in which the influences of interest are controlled by the research scientist.  This book deals largely experimental studies.  In nonexperimental studies the research scientist collects observations but does not exert control over the influences of interest.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Nonexperimental studies are often called “observational” studies, but this term is not appropriate: It does not definitively distinguish between nonexperimental studies and experimental studies, in which observations are also mad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Nonexperimental studies</a:t>
            </a:r>
            <a:endParaRPr b="0" lang="en-US" sz="28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also that the term “nonexperimental” is not a relative quality judgment compared with “experimental.”  This nomenclature simply distinguishes methodological approaches.  In some cases, nonexperimental studies are the only type of medical study that can legitimately be used.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one wishes to examine the potentially negative health impact of a specific influence, such as exposure to nicotine via smoking cigarettes or living close to an environmental toxin, it is not appropriate for the research scientist to exert control over the influence of interest by asking some individuals to smoke or to live in a certain location.  Rather, the research scientist makes use of naturally occurring cases of individuals who have and have not smoked, and individuals who live close to and far from an environmental toxin, to examine a potential relationship between the influence of interest and a specific health outcom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Methodology</a:t>
            </a:r>
            <a:endParaRPr b="0" lang="en-US" sz="2800" spc="-1" strike="noStrike">
              <a:solidFill>
                <a:srgbClr val="333399"/>
              </a:solidFill>
              <a:latin typeface="Tahoma"/>
            </a:endParaRPr>
          </a:p>
        </p:txBody>
      </p:sp>
      <p:sp>
        <p:nvSpPr>
          <p:cNvPr id="143"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methodology is concerned with all aspects of the implementation and conduct of a study.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goal is to govern the conduct of the study such that optimum quality data are acquired.  To enable subsequent data analysis and interpretation to provide the best answer to the research question of interest, the data acquired must be of optimum qualit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sophisticated and computationally perfect analysis will not yield optimal answers if the data being analyzed are of less than optimal quality.  This statement sounds intuitively obvious, and may seem almost superfluous.  However, it is essential that methodological considerations receive constant vigilance in studies of even the shortest duration, and also in clinical trials that can last several yea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Superiority Trials</a:t>
            </a:r>
            <a:endParaRPr b="0" lang="en-US" sz="2800" spc="-1" strike="noStrike">
              <a:solidFill>
                <a:srgbClr val="333399"/>
              </a:solidFill>
              <a:latin typeface="Tahoma"/>
            </a:endParaRPr>
          </a:p>
        </p:txBody>
      </p:sp>
      <p:sp>
        <p:nvSpPr>
          <p:cNvPr id="14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focuses on the design of Phase III trials (an alternate nomenclature is offered later in the presentation).</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mon research question in drug clinical trials that are conducted in the later phases of a clinical development program is: “Does a new drug under development have a beneficial therapeutic effect?”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nswer this question adequately, the therapeutic effect of the new drug needs to be compared with the therapeutic effect of something else.  The term Superiority Trial is used her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trials involving a comparator treatment are called controlled trials.  The comparator is often a placebo (an active comparator drug can also be used).</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Other designs</a:t>
            </a:r>
            <a:endParaRPr b="0" lang="en-US" sz="2800" spc="-1" strike="noStrike">
              <a:solidFill>
                <a:srgbClr val="333399"/>
              </a:solidFill>
              <a:latin typeface="Tahoma"/>
            </a:endParaRPr>
          </a:p>
        </p:txBody>
      </p:sp>
      <p:sp>
        <p:nvSpPr>
          <p:cNvPr id="147" name="PlaceHolder 2"/>
          <p:cNvSpPr>
            <a:spLocks noGrp="1"/>
          </p:cNvSpPr>
          <p:nvPr>
            <p:ph/>
          </p:nvPr>
        </p:nvSpPr>
        <p:spPr>
          <a:xfrm>
            <a:off x="1182600" y="2017800"/>
            <a:ext cx="7772400" cy="3773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designs mentioned briefly includ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valence trial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inferiority trial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equivalence trial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rials involve active comparator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 definitions of equivalence, noninferiority, and bioequivalence are used in the respective study designs to permit quantitative evaluation of these concep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Parallel group design</a:t>
            </a:r>
            <a:endParaRPr b="0" lang="en-US" sz="2800" spc="-1" strike="noStrike">
              <a:solidFill>
                <a:srgbClr val="333399"/>
              </a:solidFill>
              <a:latin typeface="Tahoma"/>
            </a:endParaRPr>
          </a:p>
        </p:txBody>
      </p:sp>
      <p:sp>
        <p:nvSpPr>
          <p:cNvPr id="149"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parallel group design, one group of subjects is administered the drug (the treatment group) and a second group of subjects is administered the control compound (the control group).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luence of interest, the pharmacological effect of the drug under investigation, is therefore under the research scientist’s control, since a certain identified group of subjects receive the drug treatment while another identified group of subjects receive the control treatme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ue attention is paid to methodological and statistical considerations, especially to randomization, differential physiological responses between these treatment groups can be attributed to the difference between the drug and the control compound.</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Cross-over design</a:t>
            </a:r>
            <a:endParaRPr b="0" lang="en-US" sz="28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o the parallel group design, in which a given individual receives only one of the two treatments, subjects in a cross-over trial receive both treatments during the course of the experimen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mon and simple design is one in which half the subjects receive Treatment A first and Treatment B second, while the other half receive Treatment B first, followed by Treatment A.   A washout period in the middle is employed to ensure that all pharmacological activity of the first drug administered has finished by the time the second treatment is administered.</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tudy design means that each subject’s response to one treatment can be compared directly with the same subject’s response to the other treatme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Emotional aspects</a:t>
            </a:r>
            <a:endParaRPr b="0" lang="en-US" sz="28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ory agencies currently require animal studies to be conducted, a requirement solely intended for the protection of human subjects in clinical trials and human patients in the futur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velopment programs for all modern medicines included nonclinical research, and this will also be critical in the future development of medicines that address the most serious human diseas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ations around the world are aware of the balance of having to use animals in research and wanting to cure human disease.  A set of standards known as the “3Rs” guides research scientists: these address the reduction, refinement, and replacement of laboratory animal studi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Our focus…</a:t>
            </a:r>
            <a:endParaRPr b="0" lang="en-US" sz="2800" spc="-1" strike="noStrike">
              <a:solidFill>
                <a:srgbClr val="333399"/>
              </a:solidFill>
              <a:latin typeface="Tahoma"/>
            </a:endParaRPr>
          </a:p>
        </p:txBody>
      </p:sp>
      <p:sp>
        <p:nvSpPr>
          <p:cNvPr id="153" name="PlaceHolder 2"/>
          <p:cNvSpPr>
            <a:spLocks noGrp="1"/>
          </p:cNvSpPr>
          <p:nvPr>
            <p:ph/>
          </p:nvPr>
        </p:nvSpPr>
        <p:spPr>
          <a:xfrm>
            <a:off x="1182600" y="1828800"/>
            <a:ext cx="7772400" cy="45720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both this design and the cross-over design have advantages and disadvantages, the advantages of the parallel-group design in the types of studies we discuss mean that our focus falls on this design.</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 very common design in new drug development, and its use is well suited to illustrate the major points of interest.  </a:t>
            </a:r>
            <a:endParaRPr b="0" lang="en-US" sz="1800" spc="-1" strike="noStrike">
              <a:solidFill>
                <a:srgbClr val="000000"/>
              </a:solidFill>
              <a:latin typeface="Tahoma"/>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any cases the control group of interest is a placebo treatment group.  This is a common design employed in superiority trials, where the goal is to demonstrate that the investigational drug is safe and is superior in efficacy to the control treatment.  </a:t>
            </a:r>
            <a:endParaRPr b="0" lang="en-US" sz="1800" spc="-1" strike="noStrike">
              <a:solidFill>
                <a:srgbClr val="000000"/>
              </a:solidFill>
              <a:latin typeface="Tahoma"/>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equivalence trials and noninferiority trials the control group of interest is a treatment group in which the subjects are administered an active comparator drug.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Experimental design</a:t>
            </a:r>
            <a:endParaRPr b="0" lang="en-US" sz="2800" spc="-1" strike="noStrike">
              <a:solidFill>
                <a:srgbClr val="333399"/>
              </a:solidFill>
              <a:latin typeface="Tahoma"/>
            </a:endParaRPr>
          </a:p>
        </p:txBody>
      </p:sp>
      <p:sp>
        <p:nvSpPr>
          <p:cNvPr id="155" name="PlaceHolder 2"/>
          <p:cNvSpPr>
            <a:spLocks noGrp="1"/>
          </p:cNvSpPr>
          <p:nvPr>
            <p:ph/>
          </p:nvPr>
        </p:nvSpPr>
        <p:spPr>
          <a:xfrm>
            <a:off x="1182600" y="2017800"/>
            <a:ext cx="7772400" cy="3773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gns used in most clinical trials are actually relatively simple designs.  [Clinical trials are certainly complex, but this complexity is not a direct function of the nature of the study designs employed, but the result of other factors such as “ethics, biology, logistics, and execution” (Piantadosi, 2005).]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trials embody the following fundamental principles of experimental desig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ication: more than one experimental unit (here, subjects) is used in each treatment group to estimate variability.</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domization: to ensure validity.</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l control: performed to reduce experimental err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Simple is good…</a:t>
            </a:r>
            <a:endParaRPr b="0" lang="en-US" sz="28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design in clinical trials confers many advantage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ows investigators to satisfy ethical consideration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olates the treatment effect from confounding influenc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mizes and quantifies random error.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es selection bias and observer bias (nonrandom erro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reases the external validity of the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ifies and validates the accompanying statistical analyse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gn of superiority trials is actually relatively straightforward.  Such designs allow the collection of optimum quality data (the necessary methodology must be used) that can be analyzed by relatively simple statistical analyses to yield optimum quality answers to the research ques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Randomization</a:t>
            </a:r>
            <a:endParaRPr b="0" lang="en-US" sz="2800" spc="-1" strike="noStrike">
              <a:solidFill>
                <a:srgbClr val="333399"/>
              </a:solidFill>
              <a:latin typeface="Tahoma"/>
            </a:endParaRPr>
          </a:p>
        </p:txBody>
      </p:sp>
      <p:sp>
        <p:nvSpPr>
          <p:cNvPr id="159" name="PlaceHolder 2"/>
          <p:cNvSpPr>
            <a:spLocks noGrp="1"/>
          </p:cNvSpPr>
          <p:nvPr>
            <p:ph/>
          </p:nvPr>
        </p:nvSpPr>
        <p:spPr>
          <a:xfrm>
            <a:off x="1182600" y="1905120"/>
            <a:ext cx="7772400" cy="49528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ization is a central component of experimental design.</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volves randomly assigning experimental subjects to one of the treatment groups so that the many potential influences that cannot be controlled for (e.g., height, weight) or cannot determined by observation (e.g., specific metabolic pathway influences) are likely to be as frequent in one treatment group as they are the other.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ization occurs after a subject’s eligibility for a clinical trial has been determined, and before any experimental data are collected.  The goal is to facilitate the random assignment of subjects to different treatment groups with the intent of avoiding any selection bias in subject assignmen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ss is facilitated by generation of a randomization li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Study protocol</a:t>
            </a:r>
            <a:endParaRPr b="0" lang="en-US" sz="2800" spc="-1" strike="noStrike">
              <a:solidFill>
                <a:srgbClr val="333399"/>
              </a:solidFill>
              <a:latin typeface="Tahoma"/>
            </a:endParaRPr>
          </a:p>
        </p:txBody>
      </p:sp>
      <p:sp>
        <p:nvSpPr>
          <p:cNvPr id="161" name="PlaceHolder 2"/>
          <p:cNvSpPr>
            <a:spLocks noGrp="1"/>
          </p:cNvSpPr>
          <p:nvPr>
            <p:ph/>
          </p:nvPr>
        </p:nvSpPr>
        <p:spPr>
          <a:xfrm>
            <a:off x="1143000" y="1980720"/>
            <a:ext cx="77724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udy protocol is “the most important document in clinical trials, since it ensures the quality and integrity of the clinical investigation in terms of its planning, execution, conduct, and the analysis of the data” (Chow and Chang, 2007).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udy protocol is a comprehensive plan of action that contains information concerning the goals of the study, details of subject recruitment, details of safety monitoring, and all aspects of design, methodology, and analysi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is therefore required, for example, from clinical scientists, medical safety officers, study managers, data managers, and statisticians.  Consequently, while one clinical scientist or medical writer may take primary responsibility for its preparation, many members of the Study Team make critical contributions to i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Study protocol</a:t>
            </a:r>
            <a:endParaRPr b="0" lang="en-US" sz="2800" spc="-1" strike="noStrike">
              <a:solidFill>
                <a:srgbClr val="333399"/>
              </a:solidFill>
              <a:latin typeface="Tahoma"/>
            </a:endParaRPr>
          </a:p>
        </p:txBody>
      </p:sp>
      <p:sp>
        <p:nvSpPr>
          <p:cNvPr id="163"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f the detailed requirements of a study protocol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mary and secondary objectives.  These are stated as precisely as possi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ures of efficacy.  The criteria to be used to determine efficacy are provid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stical analysis.  The precise analytical strategy needs to be detailed, here and/or in an associated statistical analysis pla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agnosis of the disease or condition.  When subjects are required to have the disease or condition for which the drug is intended, precise diagnostic criteria are provid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sion and exclusion criteria.  These provide detailed criteria for subject eligibility for participation in the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nical and laboratory procedures.  Full details of the nature and timing of all procedures and tests are detail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ug treatment schedule.  Route of administration, dosage, and dosing regimen are detailed.  This information is also provided for the control trea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Entry criteria</a:t>
            </a:r>
            <a:endParaRPr b="0" lang="en-US" sz="28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tudy’s inclusion and exclusion criteria govern the subjects who may be admitted to the study.  Criteria for inclusion in the study may include items such as the followin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iable evidence of a diagnosis of the disease or condition of interes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ecified age rang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ingness to take measures to prevent becoming pregnant during the course of treatment.</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for exclusion from the study may include items such as the followin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ing certain medications for other reasons, and which cannot safely be stopped during the tria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cipation in another clinical trial within so many months prior to the commencement of this study.</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ver or kidney disea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Entry criteria</a:t>
            </a:r>
            <a:endParaRPr b="0" lang="en-US" sz="28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nclusion and exclusion criteria are typically provided in two separate lists in regulatory documentation, exclusion criteria can be regarded as further refinements of the inclusion criteria.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eting all the inclusion criteria allows a subject to be considered as a study participant, while not meeting any exclusion criteria is also necessary to allow the subject to become a participant.  In the language of mathematics, meeting the stated inclusion criteria is necessary but not sufficient to gain entry to the study.</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sion and exclusion criteria strictly define the nature of the subject sample that participates in a clinical trial.  Therefore, they also strictly define the study population to whom the results of the clinical trial can reasonably be generaliz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Entry criteria</a:t>
            </a: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point on the previous slide refers to a very important consider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he subjects in a given trial may or may not be a good representation of the entire population of patients with the disease or condition of interest, i.e., the population to whom we wish to generalize the results of the trial.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is issue (how well the results from clinical trials conducted before marketing approval is gained represent the safety and efficacy of the drug that will be seen once it is being taken by a large and heterogeneous patient population) will be addressed later in this presentation.  Several important topics considered between now and then permit a more detailed understanding of this iss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Protocol ideals</a:t>
            </a:r>
            <a:endParaRPr b="0" lang="en-US" sz="2800" spc="-1" strike="noStrike">
              <a:solidFill>
                <a:srgbClr val="333399"/>
              </a:solidFill>
              <a:latin typeface="Tahoma"/>
            </a:endParaRPr>
          </a:p>
        </p:txBody>
      </p:sp>
      <p:sp>
        <p:nvSpPr>
          <p:cNvPr id="171"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deal protocol is clear, concise, unambiguous, and as short as possible while maintaining its scientific integrity.  Thus, “the challenge is to maintain a balance between brevity and completeness” (Buncher and Tsay, 2006a).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necessary procedural information must be included to allow the Principal Investigators and their co-investigators and staff at each study site (investigational site) to implement the protocol exactly as intended.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s the length of the protocol increases, it is unfortunately likely that the chances of it being read and complied with in its entirety decrease commensurately after a certain point.  This means that investigator-related protocol violations become more likely, which in turn impacts statistical analyses that are conducted following the stud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Emotional aspects</a:t>
            </a:r>
            <a:endParaRPr b="0" lang="en-US" sz="2800" spc="-1" strike="noStrike">
              <a:solidFill>
                <a:srgbClr val="333399"/>
              </a:solidFill>
              <a:latin typeface="Tahoma"/>
            </a:endParaRPr>
          </a:p>
        </p:txBody>
      </p:sp>
      <p:sp>
        <p:nvSpPr>
          <p:cNvPr id="101" name="PlaceHolder 2"/>
          <p:cNvSpPr>
            <a:spLocks noGrp="1"/>
          </p:cNvSpPr>
          <p:nvPr>
            <p:ph/>
          </p:nvPr>
        </p:nvSpPr>
        <p:spPr>
          <a:xfrm>
            <a:off x="1182600" y="2209320"/>
            <a:ext cx="7772400" cy="3922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undamental principle here is that animals are only used when there is no alternativ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s have an ethical duty (and in some countries, a legal one) to check all of the available scientific literature to determine if there is an alternative way of acquiring the information that would be gained from an animal stud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ovation in any field of investigation that allows information to be gained from alternative research methodology not involving animals is welcomed by the pharmaceutical industr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Protocol ideals</a:t>
            </a:r>
            <a:endParaRPr b="0" lang="en-US" sz="28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jor reason that protocols can be (too) lengthy is that they can contain far more objectives than are actually necessary to address the goals of the particular stud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the case that the list of objectives increases excessively over time because objectives that were extremely pertinent in earlier studies are not removed from current protocols.  This is undesirable for two reason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a clear scientific and statistical benefit to having just one or maybe two primary objectiv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ere is an excess of objectives listed, methodological details relevant to these extra objectives need to be included in the protocol.  This can add considerable and unnecessary length to the protocol.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CRFs</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report forms (CRFs) are used throughout clinical trials to record data collected during a trial.  They record all of the information specified in the protocol for each subject.</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orhees and Scheipeter (2005) discussed CRF development in detail, highlighting some of the fundamental aspects of their purpose, design, and natur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l designed CRFs capture all essential scientific and regulatory information, and do not capture information that is not needed.  Collected data includes those related to study endpoints, AEs, potential confounding influences, and protocol complianc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design benefits considerably from involvement by sponsors who record information on them and statisticians who will eventually be analyzing the data.</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be clear, easy to read, able to be completed quickly and efficiently, and capture data unambiguously.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gn &amp; Methodology: Data management plan</a:t>
            </a:r>
            <a:endParaRPr b="0" lang="en-US" sz="28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ata Management Plan for a clinical trial should be written along with the Study Protocol and the Statistical Analysis Plan before the study commences.  Topics that are covered by a data management plan includ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of the CRF.</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ing data once collected.</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ing the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ing laboratory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ous adverse event (SAE) data handlin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ing reports of data and transferring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lity Assurance processes that will be implemented to ensure that all data management procedures are compliant with regulatory governan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6</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tistical Analysi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Design, Methodology, and Analysis (including Interpretation of results)</a:t>
            </a:r>
            <a:endParaRPr b="0" lang="en-US" sz="2800" spc="-1" strike="noStrike">
              <a:solidFill>
                <a:srgbClr val="333399"/>
              </a:solidFill>
              <a:latin typeface="Tahoma"/>
            </a:endParaRPr>
          </a:p>
        </p:txBody>
      </p:sp>
      <p:sp>
        <p:nvSpPr>
          <p:cNvPr id="181" name="PlaceHolder 2"/>
          <p:cNvSpPr>
            <a:spLocks noGrp="1"/>
          </p:cNvSpPr>
          <p:nvPr>
            <p:ph/>
          </p:nvPr>
        </p:nvSpPr>
        <p:spPr>
          <a:xfrm>
            <a:off x="1182600" y="2017440"/>
            <a:ext cx="7772400" cy="3392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ltimate goal of design, methodology, and analysis in the context of new drug development is to provide optimum quality research data and to determine, in a widely accepted manner, whether or not there is acceptable evidence (i.e., acceptable to a regulatory agency) that the drug under investigation is safe and effective.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re is acceptable evidence, the drug will be approved for marketing, and become available for prescription by clinicians when treating their patient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Types of clinical data</a:t>
            </a:r>
            <a:endParaRPr b="0" lang="en-US" sz="28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several types of clinical data.  This presentation is mostly concerned with continuous numerical variables, although categorical data are also discussed at some point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variables can either be continuous or discrete.  Continuous variables are measured on a continuous, uninterrupted scale, and can take any value on that scale, e.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igh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igh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od pressure and heart rate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ing on how accurately we want (or are able) to measure these variables, values containing one or more decimal points are certainly possibl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Categorical data</a:t>
            </a:r>
            <a:endParaRPr b="0" lang="en-US" sz="28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data include nominal categorical data, e.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thnicity</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of birth</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od type</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nominal variables each possibility in the categories (e.g., Caucasian, African American, Hispanic, etc.) has a unique name, but the possibilities are not ordered in any meaningful wa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nominal variable can be placed in to only one of two categories, the term dichotomous, or binary, is used.  Gender is a dichotomous variable.  Survival data where the status of the subject is classified as “Alive or not twelve months after surgery” would also be dichotomou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Ordinal variables</a:t>
            </a:r>
            <a:endParaRPr b="0" lang="en-US" sz="2800" spc="-1" strike="noStrike">
              <a:solidFill>
                <a:srgbClr val="333399"/>
              </a:solidFill>
              <a:latin typeface="Tahoma"/>
            </a:endParaRPr>
          </a:p>
        </p:txBody>
      </p:sp>
      <p:sp>
        <p:nvSpPr>
          <p:cNvPr id="18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possibilities in a category are ordered in a meaningful way, the variable is called an ordinal variable.  Even though the possibilities are non-numerical, they can be arranged in a meaningful order, e.g.:</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oeconomic level (from less to more affluent.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egorization of an adverse event as mild, moderate, or severe is also possible in an ordered fash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ss than 30 years of age, between 30 and 50, and greater than 50 years of age.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last case the original age data may well be continuous, but this representation of them involves ordinal data. If this (sometimes useful) strategy is employed, part of the unique information contained in each individual age is lost (both 35 years of age and 45 years of age, different values, are placed in the same categor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Descriptive statistics</a:t>
            </a:r>
            <a:endParaRPr b="0" lang="en-US" sz="28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categories of descriptive statistics are useful when describing (summarizing) a set of data:</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ures of central tendency (loca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ures of dispersion around that location.</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measures of central tendency include: </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the arithmetic mea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a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measures of dispersion includ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ge (using the minimum and maximum)</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nc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deviation (SD)</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Inferential statistics</a:t>
            </a:r>
            <a:endParaRPr b="0" lang="en-US" sz="28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tial Statistics provides accepted methods of analyzing data that permit statements, at various levels of confidence, of the likely existence of systematic variation in that data se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ressed another way, Inferential Statistics permits the determination of whether or not the data collected in a research study provide compelling evidence of a systematic influence on the dat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ion that inferential statistics asks and answers, then, can be framed as such:  Is there compelling evidence of systematic variation in our data? More specifically, it can be expressed as:  Is there compelling evidence in the data that the drug under investigation tends to influence variation in change in SBP in a systematic manne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kinetics</a:t>
            </a:r>
            <a:endParaRPr b="0" lang="en-US" sz="2800" spc="-1" strike="noStrike">
              <a:solidFill>
                <a:srgbClr val="333399"/>
              </a:solidFill>
              <a:latin typeface="Tahoma"/>
            </a:endParaRPr>
          </a:p>
        </p:txBody>
      </p:sp>
      <p:sp>
        <p:nvSpPr>
          <p:cNvPr id="103"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linical pharmacokinetic investigation is helpful when interpreting the data from safety (pharmacological) studies, and it also provides support for toxicology studi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nonhuman pharmacokinetic parameters are not perfectly predictive of human pharmacokinetics, they do constitute meaningful quantitative data that improve the chances of selecting the correct range of safe doses to test in humans.  This dose selection is critically important to the success of clinical trial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orption, distribution, metabolism, and elimination are all investigated in nonclinical re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Systematic variation</a:t>
            </a:r>
            <a:endParaRPr b="0" lang="en-US" sz="28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 variation refers to a pattern in the data that is due to an identifiable source of influen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anges in SBP observed for subjects in the drug treatment group vary in a systematic manner from the changes in SBP observed for subjects in the placebo treatment group, this systematic variation can attributed to the drug administered if correct research methodology has been employed in the clinical trial.</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ct research methodology facilitates this attribution since it isolates the type of drug administered as the only influence that differs between the group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Variation between and within treatment groups</a:t>
            </a:r>
            <a:endParaRPr b="0" lang="en-US" sz="28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types of variation facilitate the evaluation of potential differential responses in two treatment group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tween-group variation (“effect” varia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in-group variation (error” variation).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ween-group variation represents the variation (possibly systematic variation) between the treatment groups that is associated with the compound administered to the each treatment group.</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in-group variation represents the variation in SBP responses within each treatment group that is due to chance, i.e., random variation that is not caused by the compound administered to the treatment group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Variation between and within treatment groups</a:t>
            </a:r>
            <a:endParaRPr b="0" lang="en-US" sz="28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 variance is directly associated with the treatment administered, while the error variance is due to chance alon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rger the effect variance when compared with the error variance, the more likely it is that compelling evidence of systematic variation will be revealed by inferential statistical analy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ful way to compare any two quantities is to form a ratio by dividing one by the other.  Since evaluation of the effect variance is the primary goal, this term is divided by the error variance.  This results in the equation presented on the next slid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Variation between and within treatment groups</a:t>
            </a:r>
            <a:endParaRPr b="0" lang="en-US" sz="28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interest   = </a:t>
            </a:r>
            <a:r>
              <a:rPr b="0" lang="en-US" sz="2000" spc="-1" strike="noStrike" u="sng">
                <a:solidFill>
                  <a:srgbClr val="000000"/>
                </a:solidFill>
                <a:uFillTx/>
                <a:latin typeface="Tahoma"/>
              </a:rPr>
              <a:t>Effect Varianc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rror Varianc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hree possibilities once this ratio has been calculated:</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effect variance is larger than the error variance, this ratio will produce a value that is larger than 1.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effect variance were to be the same as the error variance (an extremely unlikely occurrence), the ratio would produce a value exactly equal to 1.</a:t>
            </a:r>
            <a:endParaRPr b="0" lang="en-US" sz="20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effect variance is smaller than the error variance, this ratio will produce a value that is less than 1.</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Probability</a:t>
            </a:r>
            <a:endParaRPr b="0" lang="en-US" sz="28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ituations where certainty is not possible, it can be helpful to assess how likely it is that something will occu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ntification of this likelihood is particularly helpful in statistical analysi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pt of probability is used in everyday language, if rather more loosely than in Statistics.  The statement “I’ll probably be there on Saturday” involves a probabilistic statement, but there is no precise degree of quantification.  If you know the individual making this statement, past experience may lead you to an informed judgment concerning the relative meaning of “probably,” but this is a subjective judgment, not a quantitative stat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Probability</a:t>
            </a:r>
            <a:endParaRPr b="0" lang="en-US" sz="2800" spc="-1" strike="noStrike">
              <a:solidFill>
                <a:srgbClr val="333399"/>
              </a:solidFill>
              <a:latin typeface="Tahoma"/>
            </a:endParaRPr>
          </a:p>
        </p:txBody>
      </p:sp>
      <p:sp>
        <p:nvSpPr>
          <p:cNvPr id="203"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tatistics, a probability is a numerical quantity between zero and one that expresses the likely occurrence of a future ev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bability of zero denotes that the event will not (cannot) occur.  A probability of one denotes that the event will undoubtedly occu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numerical value between zero and one expresses a relative likelihood of an event occurring.  The decimal expression of a probability value can be multiplied by 100 to create a percentage statement of likelihoo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relevance for later discussions, probabilities of 0.05 and 0.01 would be expressed as a 5% chance and a 1% chance, respectively, that an event would occu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The “Normal distribution”</a:t>
            </a:r>
            <a:endParaRPr b="0" lang="en-US" sz="28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rmal distribution has several notable properties: </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ighest point of the Normal curve occurs for the mean of the population.  The properties of the Normal distribution ensure that this point is also the median value and the mode.</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hape of the Normal curve (relatively narrow or relatively broad) is influenced by the SD of the data.  The sides of the curve descend more gently as the SD increases, and more steeply as it decreases.</a:t>
            </a:r>
            <a:endParaRPr b="0" lang="en-US" sz="1800" spc="-1" strike="noStrike">
              <a:solidFill>
                <a:srgbClr val="000000"/>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 distance of approximately ± 2 SDs from the mean, the slopes of the downward curves change from a relatively smooth downward slope to a curve that extends out to infinity, and thus never quite reaches the x-axis.  For practical purposes, the curve is often regarded as intercepting the x-axis at a distance of ± 3 SDs from the mean, but this is an approxim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al Analysis: The “Normal distribution”</a:t>
            </a:r>
            <a:endParaRPr b="0" lang="en-US" sz="2800" spc="-1" strike="noStrike">
              <a:solidFill>
                <a:srgbClr val="333399"/>
              </a:solidFill>
              <a:latin typeface="Tahoma"/>
            </a:endParaRPr>
          </a:p>
        </p:txBody>
      </p:sp>
      <p:sp>
        <p:nvSpPr>
          <p:cNvPr id="207" name="PlaceHolder 2"/>
          <p:cNvSpPr>
            <a:spLocks noGrp="1"/>
          </p:cNvSpPr>
          <p:nvPr>
            <p:ph/>
          </p:nvPr>
        </p:nvSpPr>
        <p:spPr>
          <a:xfrm>
            <a:off x="1182600" y="2017440"/>
            <a:ext cx="7772400" cy="34686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lso of interest to know the proportion of the total area under the curve (AUC) that lies between two points that are equidistant from the mean.  These points are typically represented by multiples of the SD.  From the properties of the mathematical equation that governs the shape of Normal curve, it can be shown th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of the AUC lies between the mean </a:t>
            </a:r>
            <a:r>
              <a:rPr b="0" lang="en-US" sz="1800" spc="-1" strike="noStrike" u="sng">
                <a:solidFill>
                  <a:srgbClr val="000000"/>
                </a:solidFill>
                <a:uFillTx/>
                <a:latin typeface="Tahoma"/>
              </a:rPr>
              <a:t>+</a:t>
            </a:r>
            <a:r>
              <a:rPr b="0" lang="en-US" sz="1800" spc="-1" strike="noStrike">
                <a:solidFill>
                  <a:srgbClr val="000000"/>
                </a:solidFill>
                <a:latin typeface="Tahoma"/>
              </a:rPr>
              <a:t> 1.645 SD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5% of the AUC lies between the mean </a:t>
            </a:r>
            <a:r>
              <a:rPr b="0" lang="en-US" sz="1800" spc="-1" strike="noStrike" u="sng">
                <a:solidFill>
                  <a:srgbClr val="000000"/>
                </a:solidFill>
                <a:uFillTx/>
                <a:latin typeface="Tahoma"/>
              </a:rPr>
              <a:t>+</a:t>
            </a:r>
            <a:r>
              <a:rPr b="0" lang="en-US" sz="1800" spc="-1" strike="noStrike">
                <a:solidFill>
                  <a:srgbClr val="000000"/>
                </a:solidFill>
                <a:latin typeface="Tahoma"/>
              </a:rPr>
              <a:t> 1.960 SD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9% of the AUC lies between the mean </a:t>
            </a:r>
            <a:r>
              <a:rPr b="0" lang="en-US" sz="1800" spc="-1" strike="noStrike" u="sng">
                <a:solidFill>
                  <a:srgbClr val="000000"/>
                </a:solidFill>
                <a:uFillTx/>
                <a:latin typeface="Tahoma"/>
              </a:rPr>
              <a:t>+</a:t>
            </a:r>
            <a:r>
              <a:rPr b="0" lang="en-US" sz="1800" spc="-1" strike="noStrike">
                <a:solidFill>
                  <a:srgbClr val="000000"/>
                </a:solidFill>
                <a:latin typeface="Tahoma"/>
              </a:rPr>
              <a:t> 2.576 S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kinetics</a:t>
            </a:r>
            <a:endParaRPr b="0" lang="en-US" sz="2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orption addresses the transfer of the drug compound from the site of administration into the bloodstream.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ies here are typically single dose studies.  Repeat dose studies will be done, but they often fall under the heading of toxicology studies (see later in this presentati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ame animal species is used in these studies as is used in pharmacological and toxicological studies, and the route of drug administration is typically the route intended for use in clinical studi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kinetics</a:t>
            </a:r>
            <a:endParaRPr b="0" lang="en-US" sz="2800" spc="-1" strike="noStrike">
              <a:solidFill>
                <a:srgbClr val="333399"/>
              </a:solidFill>
              <a:latin typeface="Tahoma"/>
            </a:endParaRPr>
          </a:p>
        </p:txBody>
      </p:sp>
      <p:sp>
        <p:nvSpPr>
          <p:cNvPr id="107" name="PlaceHolder 2"/>
          <p:cNvSpPr>
            <a:spLocks noGrp="1"/>
          </p:cNvSpPr>
          <p:nvPr>
            <p:ph/>
          </p:nvPr>
        </p:nvSpPr>
        <p:spPr>
          <a:xfrm>
            <a:off x="1182600" y="2017440"/>
            <a:ext cx="7772400" cy="3544920"/>
          </a:xfrm>
          <a:prstGeom prst="rect">
            <a:avLst/>
          </a:prstGeom>
          <a:noFill/>
          <a:ln w="0">
            <a:noFill/>
          </a:ln>
        </p:spPr>
        <p:txBody>
          <a:bodyPr lIns="90000" rIns="90000" tIns="46800" bIns="46800"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lasma concentration-time profile is informative here.  Parameters include: </a:t>
            </a:r>
            <a:endParaRPr b="0" lang="en-US" sz="20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max</a:t>
            </a:r>
            <a:r>
              <a:rPr b="0" lang="en-US" sz="1800" spc="-1" strike="noStrike">
                <a:solidFill>
                  <a:srgbClr val="000000"/>
                </a:solidFill>
                <a:latin typeface="Tahoma"/>
              </a:rPr>
              <a:t>: The maximum concentration or maximum systemic exposure.</a:t>
            </a:r>
            <a:endParaRPr b="0" lang="en-US" sz="18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max</a:t>
            </a:r>
            <a:r>
              <a:rPr b="0" lang="en-US" sz="1800" spc="-1" strike="noStrike">
                <a:solidFill>
                  <a:srgbClr val="000000"/>
                </a:solidFill>
                <a:latin typeface="Tahoma"/>
              </a:rPr>
              <a:t>: The time of maximum concentration or time of maximum exposure.</a:t>
            </a:r>
            <a:endParaRPr b="0" lang="en-US" sz="18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r>
              <a:rPr b="0" lang="en-US" sz="1800" spc="-1" strike="noStrike" baseline="-25000">
                <a:solidFill>
                  <a:srgbClr val="000000"/>
                </a:solidFill>
                <a:latin typeface="Tahoma"/>
              </a:rPr>
              <a:t>½</a:t>
            </a:r>
            <a:r>
              <a:rPr b="0" lang="en-US" sz="1800" spc="-1" strike="noStrike">
                <a:solidFill>
                  <a:srgbClr val="000000"/>
                </a:solidFill>
                <a:latin typeface="Tahoma"/>
              </a:rPr>
              <a:t>, Half-life:  The time required to reduce the plasma concentration to one half of its initial value.</a:t>
            </a:r>
            <a:endParaRPr b="0" lang="en-US" sz="1800" spc="-1" strike="noStrike">
              <a:solidFill>
                <a:srgbClr val="000000"/>
              </a:solidFill>
              <a:latin typeface="Tahoma"/>
            </a:endParaRPr>
          </a:p>
          <a:p>
            <a:pPr lvl="1" marL="705600" indent="-2714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C (Area under the plasma-concentration curve over all time):    A measure of total systemic exposure.  AUC</a:t>
            </a:r>
            <a:r>
              <a:rPr b="0" lang="en-US" sz="1800" spc="-1" strike="noStrike" baseline="-25000">
                <a:solidFill>
                  <a:srgbClr val="000000"/>
                </a:solidFill>
                <a:latin typeface="Tahoma"/>
              </a:rPr>
              <a:t>(0-t)</a:t>
            </a:r>
            <a:r>
              <a:rPr b="0" lang="en-US" sz="1800" spc="-1" strike="noStrike">
                <a:solidFill>
                  <a:srgbClr val="000000"/>
                </a:solidFill>
                <a:latin typeface="Tahoma"/>
              </a:rPr>
              <a:t> denotes the area under the curve from zero to any time point 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kinetics</a:t>
            </a:r>
            <a:endParaRPr b="0" lang="en-US" sz="2800" spc="-1" strike="noStrike">
              <a:solidFill>
                <a:srgbClr val="333399"/>
              </a:solidFill>
              <a:latin typeface="Tahoma"/>
            </a:endParaRPr>
          </a:p>
        </p:txBody>
      </p:sp>
      <p:sp>
        <p:nvSpPr>
          <p:cNvPr id="109"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ssue distribution studies are essential in providing information on distribution and accumulation of the compound and/or metabolites, especially in relation to potential sites of action.</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addresses the transfer of the drug compound from the site of administration to the systemic circulation and then to bodily tissues.  Both </a:t>
            </a:r>
            <a:r>
              <a:rPr b="0" i="1" lang="en-US" sz="2000" spc="-1" strike="noStrike">
                <a:solidFill>
                  <a:srgbClr val="000000"/>
                </a:solidFill>
                <a:latin typeface="Tahoma"/>
              </a:rPr>
              <a:t>in vitro</a:t>
            </a:r>
            <a:r>
              <a:rPr b="0" lang="en-US" sz="2000" spc="-1" strike="noStrike">
                <a:solidFill>
                  <a:srgbClr val="000000"/>
                </a:solidFill>
                <a:latin typeface="Tahoma"/>
              </a:rPr>
              <a:t> and </a:t>
            </a:r>
            <a:r>
              <a:rPr b="0" i="1" lang="en-US" sz="2000" spc="-1" strike="noStrike">
                <a:solidFill>
                  <a:srgbClr val="000000"/>
                </a:solidFill>
                <a:latin typeface="Tahoma"/>
              </a:rPr>
              <a:t>in vivo</a:t>
            </a:r>
            <a:r>
              <a:rPr b="0" lang="en-US" sz="2000" spc="-1" strike="noStrike">
                <a:solidFill>
                  <a:srgbClr val="000000"/>
                </a:solidFill>
                <a:latin typeface="Tahoma"/>
              </a:rPr>
              <a:t> studies are informative here.  </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 vitro</a:t>
            </a:r>
            <a:r>
              <a:rPr b="0" lang="en-US" sz="2000" spc="-1" strike="noStrike">
                <a:solidFill>
                  <a:srgbClr val="000000"/>
                </a:solidFill>
                <a:latin typeface="Tahoma"/>
              </a:rPr>
              <a:t> studies, for example, examine plasma protein binding.  </a:t>
            </a:r>
            <a:r>
              <a:rPr b="0" i="1" lang="en-US" sz="2000" spc="-1" strike="noStrike">
                <a:solidFill>
                  <a:srgbClr val="000000"/>
                </a:solidFill>
                <a:latin typeface="Tahoma"/>
              </a:rPr>
              <a:t>In vivo</a:t>
            </a:r>
            <a:r>
              <a:rPr b="0" lang="en-US" sz="2000" spc="-1" strike="noStrike">
                <a:solidFill>
                  <a:srgbClr val="000000"/>
                </a:solidFill>
                <a:latin typeface="Tahoma"/>
              </a:rPr>
              <a:t> studies use who body autoradiography that can display visually how much drug has reached different parts of the body.</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er of the drug compound in milk to an infant and across the placenta is also studi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onclinical Research: Pharmacokinetics</a:t>
            </a:r>
            <a:endParaRPr b="0" lang="en-US" sz="28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retion concerns the removal of the drug compound from the bod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he original (parent) drug compound and its metabolites can be excrete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imary mode of investigation here is excretion balance studies.  Radiolabeled drug compound is administered and radioactivity is then measured from excretion sites (e.g., urine, feces, expired ai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studies provide information on which organs are involved in excretion and the time course of excre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20:15:06Z</dcterms:created>
  <dc:creator>turnerr</dc:creator>
  <dc:description/>
  <dc:language>en-US</dc:language>
  <cp:lastModifiedBy>turnerr</cp:lastModifiedBy>
  <dcterms:modified xsi:type="dcterms:W3CDTF">2007-06-14T14:07:50Z</dcterms:modified>
  <cp:revision>4</cp:revision>
  <dc:subject/>
  <dc:title>Chapter 4</dc:title>
</cp:coreProperties>
</file>