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1219320" y="6248520"/>
            <a:ext cx="7696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2007 by John Wiley &amp; Son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ftr" idx="2"/>
          </p:nvPr>
        </p:nvSpPr>
        <p:spPr>
          <a:xfrm>
            <a:off x="1447920" y="6248520"/>
            <a:ext cx="62481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7 by John Wiley &amp; Son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7 </a:t>
            </a: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tistical Significance</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mp; </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ypothesis Testing</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Statistical significance</a:t>
            </a:r>
            <a:endParaRPr b="0" lang="en-US" sz="28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e end of all hypothesis testing, the statistical significance (or not) of the result determines which one of two possible courses of action we tak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reject the null hypothesis (in favor of the research hypothesis) if we obtain a statistically significant difference between the group mean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fail to reject the null hypothesis if we do not obtain a statistically significant difference between the group means.</a:t>
            </a:r>
            <a:endParaRPr b="0"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lways take one of these two courses of action in hypothesis testing:  We never fail to take one of them, and we never take both of them.</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Statistical significance</a:t>
            </a:r>
            <a:endParaRPr b="0" lang="en-US" sz="2800" spc="-1" strike="noStrike">
              <a:solidFill>
                <a:srgbClr val="333399"/>
              </a:solidFill>
              <a:latin typeface="Tahoma"/>
            </a:endParaRPr>
          </a:p>
        </p:txBody>
      </p:sp>
      <p:sp>
        <p:nvSpPr>
          <p:cNvPr id="115"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evious slide was critically important in understanding the process of hypothesis testing, and it is worth emphasizing this material:</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pothesis testing revolves around two actions following an appropriate statistical analysis: rejecting the null hypothesis, or failing to reject the null hypothesis.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stical methodology necessitates a choice being made here: it is a forced choice paradigm.  One of these two actions—rejecting the null hypothesis or failing to reject the null hypothesis—will occur at the end of all hypothesis testing.  </a:t>
            </a:r>
            <a:endParaRPr b="0"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xt few slides explain the rationale behind the strategy of either rejecting the null hypothesis or failing to reject the null hypothes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est statistics</a:t>
            </a:r>
            <a:endParaRPr b="0" lang="en-US" sz="28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tion taken at the end of hypothesis testing, i.e., rejecting the null hypothesis or failing to reject the  null hypothesis (the repetition of this point is intentional) is determined by the statistical significance of the test statistic obtained in the statistical analysis conducted.</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gnitude of test statistic obtained determines whether the result of the statistical test attains statistical significance or not.</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two common tests are the </a:t>
            </a:r>
            <a:r>
              <a:rPr b="0" i="1" lang="en-US" sz="2000" spc="-1" strike="noStrike">
                <a:solidFill>
                  <a:srgbClr val="000000"/>
                </a:solidFill>
                <a:latin typeface="Tahoma"/>
              </a:rPr>
              <a:t>t</a:t>
            </a:r>
            <a:r>
              <a:rPr b="0" lang="en-US" sz="2000" spc="-1" strike="noStrike">
                <a:solidFill>
                  <a:srgbClr val="000000"/>
                </a:solidFill>
                <a:latin typeface="Tahoma"/>
              </a:rPr>
              <a:t>-test and analysis of variance (ANOVA):  </a:t>
            </a:r>
            <a:endParaRPr b="0" lang="en-US" sz="20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t</a:t>
            </a:r>
            <a:r>
              <a:rPr b="0" lang="en-US" sz="1800" spc="-1" strike="noStrike">
                <a:solidFill>
                  <a:srgbClr val="000000"/>
                </a:solidFill>
                <a:latin typeface="Tahoma"/>
              </a:rPr>
              <a:t>-tests result in a test statistic called </a:t>
            </a:r>
            <a:r>
              <a:rPr b="0" i="1" lang="en-US" sz="1800" spc="-1" strike="noStrike">
                <a:solidFill>
                  <a:srgbClr val="000000"/>
                </a:solidFill>
                <a:latin typeface="Tahoma"/>
              </a:rPr>
              <a:t>t</a:t>
            </a:r>
            <a:endParaRPr b="0" lang="en-US" sz="18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OVA results in a test statistic called </a:t>
            </a:r>
            <a:r>
              <a:rPr b="0" i="1" lang="en-US" sz="1800" spc="-1" strike="noStrike">
                <a:solidFill>
                  <a:srgbClr val="000000"/>
                </a:solidFill>
                <a:latin typeface="Tahoma"/>
              </a:rPr>
              <a:t>F</a:t>
            </a:r>
            <a:endParaRPr b="0" lang="en-US" sz="18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dependent-groups </a:t>
            </a:r>
            <a:r>
              <a:rPr b="0" i="1" lang="en-US" sz="2000" spc="-1" strike="noStrike">
                <a:solidFill>
                  <a:srgbClr val="000000"/>
                </a:solidFill>
                <a:latin typeface="Tahoma"/>
              </a:rPr>
              <a:t>t</a:t>
            </a:r>
            <a:r>
              <a:rPr b="0" lang="en-US" sz="2000" spc="-1" strike="noStrike">
                <a:solidFill>
                  <a:srgbClr val="000000"/>
                </a:solidFill>
                <a:latin typeface="Tahoma"/>
              </a:rPr>
              <a:t>-test is appropriate for analyzing the results of parallel group design studies employing two treatment group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rug treatment group and the placebo treatment group are formed via randomization, and subjects in each group receive one treatment or the other.  The two groups of subjects are therefore independe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rollary of this observation is that the independent-groups   </a:t>
            </a:r>
            <a:r>
              <a:rPr b="0" i="1" lang="en-US" sz="2000" spc="-1" strike="noStrike">
                <a:solidFill>
                  <a:srgbClr val="000000"/>
                </a:solidFill>
                <a:latin typeface="Tahoma"/>
              </a:rPr>
              <a:t>t</a:t>
            </a:r>
            <a:r>
              <a:rPr b="0" lang="en-US" sz="2000" spc="-1" strike="noStrike">
                <a:solidFill>
                  <a:srgbClr val="000000"/>
                </a:solidFill>
                <a:latin typeface="Tahoma"/>
              </a:rPr>
              <a:t>-test can be used when the numbers of subjects in the two treatment groups are different: the number of subjects in each treatment group is taken into account in the calculations involved in this tes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 does not address the computational details (the full conceptual strategy is shown in the accompanying book).  Rather, it explains what the results presented at the end of a </a:t>
            </a:r>
            <a:r>
              <a:rPr b="0" i="1" lang="en-US" sz="2000" spc="-1" strike="noStrike">
                <a:solidFill>
                  <a:srgbClr val="000000"/>
                </a:solidFill>
                <a:latin typeface="Tahoma"/>
              </a:rPr>
              <a:t>t</a:t>
            </a:r>
            <a:r>
              <a:rPr b="0" lang="en-US" sz="2000" spc="-1" strike="noStrike">
                <a:solidFill>
                  <a:srgbClr val="000000"/>
                </a:solidFill>
                <a:latin typeface="Tahoma"/>
              </a:rPr>
              <a:t>-test mea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a (very small) trial in which 10 subjects receive the drug treatment and 11 receive the placebo treatment.  The total number of subjects is 21.  This translates into 19 degrees of freedom or df.  (Note: It is not common to see dfs actually presented in clinical reports, but there are “there” nonethele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now that the mean decrease in SBP for subjects in the drug treatment group is 5.00 mmHg, and is 2.00 mmHg for the placebo treatment grou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ffect size is defined as the difference between the  treatment group means: here it is 3.00 mmHg.</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there is an arithmetic difference between the treatment groups in terms of mean decrease in SBP.  The question of interest is: Is there a statistically </a:t>
            </a:r>
            <a:r>
              <a:rPr b="1" lang="en-US" sz="2000" spc="-1" strike="noStrike">
                <a:solidFill>
                  <a:srgbClr val="000000"/>
                </a:solidFill>
                <a:latin typeface="Tahoma"/>
              </a:rPr>
              <a:t>significant difference</a:t>
            </a:r>
            <a:r>
              <a:rPr b="0" lang="en-US" sz="2000" spc="-1" strike="noStrike">
                <a:solidFill>
                  <a:srgbClr val="000000"/>
                </a:solidFill>
                <a:latin typeface="Tahoma"/>
              </a:rPr>
              <a:t> between the treatment groups?</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cessary calculations here produce the following result:</a:t>
            </a:r>
            <a:endParaRPr b="0" lang="en-US" sz="20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t </a:t>
            </a:r>
            <a:r>
              <a:rPr b="0" lang="en-US" sz="1800" spc="-1" strike="noStrike">
                <a:solidFill>
                  <a:srgbClr val="000000"/>
                </a:solidFill>
                <a:latin typeface="Tahoma"/>
              </a:rPr>
              <a:t>(19) = 3.27, </a:t>
            </a:r>
            <a:r>
              <a:rPr b="0" i="1" lang="en-US" sz="1800" spc="-1" strike="noStrike">
                <a:solidFill>
                  <a:srgbClr val="000000"/>
                </a:solidFill>
                <a:latin typeface="Tahoma"/>
              </a:rPr>
              <a:t>p</a:t>
            </a:r>
            <a:r>
              <a:rPr b="0" lang="en-US" sz="1800" spc="-1" strike="noStrike">
                <a:solidFill>
                  <a:srgbClr val="000000"/>
                </a:solidFill>
                <a:latin typeface="Tahoma"/>
              </a:rPr>
              <a:t>=0.004</a:t>
            </a:r>
            <a:endParaRPr b="0" lang="en-US" sz="1800" spc="-1" strike="noStrike">
              <a:solidFill>
                <a:srgbClr val="000000"/>
              </a:solidFill>
              <a:latin typeface="Tahom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interpret this result?  From now on, all that matters is the </a:t>
            </a:r>
            <a:r>
              <a:rPr b="0" i="1" lang="en-US" sz="2000" spc="-1" strike="noStrike">
                <a:solidFill>
                  <a:srgbClr val="000000"/>
                </a:solidFill>
                <a:latin typeface="Tahoma"/>
              </a:rPr>
              <a:t>p</a:t>
            </a:r>
            <a:r>
              <a:rPr b="0" lang="en-US" sz="2000" spc="-1" strike="noStrike">
                <a:solidFill>
                  <a:srgbClr val="000000"/>
                </a:solidFill>
                <a:latin typeface="Tahoma"/>
              </a:rPr>
              <a:t>-value: The df and the actual magnitude of the test statistic </a:t>
            </a:r>
            <a:r>
              <a:rPr b="0" i="1" lang="en-US" sz="2000" spc="-1" strike="noStrike">
                <a:solidFill>
                  <a:srgbClr val="000000"/>
                </a:solidFill>
                <a:latin typeface="Tahoma"/>
              </a:rPr>
              <a:t>t</a:t>
            </a:r>
            <a:r>
              <a:rPr b="0" lang="en-US" sz="2000" spc="-1" strike="noStrike">
                <a:solidFill>
                  <a:srgbClr val="000000"/>
                </a:solidFill>
                <a:latin typeface="Tahoma"/>
              </a:rPr>
              <a:t> were necessary only to determine the </a:t>
            </a:r>
            <a:r>
              <a:rPr b="0" i="1" lang="en-US" sz="2000" spc="-1" strike="noStrike">
                <a:solidFill>
                  <a:srgbClr val="000000"/>
                </a:solidFill>
                <a:latin typeface="Tahoma"/>
              </a:rPr>
              <a:t>p</a:t>
            </a:r>
            <a:r>
              <a:rPr b="0" lang="en-US" sz="2000" spc="-1" strike="noStrike">
                <a:solidFill>
                  <a:srgbClr val="000000"/>
                </a:solidFill>
                <a:latin typeface="Tahoma"/>
              </a:rPr>
              <a:t>-value.</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any time that we obtain a p-value less than 0.05 we typically declare the result statistically significant.  [More conservative values can certainly be used at our discre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i="1" lang="en-US" sz="2000" spc="-1" strike="noStrike">
                <a:solidFill>
                  <a:srgbClr val="000000"/>
                </a:solidFill>
                <a:latin typeface="Tahoma"/>
              </a:rPr>
              <a:t>p</a:t>
            </a:r>
            <a:r>
              <a:rPr b="0" lang="en-US" sz="2000" spc="-1" strike="noStrike">
                <a:solidFill>
                  <a:srgbClr val="000000"/>
                </a:solidFill>
                <a:latin typeface="Tahoma"/>
              </a:rPr>
              <a:t>-value here is 0.004, and so this result will be declared statistically significan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ing at the two treatment means (which led to a treatment effect of 3.00 mmHg) we can see that the drug alters SBP more than the placebo.  Moreover, it now becomes possible to state that the drug alters SBP </a:t>
            </a:r>
            <a:r>
              <a:rPr b="1" lang="en-US" sz="2000" spc="-1" strike="noStrike">
                <a:solidFill>
                  <a:srgbClr val="000000"/>
                </a:solidFill>
                <a:latin typeface="Tahoma"/>
              </a:rPr>
              <a:t>statistically significantly</a:t>
            </a:r>
            <a:r>
              <a:rPr b="0" lang="en-US" sz="2000" spc="-1" strike="noStrike">
                <a:solidFill>
                  <a:srgbClr val="000000"/>
                </a:solidFill>
                <a:latin typeface="Tahoma"/>
              </a:rPr>
              <a:t> more than the placeb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s look at exactly what we mean by thi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Meaning of the </a:t>
            </a:r>
            <a:r>
              <a:rPr b="0" i="1" lang="en-US" sz="2800" spc="-1" strike="noStrike">
                <a:solidFill>
                  <a:srgbClr val="333399"/>
                </a:solidFill>
                <a:latin typeface="Tahoma"/>
              </a:rPr>
              <a:t>p</a:t>
            </a:r>
            <a:r>
              <a:rPr b="0" lang="en-US" sz="2800" spc="-1" strike="noStrike">
                <a:solidFill>
                  <a:srgbClr val="333399"/>
                </a:solidFill>
                <a:latin typeface="Tahoma"/>
              </a:rPr>
              <a:t>-value</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i="1" lang="en-US" sz="2000" spc="-1" strike="noStrike">
                <a:solidFill>
                  <a:srgbClr val="000000"/>
                </a:solidFill>
                <a:latin typeface="Tahoma"/>
              </a:rPr>
              <a:t>p</a:t>
            </a:r>
            <a:r>
              <a:rPr b="0" lang="en-US" sz="2000" spc="-1" strike="noStrike">
                <a:solidFill>
                  <a:srgbClr val="000000"/>
                </a:solidFill>
                <a:latin typeface="Tahoma"/>
              </a:rPr>
              <a:t>-value that occurs at the end of hypothesis testing is the probability of finding an effect size of that magnitude, or greater, if the null hypothesis were tr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i="1" lang="en-US" sz="2000" spc="-1" strike="noStrike">
                <a:solidFill>
                  <a:srgbClr val="000000"/>
                </a:solidFill>
                <a:latin typeface="Tahoma"/>
              </a:rPr>
              <a:t>p</a:t>
            </a:r>
            <a:r>
              <a:rPr b="0" lang="en-US" sz="2000" spc="-1" strike="noStrike">
                <a:solidFill>
                  <a:srgbClr val="000000"/>
                </a:solidFill>
                <a:latin typeface="Tahoma"/>
              </a:rPr>
              <a:t>-value that is less than 0.05 means that, if the null hypothesis were true, the chance of finding an effect size of the magnitude seen, or greater, would be less than 5%.</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is, if the null hypothesis were true, it would be unlikely to find an effect size of 3.00 mmH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i="1" lang="en-US" sz="2000" spc="-1" strike="noStrike">
                <a:solidFill>
                  <a:srgbClr val="000000"/>
                </a:solidFill>
                <a:latin typeface="Tahoma"/>
              </a:rPr>
              <a:t>p</a:t>
            </a:r>
            <a:r>
              <a:rPr b="0" lang="en-US" sz="2000" spc="-1" strike="noStrike">
                <a:solidFill>
                  <a:srgbClr val="000000"/>
                </a:solidFill>
                <a:latin typeface="Tahoma"/>
              </a:rPr>
              <a:t>-value less than 0.05 is considered by convention to be sufficient statistical evidence to reject the null hypothesis in favor of the alternate hypothes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29" name="PlaceHolder 2"/>
          <p:cNvSpPr>
            <a:spLocks noGrp="1"/>
          </p:cNvSpPr>
          <p:nvPr>
            <p:ph/>
          </p:nvPr>
        </p:nvSpPr>
        <p:spPr>
          <a:xfrm>
            <a:off x="1182600" y="1828800"/>
            <a:ext cx="7772400" cy="4648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he following hypothetical results:</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SBP decrease for the drug treatment group=8.1 mmHg;</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SBP decrease for the placebo treatment group=1.9 mmHg;</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ffect size (difference between the treatment group means)     =6.2 mmHg</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a:t>
            </a:r>
            <a:r>
              <a:rPr b="0" lang="en-US" sz="1800" spc="-1" strike="noStrike">
                <a:solidFill>
                  <a:srgbClr val="000000"/>
                </a:solidFill>
                <a:latin typeface="Tahoma"/>
              </a:rPr>
              <a:t>-value = 0.020</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essage conveyed by these result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i="1" lang="en-US" sz="2000" spc="-1" strike="noStrike">
                <a:solidFill>
                  <a:srgbClr val="000000"/>
                </a:solidFill>
                <a:latin typeface="Tahoma"/>
              </a:rPr>
              <a:t>p</a:t>
            </a:r>
            <a:r>
              <a:rPr b="0" lang="en-US" sz="2000" spc="-1" strike="noStrike">
                <a:solidFill>
                  <a:srgbClr val="000000"/>
                </a:solidFill>
                <a:latin typeface="Tahoma"/>
              </a:rPr>
              <a:t>-value that occurs at the end of hypothesis testing is the probability of finding a difference of that size, or greater, between the drug treatment group mean change score and the placebo treatment group mean change score if the null hypothesis were true.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cepted cut-off for statistical significance is p&lt;0.05.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31"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i="1" lang="en-US" sz="2000" spc="-1" strike="noStrike">
                <a:solidFill>
                  <a:srgbClr val="000000"/>
                </a:solidFill>
                <a:latin typeface="Tahoma"/>
              </a:rPr>
              <a:t>p</a:t>
            </a:r>
            <a:r>
              <a:rPr b="0" lang="en-US" sz="2000" spc="-1" strike="noStrike">
                <a:solidFill>
                  <a:srgbClr val="000000"/>
                </a:solidFill>
                <a:latin typeface="Tahoma"/>
              </a:rPr>
              <a:t>-value of 0.020 tells us that if the null hypothesis were true, the chance of getting a group difference of 6.2 mmHg is 2%.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is, if the null hypothesis were true, there is only a 2% chance (less than a 5% chance) of obtaining this result.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unlikely occurrence of this result if the null hypothesis were true, the null hypothesis is rejected, and a statement made that, based on the subject sample used in this study, there is statistically compelling evidence that the drug would lower SBP in the general population of hypertensive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generalization from the subject sample to the general population is facilitated by the statistically significant find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troduction</a:t>
            </a:r>
            <a:endParaRPr b="0" lang="en-US" sz="2800" spc="-1" strike="noStrike">
              <a:solidFill>
                <a:srgbClr val="333399"/>
              </a:solidFill>
              <a:latin typeface="Tahoma"/>
            </a:endParaRPr>
          </a:p>
        </p:txBody>
      </p:sp>
      <p:sp>
        <p:nvSpPr>
          <p:cNvPr id="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of the basic approaches in new drug development is to administer the test drug to one group of subjects, a placebo to another, and then see if the responses to the drug are, on average, different from those to the placebo.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a widely accepted answer to the question “Are the responses different?” requires framing the question in statistical language.  Statistical techniques can then provide a quantitative determination of whether or not the responses seen in the sample likely reflect a true difference in the population from which the sample was take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the realm of hypothesis testing, inferential statistics, and statistical significanc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33" name="PlaceHolder 2"/>
          <p:cNvSpPr>
            <a:spLocks noGrp="1"/>
          </p:cNvSpPr>
          <p:nvPr>
            <p:ph/>
          </p:nvPr>
        </p:nvSpPr>
        <p:spPr>
          <a:xfrm>
            <a:off x="1182600" y="182880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now another set of hypothetical result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SBP decrease for the drug treatment group=2.7 mmH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SBP decrease for the placebo treatment group=1.9 mmH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ffect Size (difference between the treatment group means)=    0.8 mmH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a:t>
            </a:r>
            <a:r>
              <a:rPr b="0" lang="en-US" sz="1800" spc="-1" strike="noStrike">
                <a:solidFill>
                  <a:srgbClr val="000000"/>
                </a:solidFill>
                <a:latin typeface="Tahoma"/>
              </a:rPr>
              <a:t>= 0.640.</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essage conveyed by these result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i="1" lang="en-US" sz="2000" spc="-1" strike="noStrike">
                <a:solidFill>
                  <a:srgbClr val="000000"/>
                </a:solidFill>
                <a:latin typeface="Tahoma"/>
              </a:rPr>
              <a:t>p</a:t>
            </a:r>
            <a:r>
              <a:rPr b="0" lang="en-US" sz="2000" spc="-1" strike="noStrike">
                <a:solidFill>
                  <a:srgbClr val="000000"/>
                </a:solidFill>
                <a:latin typeface="Tahoma"/>
              </a:rPr>
              <a:t>-value that occurs at the end of hypothesis testing is the probability of finding a difference of that size, or greater, between the drug treatment group mean change score and the placebo treatment group mean change score if the null hypothesis were tru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cepted cut-off for statistical significance is p&lt;0.05.</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Independent-groups </a:t>
            </a:r>
            <a:r>
              <a:rPr b="0" i="1" lang="en-US" sz="2800" spc="-1" strike="noStrike">
                <a:solidFill>
                  <a:srgbClr val="333399"/>
                </a:solidFill>
                <a:latin typeface="Tahoma"/>
              </a:rPr>
              <a:t>t</a:t>
            </a:r>
            <a:r>
              <a:rPr b="0" lang="en-US" sz="2800" spc="-1" strike="noStrike">
                <a:solidFill>
                  <a:srgbClr val="333399"/>
                </a:solidFill>
                <a:latin typeface="Tahoma"/>
              </a:rPr>
              <a:t>-test</a:t>
            </a:r>
            <a:endParaRPr b="0" lang="en-US" sz="28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i="1" lang="en-US" sz="2000" spc="-1" strike="noStrike">
                <a:solidFill>
                  <a:srgbClr val="000000"/>
                </a:solidFill>
                <a:latin typeface="Tahoma"/>
              </a:rPr>
              <a:t>p</a:t>
            </a:r>
            <a:r>
              <a:rPr b="0" lang="en-US" sz="2000" spc="-1" strike="noStrike">
                <a:solidFill>
                  <a:srgbClr val="000000"/>
                </a:solidFill>
                <a:latin typeface="Tahoma"/>
              </a:rPr>
              <a:t>-value of 0.64 tells us that if the null hypothesis were true, the chance of getting a group difference of 0.8 mmHg, or greater, is 64%.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null hypothesis were true, there is greater than a 5% chance that we would get this result.  The evidence is therefore not strong enough to reject the null hypothesis: that is, we fail to reject i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subject sample used in this clinical trial, there is no statistically compelling evidence that the drug would lower SBP in the general population of hypertensives:  The result obtained could have occurred by chance alo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alysis of Variance</a:t>
            </a:r>
            <a:endParaRPr b="0" lang="en-US" sz="2800" spc="-1" strike="noStrike">
              <a:solidFill>
                <a:srgbClr val="333399"/>
              </a:solidFill>
              <a:latin typeface="Tahoma"/>
            </a:endParaRPr>
          </a:p>
        </p:txBody>
      </p:sp>
      <p:sp>
        <p:nvSpPr>
          <p:cNvPr id="137"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i="1" lang="en-US" sz="2000" spc="-1" strike="noStrike">
                <a:solidFill>
                  <a:srgbClr val="000000"/>
                </a:solidFill>
                <a:latin typeface="Tahoma"/>
              </a:rPr>
              <a:t>t</a:t>
            </a:r>
            <a:r>
              <a:rPr b="0" lang="en-US" sz="2000" spc="-1" strike="noStrike">
                <a:solidFill>
                  <a:srgbClr val="000000"/>
                </a:solidFill>
                <a:latin typeface="Tahoma"/>
              </a:rPr>
              <a:t>-test is an extremely useful and common test, but it is limited to situations involving only two treatment groups.  Sometimes a study will contain more than two group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 study where three doses of a new antihypertensive drug are to be compared, and three groups of subjects will each receive one dos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a study may be performed in earlier phase drug development to determine the most appropriate dose for subsequent larger trials.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question: Does the dose of drug administered statistically significantly influence the change in SBP seen for the different dos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alysis of Variance</a:t>
            </a:r>
            <a:endParaRPr b="0" lang="en-US" sz="2800" spc="-1" strike="noStrike">
              <a:solidFill>
                <a:srgbClr val="333399"/>
              </a:solidFill>
              <a:latin typeface="Tahoma"/>
            </a:endParaRPr>
          </a:p>
        </p:txBody>
      </p:sp>
      <p:sp>
        <p:nvSpPr>
          <p:cNvPr id="139" name="PlaceHolder 2"/>
          <p:cNvSpPr>
            <a:spLocks noGrp="1"/>
          </p:cNvSpPr>
          <p:nvPr>
            <p:ph/>
          </p:nvPr>
        </p:nvSpPr>
        <p:spPr>
          <a:xfrm>
            <a:off x="1182600" y="2017440"/>
            <a:ext cx="7656480" cy="3544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is research hypothesis we can create a research hypothesis and a null hypothesi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 hypothesis: The dose of drug administered statistically significantly influences the change in SBP seen for the different dose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ll hypothesis: The dose of drug administered does not statistically significantly influence the change in SBP seen for the different dos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alysis of Variance</a:t>
            </a:r>
            <a:endParaRPr b="0" lang="en-US" sz="28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OVA is well suited to the analysis of this study since it can handle multiple groups, here multiple dose group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a study in which three groups of subjects receive one dose of an antihypertensive drug each, either 10 mg, 20 mg, or 30 mg, and there are 20 subjects in each.  The mean decreases in SBP for the three dose treatment groups are as follow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g Dose Treatment Group: 3 mmH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g Dose Treatment Group: 11 mmH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g Dose Treatment Group: 12 mmHg</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ot address the calculations involved in ANOVA: rather, we will look at the meaning of the result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OVA</a:t>
            </a:r>
            <a:endParaRPr b="0" lang="en-US" sz="2800" spc="-1" strike="noStrike">
              <a:solidFill>
                <a:srgbClr val="333399"/>
              </a:solidFill>
              <a:latin typeface="Tahoma"/>
            </a:endParaRPr>
          </a:p>
        </p:txBody>
      </p:sp>
      <p:sp>
        <p:nvSpPr>
          <p:cNvPr id="143" name="PlaceHolder 2"/>
          <p:cNvSpPr>
            <a:spLocks noGrp="1"/>
          </p:cNvSpPr>
          <p:nvPr>
            <p:ph/>
          </p:nvPr>
        </p:nvSpPr>
        <p:spPr>
          <a:xfrm>
            <a:off x="1182600" y="19051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ilarly to the calculation of the test statistic </a:t>
            </a:r>
            <a:r>
              <a:rPr b="0" i="1" lang="en-US" sz="2000" spc="-1" strike="noStrike">
                <a:solidFill>
                  <a:srgbClr val="000000"/>
                </a:solidFill>
                <a:latin typeface="Tahoma"/>
              </a:rPr>
              <a:t>t</a:t>
            </a:r>
            <a:r>
              <a:rPr b="0" lang="en-US" sz="2000" spc="-1" strike="noStrike">
                <a:solidFill>
                  <a:srgbClr val="000000"/>
                </a:solidFill>
                <a:latin typeface="Tahoma"/>
              </a:rPr>
              <a:t> in a </a:t>
            </a:r>
            <a:r>
              <a:rPr b="0" i="1" lang="en-US" sz="2000" spc="-1" strike="noStrike">
                <a:solidFill>
                  <a:srgbClr val="000000"/>
                </a:solidFill>
                <a:latin typeface="Tahoma"/>
              </a:rPr>
              <a:t>t</a:t>
            </a:r>
            <a:r>
              <a:rPr b="0" lang="en-US" sz="2000" spc="-1" strike="noStrike">
                <a:solidFill>
                  <a:srgbClr val="000000"/>
                </a:solidFill>
                <a:latin typeface="Tahoma"/>
              </a:rPr>
              <a:t>-test, </a:t>
            </a:r>
            <a:r>
              <a:rPr b="0" i="1" lang="en-US" sz="2000" spc="-1" strike="noStrike">
                <a:solidFill>
                  <a:srgbClr val="000000"/>
                </a:solidFill>
                <a:latin typeface="Tahoma"/>
              </a:rPr>
              <a:t>F</a:t>
            </a:r>
            <a:r>
              <a:rPr b="0" lang="en-US" sz="2000" spc="-1" strike="noStrike">
                <a:solidFill>
                  <a:srgbClr val="000000"/>
                </a:solidFill>
                <a:latin typeface="Tahoma"/>
              </a:rPr>
              <a:t>  is calculated as a ratio, as follow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1800" spc="-1" strike="noStrike">
                <a:solidFill>
                  <a:srgbClr val="000000"/>
                </a:solidFill>
                <a:latin typeface="Tahoma"/>
              </a:rPr>
              <a:t>F</a:t>
            </a:r>
            <a:r>
              <a:rPr b="0" lang="en-US" sz="1800" spc="-1" strike="noStrike">
                <a:solidFill>
                  <a:srgbClr val="000000"/>
                </a:solidFill>
                <a:latin typeface="Tahoma"/>
              </a:rPr>
              <a:t> =   </a:t>
            </a:r>
            <a:r>
              <a:rPr b="0" lang="en-US" sz="1800" spc="-1" strike="noStrike" u="sng">
                <a:solidFill>
                  <a:srgbClr val="000000"/>
                </a:solidFill>
                <a:uFillTx/>
                <a:latin typeface="Tahoma"/>
              </a:rPr>
              <a:t>effect variance </a:t>
            </a:r>
            <a:r>
              <a:rPr b="0" lang="en-US" sz="1800" spc="-1" strike="noStrike">
                <a:solidFill>
                  <a:srgbClr val="000000"/>
                </a:solidFill>
                <a:latin typeface="Tahoma"/>
              </a:rPr>
              <a:t> =  </a:t>
            </a:r>
            <a:r>
              <a:rPr b="0" lang="en-US" sz="1800" spc="-1" strike="noStrike" u="sng">
                <a:solidFill>
                  <a:srgbClr val="000000"/>
                </a:solidFill>
                <a:uFillTx/>
                <a:latin typeface="Tahoma"/>
              </a:rPr>
              <a:t>between treatment groups varian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rror variance       within treatment groups varianc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ogously to </a:t>
            </a:r>
            <a:r>
              <a:rPr b="0" i="1" lang="en-US" sz="2000" spc="-1" strike="noStrike">
                <a:solidFill>
                  <a:srgbClr val="000000"/>
                </a:solidFill>
                <a:latin typeface="Tahoma"/>
              </a:rPr>
              <a:t>t</a:t>
            </a:r>
            <a:r>
              <a:rPr b="0" lang="en-US" sz="2000" spc="-1" strike="noStrike">
                <a:solidFill>
                  <a:srgbClr val="000000"/>
                </a:solidFill>
                <a:latin typeface="Tahoma"/>
              </a:rPr>
              <a:t>, </a:t>
            </a:r>
            <a:r>
              <a:rPr b="0" i="1" lang="en-US" sz="2000" spc="-1" strike="noStrike">
                <a:solidFill>
                  <a:srgbClr val="000000"/>
                </a:solidFill>
                <a:latin typeface="Tahoma"/>
              </a:rPr>
              <a:t>F</a:t>
            </a:r>
            <a:r>
              <a:rPr b="0" lang="en-US" sz="2000" spc="-1" strike="noStrike">
                <a:solidFill>
                  <a:srgbClr val="000000"/>
                </a:solidFill>
                <a:latin typeface="Tahoma"/>
              </a:rPr>
              <a:t>  has to reach a certain size to attain statistical significance.  This size is dictated by the associated dfs in each instance, and in turn the dfs are dictated by the total number of subjects participating in the study.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ttain significance, </a:t>
            </a:r>
            <a:r>
              <a:rPr b="0" i="1" lang="en-US" sz="2000" spc="-1" strike="noStrike">
                <a:solidFill>
                  <a:srgbClr val="000000"/>
                </a:solidFill>
                <a:latin typeface="Tahoma"/>
              </a:rPr>
              <a:t>F  </a:t>
            </a:r>
            <a:r>
              <a:rPr b="0" lang="en-US" sz="2000" spc="-1" strike="noStrike">
                <a:solidFill>
                  <a:srgbClr val="000000"/>
                </a:solidFill>
                <a:latin typeface="Tahoma"/>
              </a:rPr>
              <a:t>must always be greater than 1.  This means that the effect variance must be greater than the error varian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OVA</a:t>
            </a:r>
            <a:endParaRPr b="0" lang="en-US" sz="28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hat the calculated </a:t>
            </a:r>
            <a:r>
              <a:rPr b="0" i="1" lang="en-US" sz="2000" spc="-1" strike="noStrike">
                <a:solidFill>
                  <a:srgbClr val="000000"/>
                </a:solidFill>
                <a:latin typeface="Tahoma"/>
              </a:rPr>
              <a:t>F</a:t>
            </a:r>
            <a:r>
              <a:rPr b="0" lang="en-US" sz="2000" spc="-1" strike="noStrike">
                <a:solidFill>
                  <a:srgbClr val="000000"/>
                </a:solidFill>
                <a:latin typeface="Tahoma"/>
              </a:rPr>
              <a:t>-value is 4.0.  The df associated this </a:t>
            </a:r>
            <a:r>
              <a:rPr b="0" i="1" lang="en-US" sz="2000" spc="-1" strike="noStrike">
                <a:solidFill>
                  <a:srgbClr val="000000"/>
                </a:solidFill>
                <a:latin typeface="Tahoma"/>
              </a:rPr>
              <a:t>F </a:t>
            </a:r>
            <a:r>
              <a:rPr b="0" lang="en-US" sz="2000" spc="-1" strike="noStrike">
                <a:solidFill>
                  <a:srgbClr val="000000"/>
                </a:solidFill>
                <a:latin typeface="Tahoma"/>
              </a:rPr>
              <a:t> come from the df associated with the between-groups variance and the within-groups variance respectively.  The df associated with the between-groups variance are (3-1), i.e., 2.  The df associated with the within-groups variance are (20-1) + (20-1) + (20-1) = 57.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therefore, the </a:t>
            </a:r>
            <a:r>
              <a:rPr b="0" i="1" lang="en-US" sz="2000" spc="-1" strike="noStrike">
                <a:solidFill>
                  <a:srgbClr val="000000"/>
                </a:solidFill>
                <a:latin typeface="Tahoma"/>
              </a:rPr>
              <a:t>F</a:t>
            </a:r>
            <a:r>
              <a:rPr b="0" lang="en-US" sz="2000" spc="-1" strike="noStrike">
                <a:solidFill>
                  <a:srgbClr val="000000"/>
                </a:solidFill>
                <a:latin typeface="Tahoma"/>
              </a:rPr>
              <a:t>-value would be represented a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F </a:t>
            </a:r>
            <a:r>
              <a:rPr b="0" lang="en-US" sz="1800" spc="-1" strike="noStrike">
                <a:solidFill>
                  <a:srgbClr val="000000"/>
                </a:solidFill>
                <a:latin typeface="Tahoma"/>
              </a:rPr>
              <a:t>(2, 57) = 4.0</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will be a p-value associated with this F-value.  Imagine that this p-value is 0.03.  The final numerical result from the ANOVA would therefore be written as: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F </a:t>
            </a:r>
            <a:r>
              <a:rPr b="0" lang="en-US" sz="1800" spc="-1" strike="noStrike">
                <a:solidFill>
                  <a:srgbClr val="000000"/>
                </a:solidFill>
                <a:latin typeface="Tahoma"/>
              </a:rPr>
              <a:t>(2, 57) = 4.0, </a:t>
            </a:r>
            <a:r>
              <a:rPr b="0" i="1" lang="en-US" sz="1800" spc="-1" strike="noStrike">
                <a:solidFill>
                  <a:srgbClr val="000000"/>
                </a:solidFill>
                <a:latin typeface="Tahoma"/>
              </a:rPr>
              <a:t>p</a:t>
            </a:r>
            <a:r>
              <a:rPr b="0" lang="en-US" sz="1800" spc="-1" strike="noStrike">
                <a:solidFill>
                  <a:srgbClr val="000000"/>
                </a:solidFill>
                <a:latin typeface="Tahoma"/>
              </a:rPr>
              <a:t>=0.0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OVA</a:t>
            </a:r>
            <a:endParaRPr b="0" lang="en-US" sz="28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re is a statistically significant result (the </a:t>
            </a:r>
            <a:r>
              <a:rPr b="0" i="1" lang="en-US" sz="2000" spc="-1" strike="noStrike">
                <a:solidFill>
                  <a:srgbClr val="000000"/>
                </a:solidFill>
                <a:latin typeface="Tahoma"/>
              </a:rPr>
              <a:t>p</a:t>
            </a:r>
            <a:r>
              <a:rPr b="0" lang="en-US" sz="2000" spc="-1" strike="noStrike">
                <a:solidFill>
                  <a:srgbClr val="000000"/>
                </a:solidFill>
                <a:latin typeface="Tahoma"/>
              </a:rPr>
              <a:t>-value is less than 0.05), the null hypothesis is rejected, and it is concluded that the dose of drug administered does statistically significantly influence the change in SBP.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this statement in itself does not tell us anything about the mean decreases in SBP for the three drug dose treatment groups.  To address this, the mean decreases in SBP for the three groups need to be considered.  These were: </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g Dose Treatment Group: 3 mmHg</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g Dose Treatment Group: 11 mmHg</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g Dose Treatment Group: 12 mmHg</a:t>
            </a:r>
            <a:endParaRPr b="0" lang="en-US" sz="1800" spc="-1" strike="noStrike">
              <a:solidFill>
                <a:srgbClr val="000000"/>
              </a:solidFill>
              <a:latin typeface="Tahoma"/>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in this case, we need to do a further analysis to get the results to completely answer our research question.</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OVA</a:t>
            </a: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istically significant result from the ANOVA says that, somewhere, there is at least one statistically significant difference between pairs of the dose treatment groups.  There are three pairs of dose treatment groups that can be compar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10 mg dose treatment group and the 20 mg dose treatment group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10 mg dose treatment group and the 30 mg dose treatment group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20 mg dose treatment group and the 30 mg dose treatment group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in our analytical strategy we do not know which group(s) differ significantly from which other group(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ANOVA</a:t>
            </a:r>
            <a:endParaRPr b="0" lang="en-US" sz="28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visual inspection may suggest the following:</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10 mg dose treatment group (a mean decrease of 3 mmHg) and the 20 mg dose treatment group (a mean decrease of          11 mmHg) may be meaningfully differen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10 mg dose treatment group (a mean decrease of 3 mmHg) and the 30 mg dose treatment group (a mean decrease of          12 mmHg) may be meaningfully different.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20 mg dose treatment group (a mean decrease of 11 mmHg) and the 30 mg dose treatment group (a mean decrease of          12 mmHg) may be not be meaningfully different.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initial visual inspections are helpful, they are not statistically definitive and an analysis is need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te: These hypothetical values were deliberately chosen to make the pattern described above a reasonable on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he research question</a:t>
            </a:r>
            <a:endParaRPr b="0" lang="en-US" sz="28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step in hypothesis testing is creating a biologically important research ques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question needs two qualities to be useful: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needs to be specific (precis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needs to be testable.  </a:t>
            </a:r>
            <a:endParaRPr b="0"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eneral question such as “Is this drug good for people’s blood pressure?” is not useful in this context.  Using the example of testing a new antihypertensive drug, a reasonable initial version of the research question may be “Does the new drug alter SBP more than placebo?”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he Tukey test</a:t>
            </a:r>
            <a:endParaRPr b="0" lang="en-US" sz="28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ukey test is appropriate here.  This test compares each pair and determines if the difference between each pair attains statistical significanc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the difference between each group mean is calculated:</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g and 20 mg dose groups: 8</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g and 30 mg dose groups: 9</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g and 30 mg dose groups: 1</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xt, the test statistic for this test is calculated.  This test statistic is represented by the capital letter T.  This test statistic is then used as a reference standard against which to compare each of the three differences between the means of pairs of groups that we just calculated.</a:t>
            </a:r>
            <a:endParaRPr b="0" lang="en-US" sz="20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ukey test</a:t>
            </a:r>
            <a:endParaRPr b="0" lang="en-US" sz="28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hat the value of T is calculated on this occasion as 1.70.  In this test, any value for the difference between group means that is greater than the test statistic T is defined as being statistically significant at the 5% leve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s are therefore: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g versus 20 mg dose treatment group = 8; p&lt;0.05</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g versus 30 mg dose treatment group = 9; p&lt;0.05</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g versus 30 mg dose treatment group = 1. n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nalysis provides the full answer to our original research question, i.e., Does the dose of drug administered statistically significantly influence the change in SBP seen for the different doses?  This answer is presented on the following slid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ukey test</a:t>
            </a:r>
            <a:endParaRPr b="0" lang="en-US" sz="2800" spc="-1" strike="noStrike">
              <a:solidFill>
                <a:srgbClr val="333399"/>
              </a:solidFill>
              <a:latin typeface="Tahoma"/>
            </a:endParaRPr>
          </a:p>
        </p:txBody>
      </p:sp>
      <p:sp>
        <p:nvSpPr>
          <p:cNvPr id="157"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ull answer is as follow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evidence at the 5% level that the mean SBP decrease for the 20 mg dose treatment group is significantly greater than the mean decrease for the 10 mg dose treatment group.</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evidence at the 5% level that the mean SBP decrease for the 30 mg dose treatment group is significantly greater than the mean decrease for the 10 mg dose treatment group.</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no statistical evidence that the mean SBP decrease for the 30 mg dose treatment group is significantly greater than the mean decrease for the 20mg dose treatment group. </a:t>
            </a:r>
            <a:endParaRPr b="0"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nal statement is made even though the mean decrease for the 30 mg group was actually numerically greater than that for the 20 mg group.  The key here is that there is no </a:t>
            </a:r>
            <a:r>
              <a:rPr b="1" lang="en-US" sz="2000" spc="-1" strike="noStrike">
                <a:solidFill>
                  <a:srgbClr val="000000"/>
                </a:solidFill>
                <a:latin typeface="Tahoma"/>
              </a:rPr>
              <a:t>statistically significant</a:t>
            </a:r>
            <a:r>
              <a:rPr b="0" lang="en-US" sz="2000" spc="-1" strike="noStrike">
                <a:solidFill>
                  <a:srgbClr val="000000"/>
                </a:solidFill>
                <a:latin typeface="Tahoma"/>
              </a:rPr>
              <a:t> difference: that is, this result could have arisen by chance alon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ype I and Type II errors</a:t>
            </a:r>
            <a:endParaRPr b="0" lang="en-US" sz="2800" spc="-1" strike="noStrike">
              <a:solidFill>
                <a:srgbClr val="333399"/>
              </a:solidFill>
              <a:latin typeface="Tahoma"/>
            </a:endParaRPr>
          </a:p>
        </p:txBody>
      </p:sp>
      <p:sp>
        <p:nvSpPr>
          <p:cNvPr id="159"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return to the Tukey test shortly when we have looked at a couple of other issues.  First, consider Type I and II errors.</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ype I error is said to occur when a significant result is found when it does not really exis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conducting about twenty separate comparisons it is likely that a Type I error will occur (i.e., a statistically significant result will erroneously be found by chance alone).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trategy has therefore been developed to counter this likelihood.  This strategy involves using a more conservative approach to significance testing when multiple comparisons are made.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ype I and Type II errors</a:t>
            </a:r>
            <a:endParaRPr b="0" lang="en-US" sz="28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rollary of this strategy, however, is that it increases the likely occurrence of a Type II error, i.e., failing to find a significant difference that actually exist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creased likelihood of a Type II error arises here because Type I and Type II errors are related in an inverse manner.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tatistical testing has to balance the relative acceptability of Type I errors versus Type II errors.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of multiple comparison testing, which involves testing multiple hypotheses via the calculation of multiple test statistics, a more conservative approach is deemed preferabl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Multiple comparisons</a:t>
            </a:r>
            <a:endParaRPr b="0" lang="en-US" sz="28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express these thoughts in different words, the more comparisons that are made, the more likely it becomes that a statistically significant result will erroneously be “found” by chance alone.  When adopting the 5% significance level, it is likely that, in 20 separate comparisons, a statistically significant result will erroneously be “found” by chance alon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re tests that are performed, the more likely it becomes that one of them will erroneously be found to be significa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it is not appropriate statistical practice to conduct many tests, find one statistically significant result, and present this lone result as an important finding.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Multiple comparisons</a:t>
            </a:r>
            <a:endParaRPr b="0" lang="en-US" sz="2800" spc="-1" strike="noStrike">
              <a:solidFill>
                <a:srgbClr val="333399"/>
              </a:solidFill>
              <a:latin typeface="Tahoma"/>
            </a:endParaRPr>
          </a:p>
        </p:txBody>
      </p:sp>
      <p:sp>
        <p:nvSpPr>
          <p:cNvPr id="165" name="PlaceHolder 2"/>
          <p:cNvSpPr>
            <a:spLocks noGrp="1"/>
          </p:cNvSpPr>
          <p:nvPr>
            <p:ph/>
          </p:nvPr>
        </p:nvSpPr>
        <p:spPr>
          <a:xfrm>
            <a:off x="1219320" y="1904760"/>
            <a:ext cx="777240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appropriate to present this result in the spirit that this was something that was identified </a:t>
            </a:r>
            <a:r>
              <a:rPr b="0" i="1" lang="en-US" sz="2000" spc="-1" strike="noStrike">
                <a:solidFill>
                  <a:srgbClr val="000000"/>
                </a:solidFill>
                <a:latin typeface="Tahoma"/>
              </a:rPr>
              <a:t>a priori</a:t>
            </a:r>
            <a:r>
              <a:rPr b="0" lang="en-US" sz="2000" spc="-1" strike="noStrike">
                <a:solidFill>
                  <a:srgbClr val="000000"/>
                </a:solidFill>
                <a:latin typeface="Tahoma"/>
              </a:rPr>
              <a:t> as a comparison of interes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situation occurs in which the results of one of many tests is significant, and you believe that the result is biologically plausible and worthy of further investigation, the result can be legitimately regarded as “hypothesis generatin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ubsequent trial then needs to be conducted, since it is not appropriate to generate a question and then answer the question using the same data se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omparison needs to be genuinely identified </a:t>
            </a:r>
            <a:r>
              <a:rPr b="0" i="1" lang="en-US" sz="2000" spc="-1" strike="noStrike">
                <a:solidFill>
                  <a:srgbClr val="000000"/>
                </a:solidFill>
                <a:latin typeface="Tahoma"/>
              </a:rPr>
              <a:t>a priori</a:t>
            </a:r>
            <a:r>
              <a:rPr b="0" lang="en-US" sz="2000" spc="-1" strike="noStrike">
                <a:solidFill>
                  <a:srgbClr val="000000"/>
                </a:solidFill>
                <a:latin typeface="Tahoma"/>
              </a:rPr>
              <a:t> as the comparison of interest in the subsequent tria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Multiple comparisons</a:t>
            </a:r>
            <a:endParaRPr b="0" lang="en-US" sz="28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nferroni test is one of several statistical methodologies that can appropriately be used in the context of multiple comparison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are using the </a:t>
            </a:r>
            <a:r>
              <a:rPr b="0" i="1" lang="en-US" sz="2000" spc="-1" strike="noStrike">
                <a:solidFill>
                  <a:srgbClr val="000000"/>
                </a:solidFill>
                <a:latin typeface="Tahoma"/>
              </a:rPr>
              <a:t>p</a:t>
            </a:r>
            <a:r>
              <a:rPr b="0" lang="en-US" sz="2000" spc="-1" strike="noStrike">
                <a:solidFill>
                  <a:srgbClr val="000000"/>
                </a:solidFill>
                <a:latin typeface="Tahoma"/>
              </a:rPr>
              <a:t>&lt;0.05 level of significance and we want to conduct multiple comparisons, we can simply divide this p-level by the number of comparisons we wish to conduct and use the resultant value as our new p-level.</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conducting 3 tests, we would use a </a:t>
            </a:r>
            <a:r>
              <a:rPr b="0" i="1" lang="en-US" sz="2000" spc="-1" strike="noStrike">
                <a:solidFill>
                  <a:srgbClr val="000000"/>
                </a:solidFill>
                <a:latin typeface="Tahoma"/>
              </a:rPr>
              <a:t>p</a:t>
            </a:r>
            <a:r>
              <a:rPr b="0" lang="en-US" sz="2000" spc="-1" strike="noStrike">
                <a:solidFill>
                  <a:srgbClr val="000000"/>
                </a:solidFill>
                <a:latin typeface="Tahoma"/>
              </a:rPr>
              <a:t>-value of 0.05/3, i.e. 0.0167 in each cas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eclare the result of a test significant the </a:t>
            </a:r>
            <a:r>
              <a:rPr b="0" i="1" lang="en-US" sz="2000" spc="-1" strike="noStrike">
                <a:solidFill>
                  <a:srgbClr val="000000"/>
                </a:solidFill>
                <a:latin typeface="Tahoma"/>
              </a:rPr>
              <a:t>p</a:t>
            </a:r>
            <a:r>
              <a:rPr b="0" lang="en-US" sz="2000" spc="-1" strike="noStrike">
                <a:solidFill>
                  <a:srgbClr val="000000"/>
                </a:solidFill>
                <a:latin typeface="Tahoma"/>
              </a:rPr>
              <a:t>-value would need to be less than 0.0167.</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Multiple comparisons</a:t>
            </a:r>
            <a:endParaRPr b="0" lang="en-US" sz="2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entioned a few slides ago that we would return to the Tukey test in due cours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ukey test intrinsically addresses the issue of multiple comparisons.  In the example presented, there were three dose treatment groups and hence three comparisons made, one for each of the three pairs of dose group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gnitude of the test statistic T that is calculated in a Tukey test ensures that a conservative approach is taken in this example of multiple comparison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ukey test is structured to take this conservative approach in an ingenious mann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Multiple comparisons</a:t>
            </a:r>
            <a:endParaRPr b="0" lang="en-US" sz="2800" spc="-1" strike="noStrike">
              <a:solidFill>
                <a:srgbClr val="333399"/>
              </a:solidFill>
              <a:latin typeface="Tahoma"/>
            </a:endParaRPr>
          </a:p>
        </p:txBody>
      </p:sp>
      <p:sp>
        <p:nvSpPr>
          <p:cNvPr id="171"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ing all other considerations and variables constant, as the number of treatment groups increases (that is, as the number of comparisons being made increases), the size of the test statistic T increas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 difference between any two groups’ means has to exceed the value of T for that test to attain statistical significance, the total number of comparisons being done determines the likelihood of that difference between the two groups’ means attaining statistical significanc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difference score of a given magnitude, the more comparisons that are made, the less likely it is that the difference will attain statistical significanc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wo research hypotheses</a:t>
            </a:r>
            <a:endParaRPr b="0" lang="en-US" sz="2800" spc="-1" strike="noStrike">
              <a:solidFill>
                <a:srgbClr val="333399"/>
              </a:solidFill>
              <a:latin typeface="Tahoma"/>
            </a:endParaRPr>
          </a:p>
        </p:txBody>
      </p:sp>
      <p:sp>
        <p:nvSpPr>
          <p:cNvPr id="101"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this research question has been formulated, two hypotheses are created:</a:t>
            </a:r>
            <a:endParaRPr b="0" lang="en-US" sz="20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search hypothesis.</a:t>
            </a:r>
            <a:endParaRPr b="0" lang="en-US" sz="1800" spc="-1" strike="noStrike">
              <a:solidFill>
                <a:srgbClr val="000000"/>
              </a:solidFill>
              <a:latin typeface="Tahoma"/>
            </a:endParaRPr>
          </a:p>
          <a:p>
            <a:pPr lvl="1" marL="713160" indent="-27432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ull hypothesis.</a:t>
            </a:r>
            <a:endParaRPr b="0" lang="en-US" sz="1800" spc="-1" strike="noStrike">
              <a:solidFill>
                <a:srgbClr val="000000"/>
              </a:solidFill>
              <a:latin typeface="Tahom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earch hypothesis typically reflects what is “hoped for*” and might be “The test drug alters SBP more than placebo.”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ll hypothesis is the counterpart of the research hypothesis.  In this case, it states that “The test drug does not alter SBP more than placebo.”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ll hypothesis is the crux of hypothesis testing.</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strict scientific terms, hope has no place in experimental research.  The goal is to discover the truth, whatever it may be.  See the associated book for discussion of this poin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8</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nical Significance </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mp;</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fidence Interval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P-values don’t cut it…</a:t>
            </a:r>
            <a:endParaRPr b="0" lang="en-US" sz="2800" spc="-1" strike="noStrike">
              <a:solidFill>
                <a:srgbClr val="333399"/>
              </a:solidFill>
              <a:latin typeface="Tahoma"/>
            </a:endParaRPr>
          </a:p>
        </p:txBody>
      </p:sp>
      <p:sp>
        <p:nvSpPr>
          <p:cNvPr id="175" name="PlaceHolder 2"/>
          <p:cNvSpPr>
            <a:spLocks noGrp="1"/>
          </p:cNvSpPr>
          <p:nvPr>
            <p:ph/>
          </p:nvPr>
        </p:nvSpPr>
        <p:spPr>
          <a:xfrm>
            <a:off x="1182600" y="2017800"/>
            <a:ext cx="7772400" cy="37735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hypothesis testing is informative, it is not sufficient in the clinical arena. While they are currently required by regulatory agencies, </a:t>
            </a:r>
            <a:r>
              <a:rPr b="0" i="1" lang="en-US" sz="2000" spc="-1" strike="noStrike">
                <a:solidFill>
                  <a:srgbClr val="000000"/>
                </a:solidFill>
                <a:latin typeface="Tahoma"/>
              </a:rPr>
              <a:t>p</a:t>
            </a:r>
            <a:r>
              <a:rPr b="0" lang="en-US" sz="2000" spc="-1" strike="noStrike">
                <a:solidFill>
                  <a:srgbClr val="000000"/>
                </a:solidFill>
                <a:latin typeface="Tahoma"/>
              </a:rPr>
              <a:t>-values do not tell the whole story by any means.</a:t>
            </a:r>
            <a:endParaRPr b="0" lang="en-US" sz="2000" spc="-1" strike="noStrike">
              <a:solidFill>
                <a:srgbClr val="000000"/>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 significance must not be equated with medical importance or biological relevance, i.e., with clinical significance.</a:t>
            </a:r>
            <a:endParaRPr b="0" lang="en-US" sz="2000" spc="-1" strike="noStrike">
              <a:solidFill>
                <a:srgbClr val="000000"/>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Fletcher and Fletcher (2005) commented:</a:t>
            </a:r>
            <a:endParaRPr b="0" lang="en-US" sz="2000" spc="-1" strike="noStrike">
              <a:solidFill>
                <a:srgbClr val="000000"/>
              </a:solidFill>
              <a:latin typeface="Tahoma"/>
            </a:endParaRPr>
          </a:p>
          <a:p>
            <a:pPr lvl="1" marL="690840" indent="-2656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A statistically significant difference, no matter how small the </a:t>
            </a:r>
            <a:r>
              <a:rPr b="0" i="1" lang="en-US" sz="1800" spc="-1" strike="noStrike">
                <a:solidFill>
                  <a:srgbClr val="000000"/>
                </a:solidFill>
                <a:latin typeface="Tahoma"/>
              </a:rPr>
              <a:t>p,</a:t>
            </a:r>
            <a:r>
              <a:rPr b="0" lang="en-US" sz="1800" spc="-1" strike="noStrike">
                <a:solidFill>
                  <a:srgbClr val="000000"/>
                </a:solidFill>
                <a:latin typeface="Tahoma"/>
              </a:rPr>
              <a:t> does not mean that the difference is clinically important.  A </a:t>
            </a:r>
            <a:r>
              <a:rPr b="0" i="1" lang="en-US" sz="1800" spc="-1" strike="noStrike">
                <a:solidFill>
                  <a:srgbClr val="000000"/>
                </a:solidFill>
                <a:latin typeface="Tahoma"/>
              </a:rPr>
              <a:t>p-</a:t>
            </a:r>
            <a:r>
              <a:rPr b="0" lang="en-US" sz="1800" spc="-1" strike="noStrike">
                <a:solidFill>
                  <a:srgbClr val="000000"/>
                </a:solidFill>
                <a:latin typeface="Tahoma"/>
              </a:rPr>
              <a:t>value of &lt;0.0001, if it emerges from a well-designed study, conveys a high degree of confidence that a difference really exists [between treatment groups in a clinical trial] but says nothing about the magnitude of that difference or its clinical importance.”</a:t>
            </a:r>
            <a:endParaRPr b="0" lang="en-US" sz="1800" spc="-1" strike="noStrike">
              <a:solidFill>
                <a:srgbClr val="000000"/>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Confidence intervals</a:t>
            </a:r>
            <a:endParaRPr b="0" lang="en-US" sz="28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fidence intervals (CIs) constitute a range of values that are defined by the lower limit and the upper limit of the interval.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ontext of this presentation, these limits are symmetrically placed on either side of the effect size.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monly employed CI is the 95% CI.  A commonly expressed view of a 95% CI is that one can be 95% certain that the range defined by the lower and upper limits of this interval contains the “true” mean for the entire population.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trict terms, the CI is a range of values that is likely to cover the true but unknown population mean (Campbell and Machin, 1999).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The logic of CIs</a:t>
            </a:r>
            <a:endParaRPr b="0" lang="en-US" sz="2800" spc="-1" strike="noStrike">
              <a:solidFill>
                <a:srgbClr val="333399"/>
              </a:solidFill>
              <a:latin typeface="Tahoma"/>
            </a:endParaRPr>
          </a:p>
        </p:txBody>
      </p:sp>
      <p:sp>
        <p:nvSpPr>
          <p:cNvPr id="179"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randomized clinical trial is conducted, a subject sample is chosen from the population of all possible subjects. Analysis of the trial’s data provides the precise effect size for that particular sampl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while the sample can contain several thousand subjects, this is quite likely to be a very small percentage of the population from which that sample was chosen.  What might have happened had a different sample of subjects been chose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estion of interest is:  How different would the effect size calculated from another sample likely be?  Ideally, we would like the effect size to be extremely similar to the result of the original trial; the more similar the results from a second trial, the more confidence we could reasonably place in the results from the original tria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The logic of CIs</a:t>
            </a:r>
            <a:endParaRPr b="0" lang="en-US" sz="28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s allow us to make statements about the true (unknown) population effect size from the data collected in a single clinical trial.</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a trial in which an effect size (reduction in SBP) was  10 mmHg.  The 95% CI can be obtained by adding and subtracting a certain value calculated from the data.</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hat the 95% CI is calculated as 10 </a:t>
            </a:r>
            <a:r>
              <a:rPr b="0" lang="en-US" sz="2000" spc="-1" strike="noStrike" u="sng">
                <a:solidFill>
                  <a:srgbClr val="000000"/>
                </a:solidFill>
                <a:uFillTx/>
                <a:latin typeface="Tahoma"/>
              </a:rPr>
              <a:t>+</a:t>
            </a:r>
            <a:r>
              <a:rPr b="0" lang="en-US" sz="2000" spc="-1" strike="noStrike">
                <a:solidFill>
                  <a:srgbClr val="000000"/>
                </a:solidFill>
                <a:latin typeface="Tahoma"/>
              </a:rPr>
              <a:t> 2, or 8 to 12.  This is typically written as (8, 12).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I is a range of values that is likely to cover the true but unknown population effect siz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fore demonstrating the importance of CIs in evaluating clinical significance, CIs can also be used to evaluate statistical significance.  In this context:</a:t>
            </a:r>
            <a:endParaRPr b="0" lang="en-US" sz="20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95% CI for an effect size excludes zero, the difference between the groups will attain significance at the p&lt;0.05 level. </a:t>
            </a:r>
            <a:endParaRPr b="0" lang="en-US" sz="1800" spc="-1" strike="noStrike">
              <a:solidFill>
                <a:srgbClr val="000000"/>
              </a:solidFill>
              <a:latin typeface="Tahom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relationship between CIs and probability levels arises from the fact that, in the scenario of interest here—the possible difference in response for two treatment groups—the null value is zero.  That is, the effect size that would result if the two group means were identical is zero.  </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95% CI excludes zero, there is compelling evidence at the 5% level that the effect size is not zero, which means that there is compelling evidence that the treatment group means diffe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CIs they do not yield precise </a:t>
            </a:r>
            <a:r>
              <a:rPr b="0" i="1" lang="en-US" sz="2000" spc="-1" strike="noStrike">
                <a:solidFill>
                  <a:srgbClr val="000000"/>
                </a:solidFill>
                <a:latin typeface="Tahoma"/>
              </a:rPr>
              <a:t>p</a:t>
            </a:r>
            <a:r>
              <a:rPr b="0" lang="en-US" sz="2000" spc="-1" strike="noStrike">
                <a:solidFill>
                  <a:srgbClr val="000000"/>
                </a:solidFill>
                <a:latin typeface="Tahoma"/>
              </a:rPr>
              <a:t>-values, they can be used to deduce levels of statistical significanc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an therefore determine whether or not statistical significance is attaine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hey are also uniquely informative in assessing clinical significance: </a:t>
            </a:r>
            <a:r>
              <a:rPr b="0" i="1" lang="en-US" sz="2000" spc="-1" strike="noStrike">
                <a:solidFill>
                  <a:srgbClr val="000000"/>
                </a:solidFill>
                <a:latin typeface="Tahoma"/>
              </a:rPr>
              <a:t>p</a:t>
            </a:r>
            <a:r>
              <a:rPr b="0" lang="en-US" sz="2000" spc="-1" strike="noStrike">
                <a:solidFill>
                  <a:srgbClr val="000000"/>
                </a:solidFill>
                <a:latin typeface="Tahoma"/>
              </a:rPr>
              <a:t>-values alone cannot do thi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CIs offer a tremendous advantage over </a:t>
            </a:r>
            <a:r>
              <a:rPr b="0" i="1" lang="en-US" sz="2000" spc="-1" strike="noStrike">
                <a:solidFill>
                  <a:srgbClr val="000000"/>
                </a:solidFill>
                <a:latin typeface="Tahoma"/>
              </a:rPr>
              <a:t>p</a:t>
            </a:r>
            <a:r>
              <a:rPr b="0" lang="en-US" sz="2000" spc="-1" strike="noStrike">
                <a:solidFill>
                  <a:srgbClr val="000000"/>
                </a:solidFill>
                <a:latin typeface="Tahoma"/>
              </a:rPr>
              <a:t>-values in the clinical context, and they are therefore extremely important in new drug develop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developing an antihypertensive drug, the question arises:  What is the minimum mean decrease in SBP that the drug should lead to?  This requires identification of the “clinically relevant difference” (CRD).</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termination of the CRD is a clinical judgment.</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illustrative purposes, assume that the CRD is 6 mmHg.  That is, if the effect size in the hypertensive population is likely to be 6 mmHg or more greater the drug will be deemed useful.</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xt question is: How do we make this call based on the results of just one clinical trial?  The calculation of CIs allows us to do th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a trial in which the effect size was 10 mmHg, and the 95% CI was (8, 12).  Since the lower and upper limits of the CI exclude zero, the difference between the treatment groups is significant at the p&lt;0.05 level.</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consider the clinical significance of this result.  A 95% CI of (8, 12) is a range of values that is likely to cover the true but unknown population effect size.  We therefore have compelling evidence from our single trial that the drug would lower SBP between 8 mmHg and 12 mmHg in the general popul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both of these values are greater than our CRD of            6 mmHg, there is compelling evidence that the drug would be useful in the general population of hypertensiv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now a trial in which the effect size was 10 mmHg, and the 95% CI was (5, 15).  Since the lower and upper limits of the CI exclude zero, the difference between the treatment groups is significant at the p&lt;0.05 level.</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consider the clinical significance of this result.  A 95% CI of (5, 15) is a range of values that is likely to cover the true but unknown population effect size.  We therefore have compelling evidence from our single trial that the drug would lower SBP between 5 mmHg and 15 mmHg in the general popul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rpretation of these results is different from the interpretation of the results in the previous exampl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Two research hypotheses</a:t>
            </a:r>
            <a:endParaRPr b="0" lang="en-US" sz="28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r>
              <a:rPr b="0" lang="en-US" sz="2000" spc="-1" strike="noStrike">
                <a:solidFill>
                  <a:srgbClr val="000000"/>
                </a:solidFill>
                <a:latin typeface="Tahoma"/>
              </a:rPr>
              <a:t> As observed on the previous slide, the null hypothesis is the crux of hypothesis testing.  For this reason, sometimes the null hypothesis is presented first, followed by the “alternate hypothesis.”  The alternate hypothesis is simply another name for the research hypothesi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ss of hypothesis testing can therefore be viewed as employing a null hypothesis accompanied by an alternative hypothesis, or a research hypothesis accompanied by a null hypothesi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no claim to authoritativeness, this presentation uses the latter, since the terms research question and research hypothesis seem to the author to fit well togethe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pper limit of the CI (15 mmHg) is higher than in the previous example, meaning that, based on the results from this single trial, it is possible that the drug could have greater efficacy in the general popul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the more pertinent fact is that the lower limit of the CI (5 mmHg) is not only lower than in the previous example, meaning that the drug could have less efficacy, but it is also lower than the CRD value of 6 mmHg.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based on the results from this single trial, it is possible that this drug would not be clinically useful in the general population.  (Put another way, there is not compelling evidence that it would be usefu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now a trial in which the effect size was 4 mmHg, and the 95% CI was (2.5, 5.5).  Since the lower and upper limits of the CI exclude zero, the difference between the treatment groups is significant at the p&lt;0.05 level.</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consider the clinical significance of this result.  A 95% CI of (2.5, 5.5) is a range of values that is likely to cover the true but unknown population effect size.  We therefore have compelling evidence from our single trial that the drug would lower SBP between 2.5 mmHg and 5.5 mmHg in the general popul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rpretation of these results is different from the interpretations of the results in both previous examp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nical Significance: Using CIs</a:t>
            </a:r>
            <a:endParaRPr b="0" lang="en-US" sz="2800" spc="-1" strike="noStrike">
              <a:solidFill>
                <a:srgbClr val="333399"/>
              </a:solidFill>
              <a:latin typeface="Tahoma"/>
            </a:endParaRPr>
          </a:p>
        </p:txBody>
      </p:sp>
      <p:sp>
        <p:nvSpPr>
          <p:cNvPr id="197"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neither the lower nor the upper limit of the CI is greater than 6 mmHg, there is no evidence to suggest that the drug would be clinically useful in the general population.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OTE: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very important point to note here is that statistical significance is not in itself a reliable indicator of clinical significance: In these three examples, the effect size attained statistical significance at the 5% level on all three occasions, but the clinical significance of the results in the examples were each different.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is reason it has become highly desirable to report CIs in addition to reporting the results of hypothesis testing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e., </a:t>
            </a:r>
            <a:r>
              <a:rPr b="0" i="1" lang="en-US" sz="2000" spc="-1" strike="noStrike">
                <a:solidFill>
                  <a:srgbClr val="000000"/>
                </a:solidFill>
                <a:latin typeface="Tahoma"/>
              </a:rPr>
              <a:t>p</a:t>
            </a:r>
            <a:r>
              <a:rPr b="0" lang="en-US" sz="2000" spc="-1" strike="noStrike">
                <a:solidFill>
                  <a:srgbClr val="000000"/>
                </a:solidFill>
                <a:latin typeface="Tahoma"/>
              </a:rPr>
              <a:t>-values) in regulatory documentation and clinical communication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Statistical significance</a:t>
            </a:r>
            <a:endParaRPr b="0" lang="en-US" sz="28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hat, in a randomized clinical trial, the mean decrease in SBP for the drug treatment group was 4 mmHg and the mean decrease in SBP for the placebo treatment group was 3 mmHg (it is not unusual to see a relatively small mean decrease in blood pressure in a placebo treatment group).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research hypothesis says “The test drug alters SBP more than placebo.”  Given these hypothetical data—mean decreases in SBP of 4 mmHg and 3 mmHg for the drug treatment group and the placebo treatment group, respectively—this hypothesis would appear to be true in strict terms, since the mean decrease for the drug treatment group was 1 mmHg greater.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estion then becomes:  How much credence do (can) we assign to a difference of (only) 1 mmHg?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Statistical significance</a:t>
            </a:r>
            <a:endParaRPr b="0" lang="en-US" sz="28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cide at what point an observed difference between treatment group means (the effect size) is sufficiently large that we believe a real difference exists, as opposed to believing that the difference is small enough that it could have occurred by chance alone?</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given set of data, statistical testing provides a precise statistical answer that has effectively been agreed upon by the research community as objective.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 testing will tell us if the difference between the group means is “statistically significantly different,” a more sophisticated concept than the simple arithmetical difference between the group means.  [Note that an arithmetic difference will not always be a statistically significant difference.]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Statistical significance</a:t>
            </a:r>
            <a:endParaRPr b="0" lang="en-US" sz="2800" spc="-1" strike="noStrike">
              <a:solidFill>
                <a:srgbClr val="333399"/>
              </a:solidFill>
              <a:latin typeface="Tahoma"/>
            </a:endParaRPr>
          </a:p>
        </p:txBody>
      </p:sp>
      <p:sp>
        <p:nvSpPr>
          <p:cNvPr id="109"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uch a situation the appropriate statistical test will provide one of two answers.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answer that says that the group means do not differ statistically significantly (even though the group means will almost certainly differ arithmetically).  This answer allows the statement to be made that this difference could well have arisen by chance alone.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ther possible answer says that the group means differ statistically significantly, allowing the statement to be made that this difference is unlikely to have occurred by chance alone.</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nswers have different implications in terms of rejecting or failing to reject the null hypothes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ypothesis Testing: Statistical significance</a:t>
            </a:r>
            <a:endParaRPr b="0" lang="en-US" sz="2800" spc="-1" strike="noStrike">
              <a:solidFill>
                <a:srgbClr val="333399"/>
              </a:solidFill>
              <a:latin typeface="Tahoma"/>
            </a:endParaRPr>
          </a:p>
        </p:txBody>
      </p:sp>
      <p:sp>
        <p:nvSpPr>
          <p:cNvPr id="111"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pt of statistical significance allows the initial version of the research question, “Does the new drug alter SBP more than placebo?” to be reframed as follow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the new drug alter SBP statistically significantly more than placebo?”</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herefore facilitates the reframing of the associated research hypothesis and null hypothesis as follows:</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search hypothesis: The new drug alters SBP statistically significantly more than the placebo.</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ull hypothesis: The new drug does not alter SBP statistically significantly more than the placebo.</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20:17:27Z</dcterms:created>
  <dc:creator>turnerr</dc:creator>
  <dc:description/>
  <dc:language>en-US</dc:language>
  <cp:lastModifiedBy>turnerr</cp:lastModifiedBy>
  <dcterms:modified xsi:type="dcterms:W3CDTF">2007-06-14T14:27:21Z</dcterms:modified>
  <cp:revision>18</cp:revision>
  <dc:subject/>
  <dc:title>Chapter 7 </dc:title>
</cp:coreProperties>
</file>