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4.png" ContentType="image/png"/>
  <Override PartName="/ppt/media/image11.wmf" ContentType="image/x-wmf"/>
  <Override PartName="/ppt/media/image53.png" ContentType="image/png"/>
  <Override PartName="/ppt/media/image10.wmf" ContentType="image/x-wmf"/>
  <Override PartName="/ppt/media/image52.wmf" ContentType="image/x-wmf"/>
  <Override PartName="/ppt/media/image49.png" ContentType="image/png"/>
  <Override PartName="/ppt/media/image48.png" ContentType="image/png"/>
  <Override PartName="/ppt/media/image50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56.png" ContentType="image/png"/>
  <Override PartName="/ppt/media/image28.wmf" ContentType="image/x-wmf"/>
  <Override PartName="/ppt/media/image15.png" ContentType="image/png"/>
  <Override PartName="/ppt/media/image62.png" ContentType="image/png"/>
  <Override PartName="/ppt/media/image61.png" ContentType="image/png"/>
  <Override PartName="/ppt/media/image59.wmf" ContentType="image/x-wmf"/>
  <Override PartName="/ppt/media/image65.png" ContentType="image/png"/>
  <Override PartName="/ppt/media/image22.wmf" ContentType="image/x-wmf"/>
  <Override PartName="/ppt/media/image23.wmf" ContentType="image/x-wmf"/>
  <Override PartName="/ppt/media/image66.png" ContentType="image/png"/>
  <Override PartName="/ppt/media/image67.png" ContentType="image/png"/>
  <Override PartName="/ppt/media/image24.wmf" ContentType="image/x-wmf"/>
  <Override PartName="/ppt/media/image57.wmf" ContentType="image/x-wmf"/>
  <Override PartName="/ppt/media/image63.png" ContentType="image/png"/>
  <Override PartName="/ppt/media/image20.wmf" ContentType="image/x-wmf"/>
  <Override PartName="/ppt/media/image60.wmf" ContentType="image/x-wmf"/>
  <Override PartName="/ppt/media/image58.wmf" ContentType="image/x-wmf"/>
  <Override PartName="/ppt/media/image64.png" ContentType="image/png"/>
  <Override PartName="/ppt/media/image21.wmf" ContentType="image/x-wmf"/>
  <Override PartName="/ppt/media/image17.wmf" ContentType="image/x-wmf"/>
  <Override PartName="/ppt/media/image27.jpeg" ContentType="image/jpeg"/>
  <Override PartName="/ppt/media/image5.wmf" ContentType="image/x-wmf"/>
  <Override PartName="/ppt/media/image35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55.png" ContentType="image/png"/>
  <Override PartName="/ppt/media/image12.wmf" ContentType="image/x-wmf"/>
  <Override PartName="/ppt/media/image5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DC9A-0249-4161-A12B-1BC0B022D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1BE2-ACAF-4FE8-BCA2-4BCE6A8029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424D-2579-47BE-9537-11B5FECB10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237D-8C5A-4CE8-927B-CDC15D6300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FB12-8149-4016-BE66-7938BA4D89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8B55-F2B0-46D8-8B78-1DA54320A3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5708-CDC8-4C9D-AC98-5CD75C666A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823A-6636-4126-8381-4B7870D5A4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D85D-CF55-44C3-9B0D-D6A32194CD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7AB8-5E21-4A18-A9F7-C9C265E97F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5635-41B6-4F4F-A81F-132035765D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C04A-EB65-4968-9CE8-35514BD905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5EDD-A5DB-449C-9DBA-76640082D95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68D0-E959-4020-ADCF-78F60DA3EE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769D-8DFE-4DA2-80C2-3BB3E0B043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7F73-0A7D-4F7B-A0E0-A6F98A6FCC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1468-0E4C-43D5-9CE4-1AFFECFF39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8951-F4F0-4B1C-AB9B-4D388506EB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E900-114A-429A-87E6-20383DEC6E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A8E1-9F32-4A5A-A30F-A1B336367F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5BFE-99DE-4317-9D3F-A18E31C1FC2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2576-2263-4396-A24F-C573A42386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0A42-4715-4EAE-9663-4739661B74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740D-55B2-41ED-9657-4BFBC3C185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33C2-C319-40D7-9835-7CB21E87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D726-4FCE-4E92-88F7-23CE453B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85B-3845-488B-B6F4-E460C19C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7386-2AFD-46AD-AAEA-21A1A4FA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5E01-1D81-4CA9-8831-DFA8CCC9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0981-7832-4B69-868A-F12C45D2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2D45-E9D2-4214-9EF9-1D4CF461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45EF-AF35-493B-B5AF-9E962C5F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884E-C135-49C5-A39D-27CCE710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5CFC-D236-4C58-9826-9F105630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3AB7-65EB-4104-9979-C1BF76CF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B0A4-437F-4337-9998-BA5BF333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F360-CAFF-4744-9976-880E9DE5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103C-CA9F-4C47-ACE5-6A729A34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FAB5-86FA-4BC0-BA02-2695FC41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6C07-BB04-4781-A428-82E4C452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4604-DC27-4BA9-9441-691FCBF6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09A-EF6D-4CD8-8F0F-23082239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F44-A0E1-4781-B0BD-0130226B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339-F0B5-49E9-962F-7FECE341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1FE-9F40-4EBF-B8C1-509FBA1C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B2B-4E0A-4A4D-A69C-BCD88C4D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10A-5731-4101-9735-A5F41720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3CA-061B-49CD-96F4-E5E6E2FD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1214-B5DA-4743-B70C-BC07CB2646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E39D-3E6B-40F5-8CA5-3406FE25A3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edical Image Analaysi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tam P. Dhawa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Feature Adaptive Neighborhood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209680" y="2438280"/>
            <a:ext cx="5362200" cy="3591000"/>
            <a:chOff x="2209680" y="2438280"/>
            <a:chExt cx="5362200" cy="3591000"/>
          </a:xfrm>
        </p:grpSpPr>
        <p:grpSp>
          <p:nvGrpSpPr>
            <p:cNvPr id="306" name=""/>
            <p:cNvGrpSpPr/>
            <p:nvPr/>
          </p:nvGrpSpPr>
          <p:grpSpPr>
            <a:xfrm>
              <a:off x="2209680" y="2438280"/>
              <a:ext cx="5162400" cy="2305080"/>
              <a:chOff x="2209680" y="2438280"/>
              <a:chExt cx="5162400" cy="230508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2209680" y="2438280"/>
                <a:ext cx="2400120" cy="2286000"/>
                <a:chOff x="2209680" y="2438280"/>
                <a:chExt cx="2400120" cy="228600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2209680" y="2438280"/>
                  <a:ext cx="2400120" cy="2286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552400" y="2438280"/>
                  <a:ext cx="1714320" cy="2286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95120" y="2438280"/>
                  <a:ext cx="1028520" cy="2286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38200" y="2438280"/>
                  <a:ext cx="342720" cy="2286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209680" y="2438280"/>
                <a:ext cx="2400120" cy="2286000"/>
                <a:chOff x="2209680" y="2438280"/>
                <a:chExt cx="2400120" cy="2286000"/>
              </a:xfrm>
            </p:grpSpPr>
            <p:sp>
              <p:nvSpPr>
                <p:cNvPr id="313" name=""/>
                <p:cNvSpPr/>
                <p:nvPr/>
              </p:nvSpPr>
              <p:spPr>
                <a:xfrm rot="16200000">
                  <a:off x="2266560" y="2381040"/>
                  <a:ext cx="2286000" cy="2400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200000">
                  <a:off x="2593080" y="2381040"/>
                  <a:ext cx="1632960" cy="2400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200000">
                  <a:off x="2919960" y="2381400"/>
                  <a:ext cx="979560" cy="2400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200000">
                  <a:off x="3246480" y="2381400"/>
                  <a:ext cx="326520" cy="2400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>
                <a:off x="2552400" y="3428640"/>
                <a:ext cx="342720" cy="32364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561760" y="3095280"/>
                <a:ext cx="333360" cy="32364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38200" y="3419280"/>
                <a:ext cx="342720" cy="323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238200" y="3095280"/>
                <a:ext cx="342720" cy="333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904840" y="3095280"/>
                <a:ext cx="333360" cy="333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904840" y="3428640"/>
                <a:ext cx="333360" cy="323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247920" y="3743280"/>
                <a:ext cx="333360" cy="323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81280" y="3095280"/>
                <a:ext cx="342720" cy="333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924000" y="3095280"/>
                <a:ext cx="342720" cy="333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924000" y="2761920"/>
                <a:ext cx="342720" cy="333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924000" y="2438280"/>
                <a:ext cx="342720" cy="323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895120" y="2761920"/>
                <a:ext cx="342720" cy="333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543040" y="2438280"/>
                <a:ext cx="361800" cy="333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209680" y="2761920"/>
                <a:ext cx="342720" cy="333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209680" y="3733560"/>
                <a:ext cx="342720" cy="333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52400" y="3743280"/>
                <a:ext cx="342720" cy="333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52400" y="4076640"/>
                <a:ext cx="342720" cy="333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895120" y="4076640"/>
                <a:ext cx="342720" cy="333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38200" y="4066920"/>
                <a:ext cx="342720" cy="3427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81280" y="4066920"/>
                <a:ext cx="342720" cy="3427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895120" y="3743280"/>
                <a:ext cx="342720" cy="32364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28480" y="3428640"/>
                <a:ext cx="3999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81280" y="4400640"/>
                <a:ext cx="342720" cy="323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38200" y="4400640"/>
                <a:ext cx="342720" cy="323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4971600" y="2457000"/>
                <a:ext cx="2400120" cy="2286000"/>
                <a:chOff x="4971600" y="2457000"/>
                <a:chExt cx="2400120" cy="228600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4971600" y="2457000"/>
                  <a:ext cx="2400120" cy="2286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314320" y="2457000"/>
                  <a:ext cx="1714320" cy="2286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657040" y="2457000"/>
                  <a:ext cx="1028520" cy="2286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000120" y="2457000"/>
                  <a:ext cx="342720" cy="2286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4971600" y="2457000"/>
                <a:ext cx="2400120" cy="2286000"/>
                <a:chOff x="4971600" y="2457000"/>
                <a:chExt cx="2400120" cy="2286000"/>
              </a:xfrm>
            </p:grpSpPr>
            <p:sp>
              <p:nvSpPr>
                <p:cNvPr id="347" name=""/>
                <p:cNvSpPr/>
                <p:nvPr/>
              </p:nvSpPr>
              <p:spPr>
                <a:xfrm rot="16200000">
                  <a:off x="5028480" y="2399760"/>
                  <a:ext cx="2286000" cy="2400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6200000">
                  <a:off x="5355000" y="2399760"/>
                  <a:ext cx="1632960" cy="2400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16200000">
                  <a:off x="5681880" y="2400120"/>
                  <a:ext cx="979560" cy="2400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rot="16200000">
                  <a:off x="6008400" y="2400120"/>
                  <a:ext cx="326520" cy="2400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6009840" y="3762360"/>
                <a:ext cx="333360" cy="323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686280" y="2781000"/>
                <a:ext cx="342720" cy="333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86280" y="2466720"/>
                <a:ext cx="342720" cy="3236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38320" y="2781000"/>
                <a:ext cx="361800" cy="333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304960" y="2457000"/>
                <a:ext cx="361800" cy="333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971600" y="3752640"/>
                <a:ext cx="342720" cy="333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314680" y="3743280"/>
                <a:ext cx="342720" cy="3520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314680" y="4095720"/>
                <a:ext cx="342720" cy="333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57760" y="4095720"/>
                <a:ext cx="342720" cy="333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43200" y="4086000"/>
                <a:ext cx="342720" cy="342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000480" y="4419360"/>
                <a:ext cx="342720" cy="323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686280" y="4086000"/>
                <a:ext cx="342720" cy="333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696000" y="4419360"/>
                <a:ext cx="342720" cy="323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86280" y="4410000"/>
                <a:ext cx="352440" cy="3333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352920" y="3447720"/>
                <a:ext cx="342720" cy="3333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676560" y="3762360"/>
                <a:ext cx="342720" cy="3333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343200" y="3762360"/>
                <a:ext cx="342720" cy="3333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971600" y="4086000"/>
                <a:ext cx="342720" cy="3333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981320" y="4410000"/>
                <a:ext cx="342720" cy="3333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14680" y="4410000"/>
                <a:ext cx="342720" cy="3333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657760" y="3771720"/>
                <a:ext cx="352080" cy="33336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696000" y="3447720"/>
                <a:ext cx="342720" cy="33336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19640" y="3428640"/>
                <a:ext cx="342720" cy="3333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019640" y="3124080"/>
                <a:ext cx="342720" cy="333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019640" y="2809440"/>
                <a:ext cx="342720" cy="33336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019640" y="2466720"/>
                <a:ext cx="342720" cy="3333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333760" y="3114360"/>
                <a:ext cx="342720" cy="33336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333760" y="3447720"/>
                <a:ext cx="342720" cy="33336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81320" y="3447720"/>
                <a:ext cx="342720" cy="33336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971600" y="2790360"/>
                <a:ext cx="342720" cy="33336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04960" y="2781000"/>
                <a:ext cx="342720" cy="33336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990680" y="2476080"/>
                <a:ext cx="342720" cy="33336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352920" y="2800080"/>
                <a:ext cx="342720" cy="33336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991120" y="2790360"/>
                <a:ext cx="342720" cy="34272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352920" y="2466720"/>
                <a:ext cx="342720" cy="323640"/>
              </a:xfrm>
              <a:prstGeom prst="rect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657760" y="2476080"/>
                <a:ext cx="342720" cy="314280"/>
              </a:xfrm>
              <a:prstGeom prst="rect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000480" y="4086000"/>
                <a:ext cx="342720" cy="3618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343200" y="4419360"/>
                <a:ext cx="342720" cy="3236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000480" y="3143160"/>
                <a:ext cx="342720" cy="3045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657760" y="3114360"/>
                <a:ext cx="342720" cy="333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667120" y="3447720"/>
                <a:ext cx="342720" cy="3236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09840" y="3438360"/>
                <a:ext cx="342720" cy="323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29360" y="3133440"/>
                <a:ext cx="342720" cy="333360"/>
              </a:xfrm>
              <a:prstGeom prst="rect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657760" y="4400640"/>
                <a:ext cx="342720" cy="333360"/>
              </a:xfrm>
              <a:prstGeom prst="rect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43200" y="3124080"/>
                <a:ext cx="342720" cy="333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686280" y="3114360"/>
                <a:ext cx="342720" cy="333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009840" y="3438360"/>
                <a:ext cx="3999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2333520" y="4991040"/>
              <a:ext cx="314280" cy="2952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42880" y="5362560"/>
              <a:ext cx="314280" cy="295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52240" y="5734080"/>
              <a:ext cx="314280" cy="29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28520" y="5305320"/>
              <a:ext cx="1897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76400" y="4991040"/>
              <a:ext cx="1243800" cy="31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6680" y="5724360"/>
              <a:ext cx="1186560" cy="30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95560" y="4952880"/>
              <a:ext cx="314280" cy="295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14640" y="5410080"/>
              <a:ext cx="314280" cy="29520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57880" y="4933800"/>
              <a:ext cx="126648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enter Reg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305400" y="5400720"/>
              <a:ext cx="126648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rround Reg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40435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048120" y="5029200"/>
                <a:ext cx="10573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37148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048120" y="5410080"/>
                <a:ext cx="17143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407196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048120" y="5791320"/>
                <a:ext cx="100008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Feature Enhancement 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35575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133720" y="2286000"/>
                <a:ext cx="31716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289548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371600" y="4191120"/>
                <a:ext cx="53341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den>
                        </m:f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  <m:r>
                                <m:t xml:space="preserve">≥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2691360" y="320040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’(x,y)=F{C(x,y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icro-calcification Enhancement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3276720" y="3048120"/>
            <a:ext cx="2600280" cy="252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2" name=""/>
          <p:cNvGraphicFramePr/>
          <p:nvPr/>
        </p:nvGraphicFramePr>
        <p:xfrm>
          <a:off x="380880" y="3048120"/>
          <a:ext cx="2643480" cy="254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048120"/>
                    <a:ext cx="264348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6172200" y="3048120"/>
            <a:ext cx="2581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Frequency-Domain Method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347184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1143000" y="2057400"/>
                <a:ext cx="66628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⊗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35290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1295280" y="2819520"/>
                <a:ext cx="65296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0" name=""/>
          <p:cNvSpPr/>
          <p:nvPr/>
        </p:nvSpPr>
        <p:spPr>
          <a:xfrm>
            <a:off x="37148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133720" y="3505320"/>
                <a:ext cx="42670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297648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905120" y="4710240"/>
                <a:ext cx="5410080" cy="15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u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u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v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v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</m:d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Low-Pass Filtering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5322960" y="1809720"/>
            <a:ext cx="2293920" cy="21067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2038320" y="1836720"/>
            <a:ext cx="2292480" cy="17254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5410080" y="4807080"/>
            <a:ext cx="2238480" cy="20113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2085840" y="4836960"/>
            <a:ext cx="22924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High Pass Filtering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5951520" y="1757520"/>
            <a:ext cx="1973160" cy="19825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2484360" y="2166840"/>
            <a:ext cx="2063880" cy="15541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2514600" y="4648320"/>
            <a:ext cx="2332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Wavelet Transfor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2133720"/>
            <a:ext cx="8163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ier Transform only provides frequency inform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Windowed Fourier Transform can provide time-frequency localization limited by the window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Wavelet Transform is a method for complete time-frequency localization for signal analysis and character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Wavelet Transform..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533520" y="2133720"/>
            <a:ext cx="815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avelet Transform : works like a microscope focusing on finer time resolution as the scale becomes small to see how the impulse gets better localized at higher frequency permitting a local 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vides Orthonormal bases while STFT does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vides a multi-resolution signal analysis appro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Wavelet Transform…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2286000"/>
            <a:ext cx="830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ing scales and shifts of a prototype wavelet, a linear expansion of a signal is obta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ower frequencies, where the bandwidth is narrow (corresponding to a longer basis function) are sampled with a large time ste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igher frequencies corresponding to a short basis function are sampled with a smaller time ste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Continuous Wavelet Transfor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2133720"/>
            <a:ext cx="852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Shifting and scaling of a prototype wavelet function can provide both time and frequency localiz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Let us define a real bandpass filter with impulse response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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(t) and zero mea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This function now has changing time-frequency tiles because of scal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&lt;1: 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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(a,b) will be short and of high 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&gt;1: 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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(a,b) will be long and of low 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514600" y="3048120"/>
                <a:ext cx="4673520" cy="27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ψ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ψ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contnuous Wavelet Transfor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W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defined as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W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R</m:t>
                            </m:r>
                          </m:sub>
                          <m:sup/>
                          <m:e>
                            <m:r>
                              <m:t xml:space="preserve">ψ</m:t>
                            </m:r>
                            <m:r>
                              <m:t xml:space="preserve">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den>
                        </m:f>
                        <m:r>
                          <m:t xml:space="preserve">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mage Enhancement: Spatial Domai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359000" y="201456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gram Mod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527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371600" y="2743200"/>
                <a:ext cx="6453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m>
                      <m:mr>
                        <m:e/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for</m:t>
                          </m:r>
                        </m:e>
                        <m:e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0,1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,L-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8305560" cy="1224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2339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05320" y="5181480"/>
                <a:ext cx="1600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Wavelet Decomposi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660240" y="2057400"/>
          <a:ext cx="848376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2057400"/>
                    <a:ext cx="84837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Wavelet Coefficient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65880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Using orthonormal property of the basis functions, wavelet coefficients of a signal f(x) can be computed as </a:t>
            </a: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The signal can be reconstructed from the coefficients as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2095560" y="3246480"/>
                <a:ext cx="44704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286000" y="5181480"/>
                <a:ext cx="412596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</m:e>
                    </m:nary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Wavelet Transform with Filter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60" name=""/>
          <p:cNvSpPr/>
          <p:nvPr/>
        </p:nvSpPr>
        <p:spPr>
          <a:xfrm>
            <a:off x="228600" y="1905120"/>
            <a:ext cx="858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The mother wavelet can be constructed using a scaling function </a:t>
            </a:r>
            <a:r>
              <a:rPr b="0" lang="en-US" sz="2000" spc="-1" strike="noStrike">
                <a:solidFill>
                  <a:srgbClr val="1c1c1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(x) which satisfies the two-scal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Coefficients </a:t>
            </a:r>
            <a:r>
              <a:rPr b="1" lang="en-US" sz="2000" spc="-1" strike="noStrike">
                <a:solidFill>
                  <a:srgbClr val="1c1c1c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(k) have to meet several conditions for the set of basis functions to be unique, orthonormal and have a certain degree of regula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For filtering operations, </a:t>
            </a:r>
            <a:r>
              <a:rPr b="1" lang="en-US" sz="2000" spc="-1" strike="noStrike">
                <a:solidFill>
                  <a:srgbClr val="1c1c1c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(k) and </a:t>
            </a:r>
            <a:r>
              <a:rPr b="1" lang="en-US" sz="2000" spc="-1" strike="noStrike">
                <a:solidFill>
                  <a:srgbClr val="1c1c1c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(k) coefficients can be used as the impulse responses correspond to the low and high pass ope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744640" y="2862360"/>
                <a:ext cx="2970360" cy="21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φ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φ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omposi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9480" y="1905120"/>
            <a:ext cx="8204040" cy="4698720"/>
            <a:chOff x="609480" y="1905120"/>
            <a:chExt cx="8204040" cy="4698720"/>
          </a:xfrm>
        </p:grpSpPr>
        <p:sp>
          <p:nvSpPr>
            <p:cNvPr id="464" name=""/>
            <p:cNvSpPr/>
            <p:nvPr/>
          </p:nvSpPr>
          <p:spPr>
            <a:xfrm>
              <a:off x="609480" y="1905120"/>
              <a:ext cx="8204040" cy="469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68120" y="2412720"/>
              <a:ext cx="800280" cy="55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c1c1c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43040" y="2374560"/>
              <a:ext cx="800280" cy="55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c1c1c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74840" y="3809880"/>
              <a:ext cx="799920" cy="55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c1c1c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30920" y="2374560"/>
              <a:ext cx="799920" cy="55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c1c1c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89440" y="3771720"/>
              <a:ext cx="799920" cy="55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c1c1c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19240" y="5092560"/>
              <a:ext cx="799920" cy="55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c1c1c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4381200" y="3847680"/>
              <a:ext cx="812880" cy="495000"/>
              <a:chOff x="4381200" y="3847680"/>
              <a:chExt cx="812880" cy="495000"/>
            </a:xfrm>
          </p:grpSpPr>
          <p:sp>
            <p:nvSpPr>
              <p:cNvPr id="472" name=""/>
              <p:cNvSpPr/>
              <p:nvPr/>
            </p:nvSpPr>
            <p:spPr>
              <a:xfrm>
                <a:off x="4381200" y="3847680"/>
                <a:ext cx="812880" cy="49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1c1c1c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964040" y="4011120"/>
                <a:ext cx="0" cy="210600"/>
              </a:xfrm>
              <a:prstGeom prst="line">
                <a:avLst/>
              </a:prstGeom>
              <a:ln w="25560">
                <a:solidFill>
                  <a:srgbClr val="1c1c1c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6946560" y="3771720"/>
              <a:ext cx="812880" cy="495000"/>
              <a:chOff x="6946560" y="3771720"/>
              <a:chExt cx="812880" cy="495000"/>
            </a:xfrm>
          </p:grpSpPr>
          <p:sp>
            <p:nvSpPr>
              <p:cNvPr id="475" name=""/>
              <p:cNvSpPr/>
              <p:nvPr/>
            </p:nvSpPr>
            <p:spPr>
              <a:xfrm>
                <a:off x="6946560" y="3771720"/>
                <a:ext cx="812880" cy="49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1c1c1c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529400" y="3934800"/>
                <a:ext cx="0" cy="210600"/>
              </a:xfrm>
              <a:prstGeom prst="line">
                <a:avLst/>
              </a:prstGeom>
              <a:ln w="25560">
                <a:solidFill>
                  <a:srgbClr val="1c1c1c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5536800" y="2400120"/>
              <a:ext cx="812880" cy="495000"/>
              <a:chOff x="5536800" y="2400120"/>
              <a:chExt cx="812880" cy="495000"/>
            </a:xfrm>
          </p:grpSpPr>
          <p:sp>
            <p:nvSpPr>
              <p:cNvPr id="478" name=""/>
              <p:cNvSpPr/>
              <p:nvPr/>
            </p:nvSpPr>
            <p:spPr>
              <a:xfrm>
                <a:off x="5536800" y="2400120"/>
                <a:ext cx="812880" cy="49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1c1c1c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19640" y="2563200"/>
                <a:ext cx="0" cy="210600"/>
              </a:xfrm>
              <a:prstGeom prst="line">
                <a:avLst/>
              </a:prstGeom>
              <a:ln w="25560">
                <a:solidFill>
                  <a:srgbClr val="1c1c1c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3187440" y="5105160"/>
              <a:ext cx="812880" cy="495000"/>
              <a:chOff x="3187440" y="5105160"/>
              <a:chExt cx="812880" cy="495000"/>
            </a:xfrm>
          </p:grpSpPr>
          <p:sp>
            <p:nvSpPr>
              <p:cNvPr id="481" name=""/>
              <p:cNvSpPr/>
              <p:nvPr/>
            </p:nvSpPr>
            <p:spPr>
              <a:xfrm>
                <a:off x="3187440" y="5105160"/>
                <a:ext cx="812880" cy="49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1c1c1c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769920" y="5268240"/>
                <a:ext cx="0" cy="210960"/>
              </a:xfrm>
              <a:prstGeom prst="line">
                <a:avLst/>
              </a:prstGeom>
              <a:ln w="25560">
                <a:solidFill>
                  <a:srgbClr val="1c1c1c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2757240" y="2679480"/>
              <a:ext cx="43020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06600" y="2666880"/>
              <a:ext cx="43020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313320" y="2679480"/>
              <a:ext cx="43020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32280" y="2653920"/>
              <a:ext cx="43056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03760" y="4051080"/>
              <a:ext cx="43020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25800" y="2666880"/>
              <a:ext cx="43020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760880" y="4012920"/>
              <a:ext cx="43056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174840" y="2438280"/>
              <a:ext cx="812880" cy="494640"/>
              <a:chOff x="3174840" y="2438280"/>
              <a:chExt cx="812880" cy="494640"/>
            </a:xfrm>
          </p:grpSpPr>
          <p:sp>
            <p:nvSpPr>
              <p:cNvPr id="491" name=""/>
              <p:cNvSpPr/>
              <p:nvPr/>
            </p:nvSpPr>
            <p:spPr>
              <a:xfrm>
                <a:off x="3174840" y="2438280"/>
                <a:ext cx="812880" cy="494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1c1c1c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757320" y="2601360"/>
                <a:ext cx="0" cy="210600"/>
              </a:xfrm>
              <a:prstGeom prst="line">
                <a:avLst/>
              </a:prstGeom>
              <a:ln w="25560">
                <a:solidFill>
                  <a:srgbClr val="1c1c1c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182920" y="4076280"/>
              <a:ext cx="16344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76560" y="4101840"/>
              <a:ext cx="43020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052520" y="5321160"/>
              <a:ext cx="43020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44720" y="2693880"/>
              <a:ext cx="0" cy="135684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46160" y="4025520"/>
              <a:ext cx="34128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97120" y="2680920"/>
              <a:ext cx="0" cy="135720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86320" y="4038480"/>
              <a:ext cx="34128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37920" y="5371920"/>
              <a:ext cx="53208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12720" y="2692080"/>
              <a:ext cx="43020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769840" y="5384520"/>
              <a:ext cx="43020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93680" y="4101840"/>
              <a:ext cx="43020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23880" y="2693880"/>
              <a:ext cx="0" cy="269028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16480" y="3593880"/>
              <a:ext cx="617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Times New Roman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Wavelet Decomposition Space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23564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mage Decomposi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52280" y="2247840"/>
            <a:ext cx="8731440" cy="3587760"/>
            <a:chOff x="152280" y="2247840"/>
            <a:chExt cx="8731440" cy="3587760"/>
          </a:xfrm>
        </p:grpSpPr>
        <p:sp>
          <p:nvSpPr>
            <p:cNvPr id="510" name=""/>
            <p:cNvSpPr/>
            <p:nvPr/>
          </p:nvSpPr>
          <p:spPr>
            <a:xfrm>
              <a:off x="152280" y="2247840"/>
              <a:ext cx="8731440" cy="3587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1531800" y="2468520"/>
              <a:ext cx="5408640" cy="3360960"/>
              <a:chOff x="1531800" y="2468520"/>
              <a:chExt cx="5408640" cy="336096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1720800" y="2468520"/>
                <a:ext cx="5219640" cy="3360960"/>
                <a:chOff x="1720800" y="2468520"/>
                <a:chExt cx="5219640" cy="33609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1720800" y="3965400"/>
                  <a:ext cx="200160" cy="1800"/>
                </a:xfrm>
                <a:custGeom>
                  <a:avLst/>
                  <a:gdLst/>
                  <a:ahLst/>
                  <a:rect l="l" t="t" r="r" b="b"/>
                  <a:pathLst>
                    <a:path w="126" h="1">
                      <a:moveTo>
                        <a:pt x="0" y="0"/>
                      </a:moveTo>
                      <a:lnTo>
                        <a:pt x="12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722600" y="3965400"/>
                  <a:ext cx="196560" cy="1800"/>
                </a:xfrm>
                <a:prstGeom prst="line">
                  <a:avLst/>
                </a:prstGeom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919160" y="3578400"/>
                  <a:ext cx="1800" cy="388800"/>
                </a:xfrm>
                <a:custGeom>
                  <a:avLst/>
                  <a:gdLst/>
                  <a:ahLst/>
                  <a:rect l="l" t="t" r="r" b="b"/>
                  <a:pathLst>
                    <a:path w="1" h="245">
                      <a:moveTo>
                        <a:pt x="0" y="244"/>
                      </a:moveTo>
                      <a:lnTo>
                        <a:pt x="0" y="0"/>
                      </a:lnTo>
                      <a:lnTo>
                        <a:pt x="0" y="244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V="1">
                  <a:off x="1919160" y="3579480"/>
                  <a:ext cx="0" cy="385560"/>
                </a:xfrm>
                <a:prstGeom prst="line">
                  <a:avLst/>
                </a:prstGeom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919160" y="3578400"/>
                  <a:ext cx="689040" cy="1440"/>
                </a:xfrm>
                <a:custGeom>
                  <a:avLst/>
                  <a:gdLst/>
                  <a:ahLst/>
                  <a:rect l="l" t="t" r="r" b="b"/>
                  <a:pathLst>
                    <a:path w="434" h="1">
                      <a:moveTo>
                        <a:pt x="0" y="0"/>
                      </a:moveTo>
                      <a:lnTo>
                        <a:pt x="43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920960" y="3578400"/>
                  <a:ext cx="685800" cy="1440"/>
                </a:xfrm>
                <a:prstGeom prst="line">
                  <a:avLst/>
                </a:prstGeom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919160" y="3965400"/>
                  <a:ext cx="1800" cy="411480"/>
                </a:xfrm>
                <a:custGeom>
                  <a:avLst/>
                  <a:gdLst/>
                  <a:ahLst/>
                  <a:rect l="l" t="t" r="r" b="b"/>
                  <a:pathLst>
                    <a:path w="1" h="259">
                      <a:moveTo>
                        <a:pt x="0" y="0"/>
                      </a:moveTo>
                      <a:lnTo>
                        <a:pt x="0" y="25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919160" y="3967200"/>
                  <a:ext cx="1800" cy="407880"/>
                </a:xfrm>
                <a:prstGeom prst="line">
                  <a:avLst/>
                </a:prstGeom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919160" y="4375080"/>
                  <a:ext cx="689040" cy="1800"/>
                </a:xfrm>
                <a:custGeom>
                  <a:avLst/>
                  <a:gdLst/>
                  <a:ahLst/>
                  <a:rect l="l" t="t" r="r" b="b"/>
                  <a:pathLst>
                    <a:path w="434" h="1">
                      <a:moveTo>
                        <a:pt x="0" y="0"/>
                      </a:moveTo>
                      <a:lnTo>
                        <a:pt x="43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920960" y="4375080"/>
                  <a:ext cx="685800" cy="1800"/>
                </a:xfrm>
                <a:prstGeom prst="line">
                  <a:avLst/>
                </a:prstGeom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483000" y="3448080"/>
                  <a:ext cx="520560" cy="237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467160" y="3433680"/>
                  <a:ext cx="552240" cy="266760"/>
                </a:xfrm>
                <a:prstGeom prst="ellipse">
                  <a:avLst/>
                </a:prstGeom>
                <a:noFill/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483000" y="4255920"/>
                  <a:ext cx="520560" cy="2383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467160" y="4241880"/>
                  <a:ext cx="552240" cy="266760"/>
                </a:xfrm>
                <a:prstGeom prst="ellipse">
                  <a:avLst/>
                </a:prstGeom>
                <a:noFill/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5765760" y="2867040"/>
                  <a:ext cx="565200" cy="279360"/>
                </a:xfrm>
                <a:prstGeom prst="ellipse">
                  <a:avLst/>
                </a:prstGeom>
                <a:solidFill>
                  <a:srgbClr val="99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5749920" y="2851200"/>
                  <a:ext cx="596880" cy="311040"/>
                </a:xfrm>
                <a:prstGeom prst="ellipse">
                  <a:avLst/>
                </a:prstGeom>
                <a:noFill/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765760" y="3448080"/>
                  <a:ext cx="631800" cy="301680"/>
                </a:xfrm>
                <a:prstGeom prst="ellipse">
                  <a:avLst/>
                </a:prstGeom>
                <a:solidFill>
                  <a:srgbClr val="99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749920" y="3433680"/>
                  <a:ext cx="663480" cy="331920"/>
                </a:xfrm>
                <a:prstGeom prst="ellipse">
                  <a:avLst/>
                </a:prstGeom>
                <a:noFill/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765760" y="4255920"/>
                  <a:ext cx="631800" cy="292320"/>
                </a:xfrm>
                <a:prstGeom prst="ellipse">
                  <a:avLst/>
                </a:prstGeom>
                <a:solidFill>
                  <a:srgbClr val="99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5749920" y="4241880"/>
                  <a:ext cx="663480" cy="320760"/>
                </a:xfrm>
                <a:prstGeom prst="ellipse">
                  <a:avLst/>
                </a:prstGeom>
                <a:noFill/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5765760" y="4676760"/>
                  <a:ext cx="631800" cy="279360"/>
                </a:xfrm>
                <a:prstGeom prst="ellipse">
                  <a:avLst/>
                </a:prstGeom>
                <a:solidFill>
                  <a:srgbClr val="8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749920" y="4660920"/>
                  <a:ext cx="663480" cy="311040"/>
                </a:xfrm>
                <a:prstGeom prst="ellipse">
                  <a:avLst/>
                </a:prstGeom>
                <a:noFill/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116160" y="3578400"/>
                  <a:ext cx="379440" cy="1440"/>
                </a:xfrm>
                <a:custGeom>
                  <a:avLst/>
                  <a:gdLst/>
                  <a:ahLst/>
                  <a:rect l="l" t="t" r="r" b="b"/>
                  <a:pathLst>
                    <a:path w="239" h="1">
                      <a:moveTo>
                        <a:pt x="0" y="0"/>
                      </a:moveTo>
                      <a:lnTo>
                        <a:pt x="23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117960" y="3578400"/>
                  <a:ext cx="376200" cy="1440"/>
                </a:xfrm>
                <a:prstGeom prst="line">
                  <a:avLst/>
                </a:prstGeom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116160" y="4375080"/>
                  <a:ext cx="379440" cy="1800"/>
                </a:xfrm>
                <a:custGeom>
                  <a:avLst/>
                  <a:gdLst/>
                  <a:ahLst/>
                  <a:rect l="l" t="t" r="r" b="b"/>
                  <a:pathLst>
                    <a:path w="239" h="1">
                      <a:moveTo>
                        <a:pt x="0" y="0"/>
                      </a:moveTo>
                      <a:lnTo>
                        <a:pt x="23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117960" y="4375080"/>
                  <a:ext cx="376200" cy="1800"/>
                </a:xfrm>
                <a:prstGeom prst="line">
                  <a:avLst/>
                </a:prstGeom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5334120" y="2975040"/>
                  <a:ext cx="444240" cy="1440"/>
                </a:xfrm>
                <a:custGeom>
                  <a:avLst/>
                  <a:gdLst/>
                  <a:ahLst/>
                  <a:rect l="l" t="t" r="r" b="b"/>
                  <a:pathLst>
                    <a:path w="280" h="1">
                      <a:moveTo>
                        <a:pt x="0" y="0"/>
                      </a:moveTo>
                      <a:lnTo>
                        <a:pt x="27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335560" y="2975040"/>
                  <a:ext cx="441360" cy="1440"/>
                </a:xfrm>
                <a:prstGeom prst="line">
                  <a:avLst/>
                </a:prstGeom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330960" y="2975040"/>
                  <a:ext cx="135000" cy="1440"/>
                </a:xfrm>
                <a:custGeom>
                  <a:avLst/>
                  <a:gdLst/>
                  <a:ahLst/>
                  <a:rect l="l" t="t" r="r" b="b"/>
                  <a:pathLst>
                    <a:path w="85" h="1">
                      <a:moveTo>
                        <a:pt x="0" y="0"/>
                      </a:moveTo>
                      <a:lnTo>
                        <a:pt x="8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332400" y="2975040"/>
                  <a:ext cx="131760" cy="1440"/>
                </a:xfrm>
                <a:prstGeom prst="line">
                  <a:avLst/>
                </a:prstGeom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334120" y="3578400"/>
                  <a:ext cx="444240" cy="1440"/>
                </a:xfrm>
                <a:custGeom>
                  <a:avLst/>
                  <a:gdLst/>
                  <a:ahLst/>
                  <a:rect l="l" t="t" r="r" b="b"/>
                  <a:pathLst>
                    <a:path w="280" h="1">
                      <a:moveTo>
                        <a:pt x="0" y="0"/>
                      </a:moveTo>
                      <a:lnTo>
                        <a:pt x="27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335560" y="3578400"/>
                  <a:ext cx="441360" cy="1440"/>
                </a:xfrm>
                <a:prstGeom prst="line">
                  <a:avLst/>
                </a:prstGeom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334120" y="4375080"/>
                  <a:ext cx="444240" cy="1800"/>
                </a:xfrm>
                <a:custGeom>
                  <a:avLst/>
                  <a:gdLst/>
                  <a:ahLst/>
                  <a:rect l="l" t="t" r="r" b="b"/>
                  <a:pathLst>
                    <a:path w="280" h="1">
                      <a:moveTo>
                        <a:pt x="0" y="0"/>
                      </a:moveTo>
                      <a:lnTo>
                        <a:pt x="27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335560" y="4375080"/>
                  <a:ext cx="441360" cy="1800"/>
                </a:xfrm>
                <a:prstGeom prst="line">
                  <a:avLst/>
                </a:prstGeom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334120" y="4849920"/>
                  <a:ext cx="444240" cy="1440"/>
                </a:xfrm>
                <a:custGeom>
                  <a:avLst/>
                  <a:gdLst/>
                  <a:ahLst/>
                  <a:rect l="l" t="t" r="r" b="b"/>
                  <a:pathLst>
                    <a:path w="280" h="1">
                      <a:moveTo>
                        <a:pt x="0" y="0"/>
                      </a:moveTo>
                      <a:lnTo>
                        <a:pt x="27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335560" y="4849920"/>
                  <a:ext cx="441360" cy="1440"/>
                </a:xfrm>
                <a:prstGeom prst="line">
                  <a:avLst/>
                </a:prstGeom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003560" y="3578400"/>
                  <a:ext cx="755640" cy="1440"/>
                </a:xfrm>
                <a:custGeom>
                  <a:avLst/>
                  <a:gdLst/>
                  <a:ahLst/>
                  <a:rect l="l" t="t" r="r" b="b"/>
                  <a:pathLst>
                    <a:path w="476" h="1">
                      <a:moveTo>
                        <a:pt x="0" y="0"/>
                      </a:moveTo>
                      <a:lnTo>
                        <a:pt x="47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005360" y="3578400"/>
                  <a:ext cx="752400" cy="1440"/>
                </a:xfrm>
                <a:prstGeom prst="line">
                  <a:avLst/>
                </a:prstGeom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314960" y="3038400"/>
                  <a:ext cx="1440" cy="541440"/>
                </a:xfrm>
                <a:custGeom>
                  <a:avLst/>
                  <a:gdLst/>
                  <a:ahLst/>
                  <a:rect l="l" t="t" r="r" b="b"/>
                  <a:pathLst>
                    <a:path w="1" h="341">
                      <a:moveTo>
                        <a:pt x="0" y="340"/>
                      </a:moveTo>
                      <a:lnTo>
                        <a:pt x="0" y="0"/>
                      </a:lnTo>
                      <a:lnTo>
                        <a:pt x="0" y="34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V="1">
                  <a:off x="4314960" y="3039840"/>
                  <a:ext cx="0" cy="538200"/>
                </a:xfrm>
                <a:prstGeom prst="line">
                  <a:avLst/>
                </a:prstGeom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314960" y="3038400"/>
                  <a:ext cx="444240" cy="1800"/>
                </a:xfrm>
                <a:custGeom>
                  <a:avLst/>
                  <a:gdLst/>
                  <a:ahLst/>
                  <a:rect l="l" t="t" r="r" b="b"/>
                  <a:pathLst>
                    <a:path w="280" h="1">
                      <a:moveTo>
                        <a:pt x="0" y="0"/>
                      </a:moveTo>
                      <a:lnTo>
                        <a:pt x="27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316400" y="3038400"/>
                  <a:ext cx="441360" cy="1800"/>
                </a:xfrm>
                <a:prstGeom prst="line">
                  <a:avLst/>
                </a:prstGeom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003560" y="4375080"/>
                  <a:ext cx="755640" cy="1800"/>
                </a:xfrm>
                <a:custGeom>
                  <a:avLst/>
                  <a:gdLst/>
                  <a:ahLst/>
                  <a:rect l="l" t="t" r="r" b="b"/>
                  <a:pathLst>
                    <a:path w="476" h="1">
                      <a:moveTo>
                        <a:pt x="0" y="0"/>
                      </a:moveTo>
                      <a:lnTo>
                        <a:pt x="47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005360" y="4375080"/>
                  <a:ext cx="752400" cy="1800"/>
                </a:xfrm>
                <a:prstGeom prst="line">
                  <a:avLst/>
                </a:prstGeom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314960" y="4375080"/>
                  <a:ext cx="1440" cy="519120"/>
                </a:xfrm>
                <a:custGeom>
                  <a:avLst/>
                  <a:gdLst/>
                  <a:ahLst/>
                  <a:rect l="l" t="t" r="r" b="b"/>
                  <a:pathLst>
                    <a:path w="1" h="327">
                      <a:moveTo>
                        <a:pt x="0" y="0"/>
                      </a:moveTo>
                      <a:lnTo>
                        <a:pt x="0" y="3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4314960" y="4376880"/>
                  <a:ext cx="1440" cy="515880"/>
                </a:xfrm>
                <a:prstGeom prst="line">
                  <a:avLst/>
                </a:prstGeom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314960" y="4892760"/>
                  <a:ext cx="444240" cy="1440"/>
                </a:xfrm>
                <a:custGeom>
                  <a:avLst/>
                  <a:gdLst/>
                  <a:ahLst/>
                  <a:rect l="l" t="t" r="r" b="b"/>
                  <a:pathLst>
                    <a:path w="280" h="1">
                      <a:moveTo>
                        <a:pt x="0" y="0"/>
                      </a:moveTo>
                      <a:lnTo>
                        <a:pt x="27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316400" y="4892760"/>
                  <a:ext cx="441360" cy="1440"/>
                </a:xfrm>
                <a:prstGeom prst="line">
                  <a:avLst/>
                </a:prstGeom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606760" y="3394080"/>
                  <a:ext cx="587160" cy="388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590920" y="3379680"/>
                  <a:ext cx="618840" cy="417600"/>
                </a:xfrm>
                <a:prstGeom prst="rect">
                  <a:avLst/>
                </a:prstGeom>
                <a:noFill/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851200" y="3490920"/>
                  <a:ext cx="100080" cy="184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882520" y="349092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806560" y="4654440"/>
                  <a:ext cx="133560" cy="173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735440" y="3416400"/>
                  <a:ext cx="587520" cy="398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4719600" y="3400560"/>
                  <a:ext cx="619200" cy="430200"/>
                </a:xfrm>
                <a:prstGeom prst="rect">
                  <a:avLst/>
                </a:prstGeom>
                <a:noFill/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957920" y="3544920"/>
                  <a:ext cx="120600" cy="17316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988880" y="354492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294000" y="2941560"/>
                  <a:ext cx="843120" cy="173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328560" y="294156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391920" y="294156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469680" y="294156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546000" y="2941560"/>
                  <a:ext cx="388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594960" y="294156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655440" y="294156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729960" y="2941560"/>
                  <a:ext cx="1029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823920" y="294156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898440" y="2941560"/>
                  <a:ext cx="32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938040" y="294156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051000" y="5657760"/>
                  <a:ext cx="543240" cy="171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082320" y="565632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161880" y="565632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33160" y="565632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306240" y="565632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377880" y="5656320"/>
                  <a:ext cx="32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411000" y="5656320"/>
                  <a:ext cx="32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444480" y="565632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5289480" y="5657760"/>
                  <a:ext cx="531720" cy="171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320800" y="565632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5401800" y="565632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473080" y="565632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546160" y="565632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617800" y="5656320"/>
                  <a:ext cx="32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649480" y="5656320"/>
                  <a:ext cx="32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5682600" y="565632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397560" y="4375080"/>
                  <a:ext cx="135000" cy="1800"/>
                </a:xfrm>
                <a:custGeom>
                  <a:avLst/>
                  <a:gdLst/>
                  <a:ahLst/>
                  <a:rect l="l" t="t" r="r" b="b"/>
                  <a:pathLst>
                    <a:path w="85" h="1">
                      <a:moveTo>
                        <a:pt x="0" y="0"/>
                      </a:moveTo>
                      <a:lnTo>
                        <a:pt x="8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399360" y="4375080"/>
                  <a:ext cx="131760" cy="1800"/>
                </a:xfrm>
                <a:prstGeom prst="line">
                  <a:avLst/>
                </a:prstGeom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397560" y="3578400"/>
                  <a:ext cx="135000" cy="1440"/>
                </a:xfrm>
                <a:custGeom>
                  <a:avLst/>
                  <a:gdLst/>
                  <a:ahLst/>
                  <a:rect l="l" t="t" r="r" b="b"/>
                  <a:pathLst>
                    <a:path w="85" h="1">
                      <a:moveTo>
                        <a:pt x="0" y="0"/>
                      </a:moveTo>
                      <a:lnTo>
                        <a:pt x="8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399360" y="3578400"/>
                  <a:ext cx="131760" cy="1440"/>
                </a:xfrm>
                <a:prstGeom prst="line">
                  <a:avLst/>
                </a:prstGeom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6397560" y="4784760"/>
                  <a:ext cx="135000" cy="1440"/>
                </a:xfrm>
                <a:custGeom>
                  <a:avLst/>
                  <a:gdLst/>
                  <a:ahLst/>
                  <a:rect l="l" t="t" r="r" b="b"/>
                  <a:pathLst>
                    <a:path w="85" h="1">
                      <a:moveTo>
                        <a:pt x="0" y="0"/>
                      </a:moveTo>
                      <a:lnTo>
                        <a:pt x="8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399360" y="4784760"/>
                  <a:ext cx="131760" cy="1440"/>
                </a:xfrm>
                <a:prstGeom prst="line">
                  <a:avLst/>
                </a:prstGeom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6564240" y="2855880"/>
                  <a:ext cx="266760" cy="173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6602760" y="2846520"/>
                  <a:ext cx="78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686280" y="2846520"/>
                  <a:ext cx="435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747480" y="2846520"/>
                  <a:ext cx="78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6653160" y="3416400"/>
                  <a:ext cx="265320" cy="172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6684480" y="341640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6760800" y="3416400"/>
                  <a:ext cx="388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6806880" y="341640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6675480" y="4213080"/>
                  <a:ext cx="264960" cy="173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6706800" y="421308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6783120" y="4213080"/>
                  <a:ext cx="388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828840" y="421308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653160" y="4699080"/>
                  <a:ext cx="265320" cy="171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84480" y="469728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6760800" y="4697280"/>
                  <a:ext cx="388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6806880" y="469728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294000" y="5183280"/>
                  <a:ext cx="831960" cy="172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325320" y="518328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403080" y="518328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482640" y="5183280"/>
                  <a:ext cx="450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3522240" y="5183280"/>
                  <a:ext cx="32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3558600" y="5183280"/>
                  <a:ext cx="58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z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3625200" y="518328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703320" y="518328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777840" y="5183280"/>
                  <a:ext cx="388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820680" y="518328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887280" y="5183280"/>
                  <a:ext cx="32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920760" y="5183280"/>
                  <a:ext cx="32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953880" y="518328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765760" y="5183280"/>
                  <a:ext cx="642960" cy="172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793840" y="518328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866920" y="518328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943240" y="5183280"/>
                  <a:ext cx="450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984640" y="5183280"/>
                  <a:ext cx="388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027480" y="5183280"/>
                  <a:ext cx="32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6060600" y="518328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6127200" y="518328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6194160" y="5183280"/>
                  <a:ext cx="32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227280" y="5183280"/>
                  <a:ext cx="32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60760" y="518328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522760" y="2468520"/>
                  <a:ext cx="841680" cy="171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557320" y="246852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621040" y="246852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697000" y="246852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773320" y="2468520"/>
                  <a:ext cx="388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822280" y="246852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882760" y="246852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959080" y="2468520"/>
                  <a:ext cx="1029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6052680" y="246852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127560" y="2468520"/>
                  <a:ext cx="32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6166800" y="246852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735440" y="4654440"/>
                  <a:ext cx="587520" cy="4003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719600" y="4640400"/>
                  <a:ext cx="619200" cy="428400"/>
                </a:xfrm>
                <a:prstGeom prst="rect">
                  <a:avLst/>
                </a:prstGeom>
                <a:noFill/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957920" y="4784760"/>
                  <a:ext cx="120600" cy="17136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988880" y="478476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584440" y="4192560"/>
                  <a:ext cx="587520" cy="398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2568600" y="4176720"/>
                  <a:ext cx="619200" cy="428760"/>
                </a:xfrm>
                <a:prstGeom prst="rect">
                  <a:avLst/>
                </a:prstGeom>
                <a:noFill/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2806560" y="4321080"/>
                  <a:ext cx="122400" cy="17316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837880" y="432108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735440" y="4116240"/>
                  <a:ext cx="598680" cy="38736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719600" y="4102200"/>
                  <a:ext cx="630360" cy="417240"/>
                </a:xfrm>
                <a:prstGeom prst="rect">
                  <a:avLst/>
                </a:prstGeom>
                <a:noFill/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978440" y="4213080"/>
                  <a:ext cx="111240" cy="184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009760" y="421308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735440" y="2790720"/>
                  <a:ext cx="598680" cy="38916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719600" y="2776680"/>
                  <a:ext cx="630360" cy="417240"/>
                </a:xfrm>
                <a:prstGeom prst="rect">
                  <a:avLst/>
                </a:prstGeom>
                <a:noFill/>
                <a:ln w="12600">
                  <a:solidFill>
                    <a:srgbClr val="8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978440" y="2887560"/>
                  <a:ext cx="111240" cy="19548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009760" y="288756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0" name=""/>
              <p:cNvSpPr/>
              <p:nvPr/>
            </p:nvSpPr>
            <p:spPr>
              <a:xfrm>
                <a:off x="1531800" y="3868560"/>
                <a:ext cx="177840" cy="16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564920" y="38466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"/>
          <p:cNvSpPr/>
          <p:nvPr/>
        </p:nvSpPr>
        <p:spPr>
          <a:xfrm>
            <a:off x="352800" y="365760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Wavelet and Scaling Function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4105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mage Processing and Enhancement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3504960" cy="31352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2590920" cy="234936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3"/>
          <a:stretch/>
        </p:blipFill>
        <p:spPr>
          <a:xfrm>
            <a:off x="5181480" y="4267080"/>
            <a:ext cx="262908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mage Segmenta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371240" y="2438280"/>
            <a:ext cx="6095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dge-Based Segmentatio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ray-level Threshold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ixel Cluster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gion Growing and Spilit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rtificial Neural Network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odel-Based Estimatio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Gray-Level Thesholding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>
            <a:off x="3600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362320" y="2133720"/>
                <a:ext cx="34099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if </m:t>
                              </m:r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if </m:t>
                              </m:r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5324400" y="3276720"/>
            <a:ext cx="3819600" cy="278604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3746520" cy="276228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3"/>
          <a:stretch/>
        </p:blipFill>
        <p:spPr>
          <a:xfrm>
            <a:off x="3048120" y="3581280"/>
            <a:ext cx="30099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edical Images and Histogram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600200" y="2057400"/>
            <a:ext cx="5572080" cy="2170080"/>
            <a:chOff x="1600200" y="2057400"/>
            <a:chExt cx="5572080" cy="217008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1600200" y="2070720"/>
              <a:ext cx="2705400" cy="215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4438440" y="2057400"/>
              <a:ext cx="2733840" cy="213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1600200" y="4421160"/>
            <a:ext cx="6048000" cy="2143080"/>
            <a:chOff x="1600200" y="4421160"/>
            <a:chExt cx="6048000" cy="2143080"/>
          </a:xfrm>
        </p:grpSpPr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1600200" y="4483800"/>
              <a:ext cx="273420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4914360" y="4421160"/>
              <a:ext cx="2733840" cy="214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Region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Growing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3429000" y="304920"/>
            <a:ext cx="49244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Neural Network Element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6941880" cy="33051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38671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4114800" y="5334120"/>
                <a:ext cx="27432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rtificial Neural Network: Backpropaga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32448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RBF Network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2209680" y="1295280"/>
            <a:ext cx="5810400" cy="4892400"/>
            <a:chOff x="2209680" y="1295280"/>
            <a:chExt cx="5810400" cy="4892400"/>
          </a:xfrm>
        </p:grpSpPr>
        <p:sp>
          <p:nvSpPr>
            <p:cNvPr id="697" name=""/>
            <p:cNvSpPr/>
            <p:nvPr/>
          </p:nvSpPr>
          <p:spPr>
            <a:xfrm>
              <a:off x="4276440" y="1987200"/>
              <a:ext cx="599760" cy="552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752560" y="3425400"/>
              <a:ext cx="44748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819240" y="3406680"/>
              <a:ext cx="44748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76800" y="3406680"/>
              <a:ext cx="44748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4562280" y="1530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80960" y="3625560"/>
              <a:ext cx="63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267080" y="3625560"/>
              <a:ext cx="52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933800" y="3558960"/>
              <a:ext cx="9072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91200" y="3558960"/>
              <a:ext cx="9072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48240" y="3558960"/>
              <a:ext cx="9072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686200" y="3616200"/>
              <a:ext cx="39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981160" y="4949640"/>
              <a:ext cx="3009960" cy="1238040"/>
            </a:xfrm>
            <a:prstGeom prst="parallelogram">
              <a:avLst>
                <a:gd name="adj" fmla="val 607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3800160" y="5111280"/>
              <a:ext cx="457200" cy="171360"/>
              <a:chOff x="3800160" y="5111280"/>
              <a:chExt cx="457200" cy="171360"/>
            </a:xfrm>
          </p:grpSpPr>
          <p:sp>
            <p:nvSpPr>
              <p:cNvPr id="710" name=""/>
              <p:cNvSpPr/>
              <p:nvPr/>
            </p:nvSpPr>
            <p:spPr>
              <a:xfrm>
                <a:off x="3800160" y="5114160"/>
                <a:ext cx="457200" cy="165240"/>
              </a:xfrm>
              <a:prstGeom prst="parallelogram">
                <a:avLst>
                  <a:gd name="adj" fmla="val 6917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3917160" y="5111280"/>
                <a:ext cx="10692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4034520" y="5113800"/>
                <a:ext cx="10692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878280" y="5169960"/>
                <a:ext cx="34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839040" y="5222160"/>
                <a:ext cx="34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"/>
            <p:cNvSpPr/>
            <p:nvPr/>
          </p:nvSpPr>
          <p:spPr>
            <a:xfrm flipH="1" flipV="1">
              <a:off x="3018600" y="3825360"/>
              <a:ext cx="942840" cy="13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3000240" y="3854160"/>
              <a:ext cx="847440" cy="14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flipV="1">
              <a:off x="3076200" y="3796920"/>
              <a:ext cx="1133280" cy="13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 flipV="1">
              <a:off x="3047400" y="3806640"/>
              <a:ext cx="1076040" cy="14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3857400" y="3816000"/>
              <a:ext cx="1620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4038480" y="3844440"/>
              <a:ext cx="95040" cy="14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4076640" y="3825360"/>
              <a:ext cx="13320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3943080" y="3825360"/>
              <a:ext cx="11412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3848040" y="3796920"/>
              <a:ext cx="2352600" cy="146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3952800" y="3796920"/>
              <a:ext cx="2238120" cy="13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4219560" y="3806640"/>
              <a:ext cx="2000160" cy="13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3895560" y="3825360"/>
              <a:ext cx="2343240" cy="14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3066840" y="2463120"/>
              <a:ext cx="1295280" cy="9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4848120" y="2415960"/>
              <a:ext cx="1409760" cy="10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4057560" y="2520720"/>
              <a:ext cx="438120" cy="89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 flipV="1">
              <a:off x="4686120" y="2530440"/>
              <a:ext cx="542880" cy="1047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33680" y="2082600"/>
              <a:ext cx="48456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09680" y="3225600"/>
              <a:ext cx="8380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BF Uni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323880" y="3206520"/>
              <a:ext cx="8380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BF Uni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62640" y="3244680"/>
              <a:ext cx="8380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BF Unit 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19760" y="5121000"/>
              <a:ext cx="8380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put 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81080" y="5292720"/>
              <a:ext cx="10094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li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 Wind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222440" y="1295280"/>
              <a:ext cx="11048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060880" y="2044440"/>
              <a:ext cx="11426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ear Combi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182000" y="3555720"/>
              <a:ext cx="8380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BF 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RBF NN Based Segmenta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2552760" cy="25624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254304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mage Representa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1600200" y="1828800"/>
            <a:ext cx="6275160" cy="4827600"/>
            <a:chOff x="1600200" y="1828800"/>
            <a:chExt cx="6275160" cy="4827600"/>
          </a:xfrm>
        </p:grpSpPr>
        <p:sp>
          <p:nvSpPr>
            <p:cNvPr id="745" name=""/>
            <p:cNvSpPr/>
            <p:nvPr/>
          </p:nvSpPr>
          <p:spPr>
            <a:xfrm>
              <a:off x="6846840" y="6163920"/>
              <a:ext cx="102852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ottom-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1600200" y="1828800"/>
              <a:ext cx="6069960" cy="4728960"/>
              <a:chOff x="1600200" y="1828800"/>
              <a:chExt cx="6069960" cy="4728960"/>
            </a:xfrm>
          </p:grpSpPr>
          <p:sp>
            <p:nvSpPr>
              <p:cNvPr id="747" name=""/>
              <p:cNvSpPr/>
              <p:nvPr/>
            </p:nvSpPr>
            <p:spPr>
              <a:xfrm>
                <a:off x="4995360" y="1828800"/>
                <a:ext cx="1028520" cy="492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cenar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069080" y="2912400"/>
                <a:ext cx="925920" cy="59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cene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435720" y="2912400"/>
                <a:ext cx="925560" cy="59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cene-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52040" y="3996360"/>
                <a:ext cx="720000" cy="19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Object-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789440" y="3996360"/>
                <a:ext cx="720000" cy="19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Object-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834640" y="4587480"/>
                <a:ext cx="925920" cy="19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-Region-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377960" y="4587480"/>
                <a:ext cx="720000" cy="19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-Region-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423160" y="5178600"/>
                <a:ext cx="720000" cy="19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Region-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760560" y="5178600"/>
                <a:ext cx="720000" cy="19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Region-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114280" y="6360840"/>
                <a:ext cx="720000" cy="19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ixel (i,j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349080" y="5769720"/>
                <a:ext cx="720000" cy="19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Edge-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17240" y="5769720"/>
                <a:ext cx="720000" cy="19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Edge-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143160" y="6360840"/>
                <a:ext cx="720000" cy="19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ixel (k,l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2422800" y="5966640"/>
                <a:ext cx="205560" cy="39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628720" y="5966640"/>
                <a:ext cx="822960" cy="39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760560" y="5966640"/>
                <a:ext cx="1028520" cy="59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172040" y="5375520"/>
                <a:ext cx="822960" cy="59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789440" y="4784400"/>
                <a:ext cx="720000" cy="59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097960" y="4193280"/>
                <a:ext cx="822960" cy="59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847200" y="3503520"/>
                <a:ext cx="617040" cy="49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2628360" y="5375520"/>
                <a:ext cx="102600" cy="39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731680" y="5375520"/>
                <a:ext cx="925920" cy="39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2731680" y="4784400"/>
                <a:ext cx="617040" cy="39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349080" y="4784400"/>
                <a:ext cx="720000" cy="39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3349080" y="4193280"/>
                <a:ext cx="514080" cy="39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863520" y="4193280"/>
                <a:ext cx="822960" cy="39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3863520" y="3503520"/>
                <a:ext cx="617040" cy="49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480920" y="3503520"/>
                <a:ext cx="617040" cy="49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4583520" y="2321280"/>
                <a:ext cx="925920" cy="59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509440" y="2321280"/>
                <a:ext cx="1440360" cy="59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406840" y="3109320"/>
                <a:ext cx="102600" cy="98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715360" y="3109320"/>
                <a:ext cx="102600" cy="98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023880" y="3109320"/>
                <a:ext cx="102600" cy="98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7670160" y="1926720"/>
                <a:ext cx="0" cy="423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908720" y="2222640"/>
                <a:ext cx="0" cy="423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600200" y="1828800"/>
                <a:ext cx="102852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op-Dow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mage Analysis: Feature Extrac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tatistical Featur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Histogram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Moment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Energy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Entropy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Contrast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Edge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hape Featur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Boundary encoding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Moment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Hough Transform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Region Representation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Morphological Feature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Texture Featur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patio Frequency Featur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elational Featur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mage Classifica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eature Based Pattern Classifier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atistical Pattern Recognition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Unsupervised Learning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upervised Learning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ytntactical Pattern Recogni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ogical predicate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ule-Based Classifer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-Based Classifier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rtificial Neural Network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orphological Featur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1676520" y="2209680"/>
            <a:ext cx="5283000" cy="3810240"/>
            <a:chOff x="1676520" y="2209680"/>
            <a:chExt cx="5283000" cy="3810240"/>
          </a:xfrm>
        </p:grpSpPr>
        <p:sp>
          <p:nvSpPr>
            <p:cNvPr id="789" name=""/>
            <p:cNvSpPr/>
            <p:nvPr/>
          </p:nvSpPr>
          <p:spPr>
            <a:xfrm>
              <a:off x="1962000" y="4346280"/>
              <a:ext cx="1701720" cy="1320840"/>
            </a:xfrm>
            <a:custGeom>
              <a:avLst/>
              <a:gdLst/>
              <a:ahLst/>
              <a:rect l="l" t="t" r="r" b="b"/>
              <a:pathLst>
                <a:path w="2680" h="2080">
                  <a:moveTo>
                    <a:pt x="90" y="1210"/>
                  </a:moveTo>
                  <a:cubicBezTo>
                    <a:pt x="125" y="1028"/>
                    <a:pt x="188" y="800"/>
                    <a:pt x="345" y="625"/>
                  </a:cubicBezTo>
                  <a:cubicBezTo>
                    <a:pt x="502" y="450"/>
                    <a:pt x="935" y="143"/>
                    <a:pt x="1035" y="160"/>
                  </a:cubicBezTo>
                  <a:cubicBezTo>
                    <a:pt x="1135" y="177"/>
                    <a:pt x="945" y="578"/>
                    <a:pt x="945" y="730"/>
                  </a:cubicBezTo>
                  <a:cubicBezTo>
                    <a:pt x="945" y="882"/>
                    <a:pt x="920" y="1030"/>
                    <a:pt x="1035" y="1075"/>
                  </a:cubicBezTo>
                  <a:cubicBezTo>
                    <a:pt x="1150" y="1120"/>
                    <a:pt x="1450" y="1057"/>
                    <a:pt x="1635" y="1000"/>
                  </a:cubicBezTo>
                  <a:cubicBezTo>
                    <a:pt x="1820" y="943"/>
                    <a:pt x="2050" y="827"/>
                    <a:pt x="2145" y="730"/>
                  </a:cubicBezTo>
                  <a:cubicBezTo>
                    <a:pt x="2240" y="633"/>
                    <a:pt x="2242" y="477"/>
                    <a:pt x="2205" y="415"/>
                  </a:cubicBezTo>
                  <a:cubicBezTo>
                    <a:pt x="2168" y="353"/>
                    <a:pt x="1967" y="385"/>
                    <a:pt x="1920" y="355"/>
                  </a:cubicBezTo>
                  <a:cubicBezTo>
                    <a:pt x="1873" y="325"/>
                    <a:pt x="1873" y="292"/>
                    <a:pt x="1920" y="235"/>
                  </a:cubicBezTo>
                  <a:cubicBezTo>
                    <a:pt x="1967" y="178"/>
                    <a:pt x="2100" y="20"/>
                    <a:pt x="2205" y="10"/>
                  </a:cubicBezTo>
                  <a:cubicBezTo>
                    <a:pt x="2310" y="0"/>
                    <a:pt x="2490" y="15"/>
                    <a:pt x="2550" y="175"/>
                  </a:cubicBezTo>
                  <a:cubicBezTo>
                    <a:pt x="2610" y="335"/>
                    <a:pt x="2680" y="712"/>
                    <a:pt x="2565" y="970"/>
                  </a:cubicBezTo>
                  <a:cubicBezTo>
                    <a:pt x="2450" y="1228"/>
                    <a:pt x="2137" y="1535"/>
                    <a:pt x="1860" y="1720"/>
                  </a:cubicBezTo>
                  <a:cubicBezTo>
                    <a:pt x="1583" y="1905"/>
                    <a:pt x="1187" y="2080"/>
                    <a:pt x="900" y="2080"/>
                  </a:cubicBezTo>
                  <a:cubicBezTo>
                    <a:pt x="613" y="2080"/>
                    <a:pt x="270" y="1867"/>
                    <a:pt x="135" y="1720"/>
                  </a:cubicBezTo>
                  <a:cubicBezTo>
                    <a:pt x="0" y="1573"/>
                    <a:pt x="55" y="1392"/>
                    <a:pt x="90" y="1210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553000" y="2571480"/>
              <a:ext cx="352080" cy="34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76400" y="4610160"/>
              <a:ext cx="352080" cy="342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543040" y="4714920"/>
              <a:ext cx="352080" cy="342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981080" y="5553360"/>
              <a:ext cx="352440" cy="342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00280" y="4181400"/>
              <a:ext cx="352080" cy="342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238120" y="4181400"/>
              <a:ext cx="352440" cy="342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324240" y="5191200"/>
              <a:ext cx="352080" cy="342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38240" y="5553360"/>
              <a:ext cx="352440" cy="342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343240" y="5677200"/>
              <a:ext cx="352080" cy="342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676520" y="5267160"/>
              <a:ext cx="352080" cy="342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33400" y="4705200"/>
              <a:ext cx="352080" cy="342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619440" y="4714920"/>
              <a:ext cx="352440" cy="342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390840" y="4048200"/>
              <a:ext cx="352080" cy="342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19160" y="4448160"/>
              <a:ext cx="352440" cy="342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505480" y="4657680"/>
              <a:ext cx="352440" cy="342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448240" y="5295960"/>
              <a:ext cx="352440" cy="342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981160" y="4095720"/>
              <a:ext cx="352080" cy="342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247840" y="2241360"/>
              <a:ext cx="1701720" cy="1320840"/>
            </a:xfrm>
            <a:custGeom>
              <a:avLst/>
              <a:gdLst/>
              <a:ahLst/>
              <a:rect l="l" t="t" r="r" b="b"/>
              <a:pathLst>
                <a:path w="2680" h="2080">
                  <a:moveTo>
                    <a:pt x="90" y="1210"/>
                  </a:moveTo>
                  <a:cubicBezTo>
                    <a:pt x="125" y="1028"/>
                    <a:pt x="188" y="800"/>
                    <a:pt x="345" y="625"/>
                  </a:cubicBezTo>
                  <a:cubicBezTo>
                    <a:pt x="502" y="450"/>
                    <a:pt x="935" y="143"/>
                    <a:pt x="1035" y="160"/>
                  </a:cubicBezTo>
                  <a:cubicBezTo>
                    <a:pt x="1135" y="177"/>
                    <a:pt x="945" y="578"/>
                    <a:pt x="945" y="730"/>
                  </a:cubicBezTo>
                  <a:cubicBezTo>
                    <a:pt x="945" y="882"/>
                    <a:pt x="920" y="1030"/>
                    <a:pt x="1035" y="1075"/>
                  </a:cubicBezTo>
                  <a:cubicBezTo>
                    <a:pt x="1150" y="1120"/>
                    <a:pt x="1450" y="1057"/>
                    <a:pt x="1635" y="1000"/>
                  </a:cubicBezTo>
                  <a:cubicBezTo>
                    <a:pt x="1820" y="943"/>
                    <a:pt x="2050" y="827"/>
                    <a:pt x="2145" y="730"/>
                  </a:cubicBezTo>
                  <a:cubicBezTo>
                    <a:pt x="2240" y="633"/>
                    <a:pt x="2242" y="477"/>
                    <a:pt x="2205" y="415"/>
                  </a:cubicBezTo>
                  <a:cubicBezTo>
                    <a:pt x="2168" y="353"/>
                    <a:pt x="1967" y="385"/>
                    <a:pt x="1920" y="355"/>
                  </a:cubicBezTo>
                  <a:cubicBezTo>
                    <a:pt x="1873" y="325"/>
                    <a:pt x="1873" y="292"/>
                    <a:pt x="1920" y="235"/>
                  </a:cubicBezTo>
                  <a:cubicBezTo>
                    <a:pt x="1967" y="178"/>
                    <a:pt x="2100" y="20"/>
                    <a:pt x="2205" y="10"/>
                  </a:cubicBezTo>
                  <a:cubicBezTo>
                    <a:pt x="2310" y="0"/>
                    <a:pt x="2490" y="15"/>
                    <a:pt x="2550" y="175"/>
                  </a:cubicBezTo>
                  <a:cubicBezTo>
                    <a:pt x="2610" y="335"/>
                    <a:pt x="2680" y="712"/>
                    <a:pt x="2565" y="970"/>
                  </a:cubicBezTo>
                  <a:cubicBezTo>
                    <a:pt x="2450" y="1228"/>
                    <a:pt x="2137" y="1535"/>
                    <a:pt x="1860" y="1720"/>
                  </a:cubicBezTo>
                  <a:cubicBezTo>
                    <a:pt x="1583" y="1905"/>
                    <a:pt x="1187" y="2080"/>
                    <a:pt x="900" y="2080"/>
                  </a:cubicBezTo>
                  <a:cubicBezTo>
                    <a:pt x="613" y="2080"/>
                    <a:pt x="270" y="1867"/>
                    <a:pt x="135" y="1720"/>
                  </a:cubicBezTo>
                  <a:cubicBezTo>
                    <a:pt x="0" y="1573"/>
                    <a:pt x="55" y="1392"/>
                    <a:pt x="90" y="121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257800" y="4384440"/>
              <a:ext cx="1701720" cy="1320840"/>
            </a:xfrm>
            <a:custGeom>
              <a:avLst/>
              <a:gdLst/>
              <a:ahLst/>
              <a:rect l="l" t="t" r="r" b="b"/>
              <a:pathLst>
                <a:path w="2680" h="2080">
                  <a:moveTo>
                    <a:pt x="90" y="1210"/>
                  </a:moveTo>
                  <a:cubicBezTo>
                    <a:pt x="125" y="1028"/>
                    <a:pt x="188" y="800"/>
                    <a:pt x="345" y="625"/>
                  </a:cubicBezTo>
                  <a:cubicBezTo>
                    <a:pt x="502" y="450"/>
                    <a:pt x="935" y="143"/>
                    <a:pt x="1035" y="160"/>
                  </a:cubicBezTo>
                  <a:cubicBezTo>
                    <a:pt x="1135" y="177"/>
                    <a:pt x="945" y="578"/>
                    <a:pt x="945" y="730"/>
                  </a:cubicBezTo>
                  <a:cubicBezTo>
                    <a:pt x="945" y="882"/>
                    <a:pt x="920" y="1030"/>
                    <a:pt x="1035" y="1075"/>
                  </a:cubicBezTo>
                  <a:cubicBezTo>
                    <a:pt x="1150" y="1120"/>
                    <a:pt x="1450" y="1057"/>
                    <a:pt x="1635" y="1000"/>
                  </a:cubicBezTo>
                  <a:cubicBezTo>
                    <a:pt x="1820" y="943"/>
                    <a:pt x="2050" y="827"/>
                    <a:pt x="2145" y="730"/>
                  </a:cubicBezTo>
                  <a:cubicBezTo>
                    <a:pt x="2240" y="633"/>
                    <a:pt x="2242" y="477"/>
                    <a:pt x="2205" y="415"/>
                  </a:cubicBezTo>
                  <a:cubicBezTo>
                    <a:pt x="2168" y="353"/>
                    <a:pt x="1967" y="385"/>
                    <a:pt x="1920" y="355"/>
                  </a:cubicBezTo>
                  <a:cubicBezTo>
                    <a:pt x="1873" y="325"/>
                    <a:pt x="1873" y="292"/>
                    <a:pt x="1920" y="235"/>
                  </a:cubicBezTo>
                  <a:cubicBezTo>
                    <a:pt x="1967" y="178"/>
                    <a:pt x="2100" y="20"/>
                    <a:pt x="2205" y="10"/>
                  </a:cubicBezTo>
                  <a:cubicBezTo>
                    <a:pt x="2310" y="0"/>
                    <a:pt x="2490" y="15"/>
                    <a:pt x="2550" y="175"/>
                  </a:cubicBezTo>
                  <a:cubicBezTo>
                    <a:pt x="2610" y="335"/>
                    <a:pt x="2680" y="712"/>
                    <a:pt x="2565" y="970"/>
                  </a:cubicBezTo>
                  <a:cubicBezTo>
                    <a:pt x="2450" y="1228"/>
                    <a:pt x="2137" y="1535"/>
                    <a:pt x="1860" y="1720"/>
                  </a:cubicBezTo>
                  <a:cubicBezTo>
                    <a:pt x="1583" y="1905"/>
                    <a:pt x="1187" y="2080"/>
                    <a:pt x="900" y="2080"/>
                  </a:cubicBezTo>
                  <a:cubicBezTo>
                    <a:pt x="613" y="2080"/>
                    <a:pt x="270" y="1867"/>
                    <a:pt x="135" y="1720"/>
                  </a:cubicBezTo>
                  <a:cubicBezTo>
                    <a:pt x="0" y="1573"/>
                    <a:pt x="55" y="1392"/>
                    <a:pt x="90" y="121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324400" y="4962600"/>
              <a:ext cx="352080" cy="342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095880" y="5029200"/>
              <a:ext cx="352440" cy="342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724360" y="5067360"/>
              <a:ext cx="352080" cy="342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458040" y="4886280"/>
              <a:ext cx="352080" cy="342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824120" y="4172040"/>
              <a:ext cx="2001600" cy="1698840"/>
            </a:xfrm>
            <a:custGeom>
              <a:avLst/>
              <a:gdLst/>
              <a:ahLst/>
              <a:rect l="l" t="t" r="r" b="b"/>
              <a:pathLst>
                <a:path w="3152" h="2675">
                  <a:moveTo>
                    <a:pt x="937" y="285"/>
                  </a:moveTo>
                  <a:cubicBezTo>
                    <a:pt x="805" y="367"/>
                    <a:pt x="577" y="520"/>
                    <a:pt x="442" y="660"/>
                  </a:cubicBezTo>
                  <a:cubicBezTo>
                    <a:pt x="307" y="800"/>
                    <a:pt x="200" y="927"/>
                    <a:pt x="127" y="1125"/>
                  </a:cubicBezTo>
                  <a:cubicBezTo>
                    <a:pt x="54" y="1323"/>
                    <a:pt x="14" y="1685"/>
                    <a:pt x="7" y="1845"/>
                  </a:cubicBezTo>
                  <a:cubicBezTo>
                    <a:pt x="0" y="2005"/>
                    <a:pt x="52" y="2025"/>
                    <a:pt x="82" y="2085"/>
                  </a:cubicBezTo>
                  <a:cubicBezTo>
                    <a:pt x="112" y="2145"/>
                    <a:pt x="127" y="2150"/>
                    <a:pt x="187" y="2205"/>
                  </a:cubicBezTo>
                  <a:cubicBezTo>
                    <a:pt x="247" y="2260"/>
                    <a:pt x="317" y="2345"/>
                    <a:pt x="442" y="2415"/>
                  </a:cubicBezTo>
                  <a:cubicBezTo>
                    <a:pt x="567" y="2485"/>
                    <a:pt x="787" y="2585"/>
                    <a:pt x="937" y="2625"/>
                  </a:cubicBezTo>
                  <a:cubicBezTo>
                    <a:pt x="1087" y="2665"/>
                    <a:pt x="1200" y="2675"/>
                    <a:pt x="1342" y="2655"/>
                  </a:cubicBezTo>
                  <a:cubicBezTo>
                    <a:pt x="1484" y="2635"/>
                    <a:pt x="1637" y="2575"/>
                    <a:pt x="1792" y="2505"/>
                  </a:cubicBezTo>
                  <a:cubicBezTo>
                    <a:pt x="1947" y="2435"/>
                    <a:pt x="2125" y="2337"/>
                    <a:pt x="2272" y="2235"/>
                  </a:cubicBezTo>
                  <a:cubicBezTo>
                    <a:pt x="2419" y="2133"/>
                    <a:pt x="2550" y="2035"/>
                    <a:pt x="2677" y="1890"/>
                  </a:cubicBezTo>
                  <a:cubicBezTo>
                    <a:pt x="2804" y="1745"/>
                    <a:pt x="2960" y="1502"/>
                    <a:pt x="3037" y="1365"/>
                  </a:cubicBezTo>
                  <a:cubicBezTo>
                    <a:pt x="3114" y="1228"/>
                    <a:pt x="3132" y="1210"/>
                    <a:pt x="3142" y="1065"/>
                  </a:cubicBezTo>
                  <a:cubicBezTo>
                    <a:pt x="3152" y="920"/>
                    <a:pt x="3149" y="660"/>
                    <a:pt x="3097" y="495"/>
                  </a:cubicBezTo>
                  <a:cubicBezTo>
                    <a:pt x="3045" y="330"/>
                    <a:pt x="2902" y="150"/>
                    <a:pt x="2827" y="75"/>
                  </a:cubicBezTo>
                  <a:cubicBezTo>
                    <a:pt x="2752" y="0"/>
                    <a:pt x="2712" y="50"/>
                    <a:pt x="2647" y="45"/>
                  </a:cubicBezTo>
                  <a:cubicBezTo>
                    <a:pt x="2582" y="40"/>
                    <a:pt x="2512" y="35"/>
                    <a:pt x="2437" y="45"/>
                  </a:cubicBezTo>
                  <a:cubicBezTo>
                    <a:pt x="2362" y="55"/>
                    <a:pt x="2260" y="72"/>
                    <a:pt x="2197" y="105"/>
                  </a:cubicBezTo>
                  <a:cubicBezTo>
                    <a:pt x="2134" y="138"/>
                    <a:pt x="2122" y="163"/>
                    <a:pt x="2062" y="240"/>
                  </a:cubicBezTo>
                  <a:cubicBezTo>
                    <a:pt x="2002" y="317"/>
                    <a:pt x="1867" y="473"/>
                    <a:pt x="1837" y="570"/>
                  </a:cubicBezTo>
                  <a:cubicBezTo>
                    <a:pt x="1807" y="667"/>
                    <a:pt x="1874" y="760"/>
                    <a:pt x="1882" y="825"/>
                  </a:cubicBezTo>
                  <a:cubicBezTo>
                    <a:pt x="1890" y="890"/>
                    <a:pt x="1932" y="920"/>
                    <a:pt x="1882" y="960"/>
                  </a:cubicBezTo>
                  <a:cubicBezTo>
                    <a:pt x="1832" y="1000"/>
                    <a:pt x="1652" y="1048"/>
                    <a:pt x="1582" y="1065"/>
                  </a:cubicBezTo>
                  <a:cubicBezTo>
                    <a:pt x="1512" y="1082"/>
                    <a:pt x="1472" y="1122"/>
                    <a:pt x="1462" y="1065"/>
                  </a:cubicBezTo>
                  <a:cubicBezTo>
                    <a:pt x="1452" y="1008"/>
                    <a:pt x="1505" y="832"/>
                    <a:pt x="1522" y="720"/>
                  </a:cubicBezTo>
                  <a:cubicBezTo>
                    <a:pt x="1539" y="608"/>
                    <a:pt x="1590" y="475"/>
                    <a:pt x="1567" y="390"/>
                  </a:cubicBezTo>
                  <a:cubicBezTo>
                    <a:pt x="1544" y="305"/>
                    <a:pt x="1442" y="248"/>
                    <a:pt x="1387" y="210"/>
                  </a:cubicBezTo>
                  <a:cubicBezTo>
                    <a:pt x="1332" y="172"/>
                    <a:pt x="1304" y="158"/>
                    <a:pt x="1237" y="165"/>
                  </a:cubicBezTo>
                  <a:cubicBezTo>
                    <a:pt x="1170" y="172"/>
                    <a:pt x="1069" y="203"/>
                    <a:pt x="937" y="285"/>
                  </a:cubicBez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248520" y="5181480"/>
              <a:ext cx="352080" cy="342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895720" y="5315040"/>
              <a:ext cx="352440" cy="342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97200" y="4815360"/>
              <a:ext cx="1151280" cy="718920"/>
            </a:xfrm>
            <a:custGeom>
              <a:avLst/>
              <a:gdLst/>
              <a:ahLst/>
              <a:rect l="l" t="t" r="r" b="b"/>
              <a:pathLst>
                <a:path w="1813" h="1132">
                  <a:moveTo>
                    <a:pt x="298" y="37"/>
                  </a:moveTo>
                  <a:cubicBezTo>
                    <a:pt x="261" y="74"/>
                    <a:pt x="118" y="367"/>
                    <a:pt x="73" y="457"/>
                  </a:cubicBezTo>
                  <a:cubicBezTo>
                    <a:pt x="28" y="547"/>
                    <a:pt x="38" y="532"/>
                    <a:pt x="28" y="577"/>
                  </a:cubicBezTo>
                  <a:cubicBezTo>
                    <a:pt x="18" y="622"/>
                    <a:pt x="0" y="667"/>
                    <a:pt x="13" y="727"/>
                  </a:cubicBezTo>
                  <a:cubicBezTo>
                    <a:pt x="26" y="787"/>
                    <a:pt x="63" y="885"/>
                    <a:pt x="103" y="937"/>
                  </a:cubicBezTo>
                  <a:cubicBezTo>
                    <a:pt x="143" y="989"/>
                    <a:pt x="183" y="1010"/>
                    <a:pt x="253" y="1042"/>
                  </a:cubicBezTo>
                  <a:cubicBezTo>
                    <a:pt x="323" y="1074"/>
                    <a:pt x="416" y="1132"/>
                    <a:pt x="523" y="1132"/>
                  </a:cubicBezTo>
                  <a:cubicBezTo>
                    <a:pt x="630" y="1132"/>
                    <a:pt x="783" y="1082"/>
                    <a:pt x="898" y="1042"/>
                  </a:cubicBezTo>
                  <a:cubicBezTo>
                    <a:pt x="1013" y="1002"/>
                    <a:pt x="1121" y="944"/>
                    <a:pt x="1213" y="892"/>
                  </a:cubicBezTo>
                  <a:cubicBezTo>
                    <a:pt x="1305" y="840"/>
                    <a:pt x="1358" y="812"/>
                    <a:pt x="1453" y="727"/>
                  </a:cubicBezTo>
                  <a:cubicBezTo>
                    <a:pt x="1548" y="642"/>
                    <a:pt x="1813" y="404"/>
                    <a:pt x="1783" y="382"/>
                  </a:cubicBezTo>
                  <a:cubicBezTo>
                    <a:pt x="1753" y="360"/>
                    <a:pt x="1423" y="542"/>
                    <a:pt x="1273" y="592"/>
                  </a:cubicBezTo>
                  <a:cubicBezTo>
                    <a:pt x="1123" y="642"/>
                    <a:pt x="1005" y="667"/>
                    <a:pt x="883" y="682"/>
                  </a:cubicBezTo>
                  <a:cubicBezTo>
                    <a:pt x="761" y="697"/>
                    <a:pt x="633" y="719"/>
                    <a:pt x="538" y="682"/>
                  </a:cubicBezTo>
                  <a:cubicBezTo>
                    <a:pt x="443" y="645"/>
                    <a:pt x="353" y="532"/>
                    <a:pt x="313" y="457"/>
                  </a:cubicBezTo>
                  <a:cubicBezTo>
                    <a:pt x="273" y="382"/>
                    <a:pt x="298" y="299"/>
                    <a:pt x="298" y="232"/>
                  </a:cubicBezTo>
                  <a:cubicBezTo>
                    <a:pt x="298" y="165"/>
                    <a:pt x="335" y="0"/>
                    <a:pt x="298" y="37"/>
                  </a:cubicBez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952800" y="4295880"/>
              <a:ext cx="61452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3819240" y="4476600"/>
              <a:ext cx="19980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00800" y="5743800"/>
              <a:ext cx="5382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6286320" y="5410440"/>
              <a:ext cx="18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886200" y="2209680"/>
              <a:ext cx="3902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991120" y="2543040"/>
              <a:ext cx="3902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43578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4038480" y="4191120"/>
                <a:ext cx="6858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⊕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5" name=""/>
          <p:cNvSpPr/>
          <p:nvPr/>
        </p:nvSpPr>
        <p:spPr>
          <a:xfrm>
            <a:off x="439596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6629400" y="5715000"/>
                <a:ext cx="762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Θ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Some Shape Featur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914400" y="2666880"/>
            <a:ext cx="2647800" cy="2142720"/>
            <a:chOff x="914400" y="2666880"/>
            <a:chExt cx="2647800" cy="2142720"/>
          </a:xfrm>
        </p:grpSpPr>
        <p:sp>
          <p:nvSpPr>
            <p:cNvPr id="829" name=""/>
            <p:cNvSpPr/>
            <p:nvPr/>
          </p:nvSpPr>
          <p:spPr>
            <a:xfrm>
              <a:off x="1263600" y="2954520"/>
              <a:ext cx="1724040" cy="1259640"/>
            </a:xfrm>
            <a:custGeom>
              <a:avLst/>
              <a:gdLst/>
              <a:ahLst/>
              <a:rect l="l" t="t" r="r" b="b"/>
              <a:pathLst>
                <a:path w="2670" h="1774">
                  <a:moveTo>
                    <a:pt x="80" y="1452"/>
                  </a:moveTo>
                  <a:cubicBezTo>
                    <a:pt x="160" y="1290"/>
                    <a:pt x="670" y="919"/>
                    <a:pt x="980" y="762"/>
                  </a:cubicBezTo>
                  <a:cubicBezTo>
                    <a:pt x="1290" y="605"/>
                    <a:pt x="1708" y="629"/>
                    <a:pt x="1940" y="507"/>
                  </a:cubicBezTo>
                  <a:cubicBezTo>
                    <a:pt x="2172" y="385"/>
                    <a:pt x="2265" y="0"/>
                    <a:pt x="2375" y="27"/>
                  </a:cubicBezTo>
                  <a:cubicBezTo>
                    <a:pt x="2485" y="54"/>
                    <a:pt x="2670" y="452"/>
                    <a:pt x="2600" y="672"/>
                  </a:cubicBezTo>
                  <a:cubicBezTo>
                    <a:pt x="2530" y="892"/>
                    <a:pt x="2185" y="1245"/>
                    <a:pt x="1955" y="1347"/>
                  </a:cubicBezTo>
                  <a:cubicBezTo>
                    <a:pt x="1725" y="1449"/>
                    <a:pt x="1462" y="1222"/>
                    <a:pt x="1220" y="1287"/>
                  </a:cubicBezTo>
                  <a:cubicBezTo>
                    <a:pt x="978" y="1352"/>
                    <a:pt x="687" y="1700"/>
                    <a:pt x="500" y="1737"/>
                  </a:cubicBezTo>
                  <a:cubicBezTo>
                    <a:pt x="313" y="1774"/>
                    <a:pt x="0" y="1614"/>
                    <a:pt x="80" y="145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228680" y="2923920"/>
              <a:ext cx="1942920" cy="1571400"/>
            </a:xfrm>
            <a:custGeom>
              <a:avLst/>
              <a:gdLst/>
              <a:ahLst/>
              <a:rect l="l" t="t" r="r" b="b"/>
              <a:pathLst>
                <a:path w="3015" h="2460">
                  <a:moveTo>
                    <a:pt x="660" y="2415"/>
                  </a:moveTo>
                  <a:lnTo>
                    <a:pt x="3015" y="945"/>
                  </a:lnTo>
                  <a:lnTo>
                    <a:pt x="2415" y="0"/>
                  </a:lnTo>
                  <a:lnTo>
                    <a:pt x="0" y="1515"/>
                  </a:lnTo>
                  <a:lnTo>
                    <a:pt x="585" y="2460"/>
                  </a:lnTo>
                  <a:lnTo>
                    <a:pt x="660" y="241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1438200" y="3190680"/>
              <a:ext cx="1562040" cy="10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009520" y="3419280"/>
              <a:ext cx="390240" cy="5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590560" y="2666880"/>
              <a:ext cx="3711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905200" y="3000240"/>
              <a:ext cx="3711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800000" y="3171600"/>
              <a:ext cx="3711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14400" y="3733560"/>
              <a:ext cx="371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190680" y="3447720"/>
              <a:ext cx="371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457280" y="4485960"/>
              <a:ext cx="371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24160" y="3971880"/>
              <a:ext cx="3711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00240" y="4105080"/>
              <a:ext cx="3711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228760" y="3600000"/>
              <a:ext cx="371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0" y="20145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657600" y="2438280"/>
            <a:ext cx="495288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est axis 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est axis H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meter and area of the minimum bounded rectangle ABC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ongation ratio: GE/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me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re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egmented reg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r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ct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2814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5638680" y="5562720"/>
                <a:ext cx="137160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πA</m:t>
                        </m:r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6" name=""/>
          <p:cNvSpPr/>
          <p:nvPr/>
        </p:nvSpPr>
        <p:spPr>
          <a:xfrm>
            <a:off x="42721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5410080" y="4724280"/>
                <a:ext cx="11430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Histogram Equaliza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43200" y="1828800"/>
            <a:ext cx="5866920" cy="4665240"/>
            <a:chOff x="2743200" y="1828800"/>
            <a:chExt cx="5866920" cy="466524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2752560" y="1838160"/>
              <a:ext cx="2276640" cy="22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5542920" y="1828800"/>
              <a:ext cx="2391120" cy="22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2743200" y="4429080"/>
              <a:ext cx="2733840" cy="20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5876280" y="4437000"/>
              <a:ext cx="2733840" cy="20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339552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80880" y="3352680"/>
                <a:ext cx="335304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m>
                          <m:mr>
                            <m:e/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j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i</m:t>
                                  </m:r>
                                </m:sup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e>
                              </m:nary>
                            </m:e>
                          </m:mr>
                        </m:m>
                        <m:m>
                          <m:mr>
                            <m:e/>
                            <m:e/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r</m:t>
                                    </m:r>
                                  </m:e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,1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,L-1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Relational Featur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685800" y="2438280"/>
            <a:ext cx="2981160" cy="3191040"/>
            <a:chOff x="685800" y="2438280"/>
            <a:chExt cx="2981160" cy="3191040"/>
          </a:xfrm>
        </p:grpSpPr>
        <p:sp>
          <p:nvSpPr>
            <p:cNvPr id="850" name=""/>
            <p:cNvSpPr/>
            <p:nvPr/>
          </p:nvSpPr>
          <p:spPr>
            <a:xfrm>
              <a:off x="1143000" y="2723760"/>
              <a:ext cx="1790640" cy="254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076040" y="2638080"/>
              <a:ext cx="1923840" cy="272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13240" y="3433680"/>
              <a:ext cx="730080" cy="1075680"/>
            </a:xfrm>
            <a:custGeom>
              <a:avLst/>
              <a:gdLst/>
              <a:ahLst/>
              <a:rect l="l" t="t" r="r" b="b"/>
              <a:pathLst>
                <a:path w="1150" h="1694">
                  <a:moveTo>
                    <a:pt x="276" y="1672"/>
                  </a:moveTo>
                  <a:cubicBezTo>
                    <a:pt x="238" y="1655"/>
                    <a:pt x="173" y="1637"/>
                    <a:pt x="137" y="1582"/>
                  </a:cubicBezTo>
                  <a:cubicBezTo>
                    <a:pt x="101" y="1527"/>
                    <a:pt x="79" y="1439"/>
                    <a:pt x="62" y="1342"/>
                  </a:cubicBezTo>
                  <a:cubicBezTo>
                    <a:pt x="45" y="1245"/>
                    <a:pt x="42" y="1122"/>
                    <a:pt x="32" y="997"/>
                  </a:cubicBezTo>
                  <a:cubicBezTo>
                    <a:pt x="22" y="872"/>
                    <a:pt x="4" y="704"/>
                    <a:pt x="2" y="592"/>
                  </a:cubicBezTo>
                  <a:cubicBezTo>
                    <a:pt x="0" y="480"/>
                    <a:pt x="15" y="384"/>
                    <a:pt x="17" y="322"/>
                  </a:cubicBezTo>
                  <a:cubicBezTo>
                    <a:pt x="19" y="260"/>
                    <a:pt x="12" y="249"/>
                    <a:pt x="17" y="217"/>
                  </a:cubicBezTo>
                  <a:cubicBezTo>
                    <a:pt x="22" y="185"/>
                    <a:pt x="33" y="155"/>
                    <a:pt x="48" y="127"/>
                  </a:cubicBezTo>
                  <a:cubicBezTo>
                    <a:pt x="63" y="99"/>
                    <a:pt x="75" y="52"/>
                    <a:pt x="107" y="52"/>
                  </a:cubicBezTo>
                  <a:cubicBezTo>
                    <a:pt x="139" y="52"/>
                    <a:pt x="216" y="95"/>
                    <a:pt x="242" y="127"/>
                  </a:cubicBezTo>
                  <a:cubicBezTo>
                    <a:pt x="268" y="159"/>
                    <a:pt x="250" y="200"/>
                    <a:pt x="261" y="247"/>
                  </a:cubicBezTo>
                  <a:cubicBezTo>
                    <a:pt x="272" y="294"/>
                    <a:pt x="289" y="352"/>
                    <a:pt x="306" y="412"/>
                  </a:cubicBezTo>
                  <a:cubicBezTo>
                    <a:pt x="324" y="472"/>
                    <a:pt x="345" y="559"/>
                    <a:pt x="367" y="607"/>
                  </a:cubicBezTo>
                  <a:cubicBezTo>
                    <a:pt x="390" y="655"/>
                    <a:pt x="408" y="677"/>
                    <a:pt x="444" y="697"/>
                  </a:cubicBezTo>
                  <a:cubicBezTo>
                    <a:pt x="479" y="717"/>
                    <a:pt x="548" y="737"/>
                    <a:pt x="581" y="727"/>
                  </a:cubicBezTo>
                  <a:cubicBezTo>
                    <a:pt x="613" y="717"/>
                    <a:pt x="626" y="684"/>
                    <a:pt x="642" y="637"/>
                  </a:cubicBezTo>
                  <a:cubicBezTo>
                    <a:pt x="658" y="590"/>
                    <a:pt x="669" y="494"/>
                    <a:pt x="677" y="442"/>
                  </a:cubicBezTo>
                  <a:cubicBezTo>
                    <a:pt x="685" y="390"/>
                    <a:pt x="687" y="359"/>
                    <a:pt x="692" y="322"/>
                  </a:cubicBezTo>
                  <a:cubicBezTo>
                    <a:pt x="697" y="285"/>
                    <a:pt x="695" y="262"/>
                    <a:pt x="707" y="217"/>
                  </a:cubicBezTo>
                  <a:cubicBezTo>
                    <a:pt x="719" y="172"/>
                    <a:pt x="738" y="87"/>
                    <a:pt x="763" y="52"/>
                  </a:cubicBezTo>
                  <a:cubicBezTo>
                    <a:pt x="788" y="17"/>
                    <a:pt x="822" y="0"/>
                    <a:pt x="855" y="7"/>
                  </a:cubicBezTo>
                  <a:cubicBezTo>
                    <a:pt x="888" y="14"/>
                    <a:pt x="934" y="37"/>
                    <a:pt x="962" y="97"/>
                  </a:cubicBezTo>
                  <a:cubicBezTo>
                    <a:pt x="990" y="157"/>
                    <a:pt x="1007" y="295"/>
                    <a:pt x="1022" y="367"/>
                  </a:cubicBezTo>
                  <a:cubicBezTo>
                    <a:pt x="1037" y="439"/>
                    <a:pt x="1045" y="477"/>
                    <a:pt x="1052" y="532"/>
                  </a:cubicBezTo>
                  <a:cubicBezTo>
                    <a:pt x="1059" y="587"/>
                    <a:pt x="1062" y="640"/>
                    <a:pt x="1067" y="697"/>
                  </a:cubicBezTo>
                  <a:cubicBezTo>
                    <a:pt x="1072" y="754"/>
                    <a:pt x="1080" y="830"/>
                    <a:pt x="1082" y="877"/>
                  </a:cubicBezTo>
                  <a:cubicBezTo>
                    <a:pt x="1084" y="924"/>
                    <a:pt x="1080" y="955"/>
                    <a:pt x="1082" y="982"/>
                  </a:cubicBezTo>
                  <a:cubicBezTo>
                    <a:pt x="1084" y="1009"/>
                    <a:pt x="1092" y="1015"/>
                    <a:pt x="1097" y="1042"/>
                  </a:cubicBezTo>
                  <a:cubicBezTo>
                    <a:pt x="1102" y="1069"/>
                    <a:pt x="1107" y="1100"/>
                    <a:pt x="1112" y="1147"/>
                  </a:cubicBezTo>
                  <a:cubicBezTo>
                    <a:pt x="1117" y="1194"/>
                    <a:pt x="1122" y="1270"/>
                    <a:pt x="1127" y="1327"/>
                  </a:cubicBezTo>
                  <a:cubicBezTo>
                    <a:pt x="1132" y="1384"/>
                    <a:pt x="1150" y="1447"/>
                    <a:pt x="1142" y="1492"/>
                  </a:cubicBezTo>
                  <a:cubicBezTo>
                    <a:pt x="1134" y="1537"/>
                    <a:pt x="1110" y="1579"/>
                    <a:pt x="1082" y="1597"/>
                  </a:cubicBezTo>
                  <a:cubicBezTo>
                    <a:pt x="1054" y="1615"/>
                    <a:pt x="1020" y="1609"/>
                    <a:pt x="977" y="1597"/>
                  </a:cubicBezTo>
                  <a:cubicBezTo>
                    <a:pt x="934" y="1585"/>
                    <a:pt x="860" y="1552"/>
                    <a:pt x="824" y="1522"/>
                  </a:cubicBezTo>
                  <a:cubicBezTo>
                    <a:pt x="789" y="1492"/>
                    <a:pt x="774" y="1449"/>
                    <a:pt x="763" y="1417"/>
                  </a:cubicBezTo>
                  <a:cubicBezTo>
                    <a:pt x="753" y="1385"/>
                    <a:pt x="782" y="1365"/>
                    <a:pt x="763" y="1327"/>
                  </a:cubicBezTo>
                  <a:cubicBezTo>
                    <a:pt x="745" y="1289"/>
                    <a:pt x="694" y="1207"/>
                    <a:pt x="657" y="1192"/>
                  </a:cubicBezTo>
                  <a:cubicBezTo>
                    <a:pt x="619" y="1177"/>
                    <a:pt x="564" y="1200"/>
                    <a:pt x="535" y="1237"/>
                  </a:cubicBezTo>
                  <a:cubicBezTo>
                    <a:pt x="506" y="1274"/>
                    <a:pt x="491" y="1372"/>
                    <a:pt x="482" y="1417"/>
                  </a:cubicBezTo>
                  <a:cubicBezTo>
                    <a:pt x="473" y="1462"/>
                    <a:pt x="484" y="1485"/>
                    <a:pt x="482" y="1507"/>
                  </a:cubicBezTo>
                  <a:cubicBezTo>
                    <a:pt x="480" y="1529"/>
                    <a:pt x="474" y="1530"/>
                    <a:pt x="467" y="1552"/>
                  </a:cubicBezTo>
                  <a:cubicBezTo>
                    <a:pt x="460" y="1574"/>
                    <a:pt x="454" y="1620"/>
                    <a:pt x="437" y="1642"/>
                  </a:cubicBezTo>
                  <a:cubicBezTo>
                    <a:pt x="420" y="1664"/>
                    <a:pt x="394" y="1682"/>
                    <a:pt x="367" y="1687"/>
                  </a:cubicBezTo>
                  <a:cubicBezTo>
                    <a:pt x="340" y="1692"/>
                    <a:pt x="306" y="1694"/>
                    <a:pt x="276" y="1672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057400" y="4562280"/>
              <a:ext cx="142920" cy="9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00320" y="2485800"/>
              <a:ext cx="3236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771560" y="2895480"/>
              <a:ext cx="3236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28880" y="5162760"/>
              <a:ext cx="3236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71680" y="3590640"/>
              <a:ext cx="3236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009880" y="4086000"/>
              <a:ext cx="171360" cy="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104920" y="3962160"/>
              <a:ext cx="3236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85800" y="2438280"/>
              <a:ext cx="2619360" cy="3191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43320" y="2876400"/>
              <a:ext cx="3236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124000" y="4495680"/>
              <a:ext cx="3236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4648320" y="2590920"/>
            <a:ext cx="3304800" cy="2990880"/>
            <a:chOff x="4648320" y="2590920"/>
            <a:chExt cx="3304800" cy="2990880"/>
          </a:xfrm>
        </p:grpSpPr>
        <p:sp>
          <p:nvSpPr>
            <p:cNvPr id="864" name=""/>
            <p:cNvSpPr/>
            <p:nvPr/>
          </p:nvSpPr>
          <p:spPr>
            <a:xfrm>
              <a:off x="7629480" y="3467160"/>
              <a:ext cx="3236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124600" y="3934080"/>
              <a:ext cx="3236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210280" y="3400200"/>
              <a:ext cx="3236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991120" y="2590920"/>
              <a:ext cx="3236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5448240" y="2981160"/>
              <a:ext cx="68544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134040" y="2990880"/>
              <a:ext cx="1542960" cy="44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457960" y="3533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762520" y="4705560"/>
              <a:ext cx="3236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5010120" y="4067280"/>
              <a:ext cx="457200" cy="58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457960" y="4095720"/>
              <a:ext cx="40932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48320" y="4552920"/>
              <a:ext cx="3236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10120" y="4629240"/>
              <a:ext cx="0" cy="5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857840" y="5286600"/>
              <a:ext cx="3236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Nearest Neighbor Classifier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48640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Rule Based System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2209680" y="1981080"/>
            <a:ext cx="4768560" cy="4343400"/>
            <a:chOff x="2209680" y="1981080"/>
            <a:chExt cx="4768560" cy="4343400"/>
          </a:xfrm>
        </p:grpSpPr>
        <p:sp>
          <p:nvSpPr>
            <p:cNvPr id="881" name=""/>
            <p:cNvSpPr/>
            <p:nvPr/>
          </p:nvSpPr>
          <p:spPr>
            <a:xfrm>
              <a:off x="3801960" y="5790600"/>
              <a:ext cx="1396440" cy="53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ategy Ru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581800" y="5790600"/>
              <a:ext cx="1396440" cy="53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 priori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mod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5198760" y="6073560"/>
              <a:ext cx="39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93680" y="4779720"/>
              <a:ext cx="13964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cus of Attention Ru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793680" y="3728160"/>
              <a:ext cx="1396440" cy="53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nowledge Ru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750840" y="2304360"/>
              <a:ext cx="1396440" cy="94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Activ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Ce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09680" y="1981080"/>
              <a:ext cx="1047240" cy="147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684040" y="2021400"/>
              <a:ext cx="1047240" cy="147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4474800" y="5305320"/>
              <a:ext cx="0" cy="49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4466520" y="4269960"/>
              <a:ext cx="0" cy="49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4449240" y="3234600"/>
              <a:ext cx="0" cy="49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2737440" y="3444840"/>
              <a:ext cx="0" cy="159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2720520" y="5054760"/>
              <a:ext cx="106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5156280" y="5038560"/>
              <a:ext cx="106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229080" y="3501360"/>
              <a:ext cx="0" cy="15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256920" y="2773800"/>
              <a:ext cx="50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156280" y="2757240"/>
              <a:ext cx="50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Strategy Rul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48640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FOA Rul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486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Knowledge Rul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828800" y="2376360"/>
            <a:ext cx="54864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Neuro-Fuzzy Classifier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437976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Computer Aided Diagnosis: Data Processing 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grpSp>
        <p:nvGrpSpPr>
          <p:cNvPr id="907" name="Group 20"/>
          <p:cNvGrpSpPr/>
          <p:nvPr/>
        </p:nvGrpSpPr>
        <p:grpSpPr>
          <a:xfrm>
            <a:off x="533520" y="2209680"/>
            <a:ext cx="7958160" cy="4157280"/>
            <a:chOff x="533520" y="2209680"/>
            <a:chExt cx="7958160" cy="4157280"/>
          </a:xfrm>
        </p:grpSpPr>
        <p:sp>
          <p:nvSpPr>
            <p:cNvPr id="908" name="Rectangle 2"/>
            <p:cNvSpPr/>
            <p:nvPr/>
          </p:nvSpPr>
          <p:spPr>
            <a:xfrm>
              <a:off x="533520" y="2209680"/>
              <a:ext cx="7958160" cy="25344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3"/>
            <p:cNvSpPr/>
            <p:nvPr/>
          </p:nvSpPr>
          <p:spPr>
            <a:xfrm>
              <a:off x="871560" y="5294160"/>
              <a:ext cx="7196040" cy="1072800"/>
            </a:xfrm>
            <a:prstGeom prst="rect">
              <a:avLst/>
            </a:prstGeom>
            <a:solidFill>
              <a:srgbClr val="ff3399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5"/>
            <p:cNvSpPr/>
            <p:nvPr/>
          </p:nvSpPr>
          <p:spPr>
            <a:xfrm>
              <a:off x="1226880" y="5532840"/>
              <a:ext cx="2995200" cy="685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0089"/>
                  </a:solidFill>
                  <a:latin typeface="Times New Roman"/>
                </a:rPr>
                <a:t>Predictive 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6"/>
            <p:cNvSpPr/>
            <p:nvPr/>
          </p:nvSpPr>
          <p:spPr>
            <a:xfrm>
              <a:off x="4691880" y="5511240"/>
              <a:ext cx="2995200" cy="685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0089"/>
                  </a:solidFill>
                  <a:latin typeface="Times New Roman"/>
                </a:rPr>
                <a:t>ROC 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Rectangle 7"/>
            <p:cNvSpPr/>
            <p:nvPr/>
          </p:nvSpPr>
          <p:spPr>
            <a:xfrm>
              <a:off x="836640" y="2292480"/>
              <a:ext cx="1911960" cy="874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a0089"/>
                  </a:solidFill>
                  <a:latin typeface="Times New Roman"/>
                </a:rPr>
                <a:t>Medic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a0089"/>
                  </a:solidFill>
                  <a:latin typeface="Times New Roman"/>
                </a:rPr>
                <a:t>Imag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a0089"/>
                  </a:solidFill>
                  <a:latin typeface="Times New Roman"/>
                </a:rPr>
                <a:t>Scan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8"/>
            <p:cNvSpPr/>
            <p:nvPr/>
          </p:nvSpPr>
          <p:spPr>
            <a:xfrm>
              <a:off x="6231960" y="3600720"/>
              <a:ext cx="1911960" cy="875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a0089"/>
                  </a:solidFill>
                  <a:latin typeface="Times New Roman"/>
                </a:rPr>
                <a:t>Featu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a0089"/>
                  </a:solidFill>
                  <a:latin typeface="Times New Roman"/>
                </a:rPr>
                <a:t>Extra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9"/>
            <p:cNvSpPr/>
            <p:nvPr/>
          </p:nvSpPr>
          <p:spPr>
            <a:xfrm>
              <a:off x="6212160" y="2257560"/>
              <a:ext cx="1912320" cy="8748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a0089"/>
                  </a:solidFill>
                  <a:latin typeface="Times New Roman"/>
                </a:rPr>
                <a:t>Data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Rectangle 10"/>
            <p:cNvSpPr/>
            <p:nvPr/>
          </p:nvSpPr>
          <p:spPr>
            <a:xfrm>
              <a:off x="3561120" y="2291400"/>
              <a:ext cx="1911960" cy="874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a0089"/>
                  </a:solidFill>
                  <a:latin typeface="Times New Roman"/>
                </a:rPr>
                <a:t>Raw-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a0089"/>
                  </a:solidFill>
                  <a:latin typeface="Times New Roman"/>
                </a:rPr>
                <a:t>Repres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Rectangle 11"/>
            <p:cNvSpPr/>
            <p:nvPr/>
          </p:nvSpPr>
          <p:spPr>
            <a:xfrm>
              <a:off x="877680" y="3666600"/>
              <a:ext cx="1913760" cy="874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a0089"/>
                  </a:solidFill>
                  <a:latin typeface="Times New Roman"/>
                </a:rPr>
                <a:t>Patte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a0089"/>
                  </a:solidFill>
                  <a:latin typeface="Times New Roman"/>
                </a:rPr>
                <a:t>Class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Rectangle 12"/>
            <p:cNvSpPr/>
            <p:nvPr/>
          </p:nvSpPr>
          <p:spPr>
            <a:xfrm>
              <a:off x="3600720" y="3648960"/>
              <a:ext cx="1911960" cy="874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a0089"/>
                  </a:solidFill>
                  <a:latin typeface="Times New Roman"/>
                </a:rPr>
                <a:t>Cor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a0089"/>
                  </a:solidFill>
                  <a:latin typeface="Times New Roman"/>
                </a:rPr>
                <a:t>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a0089"/>
                  </a:solidFill>
                  <a:latin typeface="Times New Roman"/>
                </a:rPr>
                <a:t>Optim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AutoShape 13"/>
            <p:cNvSpPr/>
            <p:nvPr/>
          </p:nvSpPr>
          <p:spPr>
            <a:xfrm>
              <a:off x="2748960" y="2679120"/>
              <a:ext cx="815040" cy="154080"/>
            </a:xfrm>
            <a:prstGeom prst="rightArrow">
              <a:avLst>
                <a:gd name="adj1" fmla="val 50000"/>
                <a:gd name="adj2" fmla="val 132243"/>
              </a:avLst>
            </a:prstGeom>
            <a:solidFill>
              <a:srgbClr val="ffcf01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AutoShape 14"/>
            <p:cNvSpPr/>
            <p:nvPr/>
          </p:nvSpPr>
          <p:spPr>
            <a:xfrm>
              <a:off x="5456520" y="2638800"/>
              <a:ext cx="813600" cy="155160"/>
            </a:xfrm>
            <a:prstGeom prst="rightArrow">
              <a:avLst>
                <a:gd name="adj1" fmla="val 50000"/>
                <a:gd name="adj2" fmla="val 131090"/>
              </a:avLst>
            </a:prstGeom>
            <a:solidFill>
              <a:srgbClr val="ffcf01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AutoShape 15"/>
            <p:cNvSpPr/>
            <p:nvPr/>
          </p:nvSpPr>
          <p:spPr>
            <a:xfrm>
              <a:off x="5441040" y="3965760"/>
              <a:ext cx="796680" cy="154080"/>
            </a:xfrm>
            <a:prstGeom prst="leftArrow">
              <a:avLst>
                <a:gd name="adj1" fmla="val 50000"/>
                <a:gd name="adj2" fmla="val 129264"/>
              </a:avLst>
            </a:prstGeom>
            <a:solidFill>
              <a:srgbClr val="ffcf01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AutoShape 16"/>
            <p:cNvSpPr/>
            <p:nvPr/>
          </p:nvSpPr>
          <p:spPr>
            <a:xfrm>
              <a:off x="2759400" y="3988440"/>
              <a:ext cx="796680" cy="154080"/>
            </a:xfrm>
            <a:prstGeom prst="leftArrow">
              <a:avLst>
                <a:gd name="adj1" fmla="val 50000"/>
                <a:gd name="adj2" fmla="val 129264"/>
              </a:avLst>
            </a:prstGeom>
            <a:solidFill>
              <a:srgbClr val="ffcf01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AutoShape 17"/>
            <p:cNvSpPr/>
            <p:nvPr/>
          </p:nvSpPr>
          <p:spPr>
            <a:xfrm>
              <a:off x="7099200" y="3129840"/>
              <a:ext cx="223560" cy="450360"/>
            </a:xfrm>
            <a:prstGeom prst="downArrow">
              <a:avLst>
                <a:gd name="adj1" fmla="val 50000"/>
                <a:gd name="adj2" fmla="val 50362"/>
              </a:avLst>
            </a:prstGeom>
            <a:solidFill>
              <a:srgbClr val="ffcf01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AutoShape 18"/>
            <p:cNvSpPr/>
            <p:nvPr/>
          </p:nvSpPr>
          <p:spPr>
            <a:xfrm>
              <a:off x="1702080" y="3163320"/>
              <a:ext cx="202320" cy="505440"/>
            </a:xfrm>
            <a:prstGeom prst="upArrow">
              <a:avLst>
                <a:gd name="adj1" fmla="val 50000"/>
                <a:gd name="adj2" fmla="val 62456"/>
              </a:avLst>
            </a:prstGeom>
            <a:solidFill>
              <a:srgbClr val="3333cc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AutoShape 19"/>
            <p:cNvSpPr/>
            <p:nvPr/>
          </p:nvSpPr>
          <p:spPr>
            <a:xfrm>
              <a:off x="4123440" y="4713120"/>
              <a:ext cx="728280" cy="56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f01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Extraction of Ventricl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926" name="Object 3" descr=""/>
          <p:cNvPicPr/>
          <p:nvPr/>
        </p:nvPicPr>
        <p:blipFill>
          <a:blip r:embed="rId1"/>
          <a:stretch/>
        </p:blipFill>
        <p:spPr>
          <a:xfrm>
            <a:off x="1892160" y="1905120"/>
            <a:ext cx="4965840" cy="4817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Composite 3D Ventricle Model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928" name="Object 3" descr=""/>
          <p:cNvPicPr/>
          <p:nvPr/>
        </p:nvPicPr>
        <p:blipFill>
          <a:blip r:embed="rId1"/>
          <a:stretch/>
        </p:blipFill>
        <p:spPr>
          <a:xfrm>
            <a:off x="1911240" y="2133720"/>
            <a:ext cx="4946760" cy="455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mage Averaging Mask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843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200400" y="2057400"/>
                <a:ext cx="26337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240" y="453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38080" y="3124080"/>
            <a:ext cx="3200040" cy="2742840"/>
            <a:chOff x="838080" y="3124080"/>
            <a:chExt cx="3200040" cy="2742840"/>
          </a:xfrm>
        </p:grpSpPr>
        <p:grpSp>
          <p:nvGrpSpPr>
            <p:cNvPr id="135" name=""/>
            <p:cNvGrpSpPr/>
            <p:nvPr/>
          </p:nvGrpSpPr>
          <p:grpSpPr>
            <a:xfrm>
              <a:off x="843480" y="3130560"/>
              <a:ext cx="3187800" cy="2728080"/>
              <a:chOff x="843480" y="3130560"/>
              <a:chExt cx="3187800" cy="272808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843480" y="3130560"/>
                <a:ext cx="1062360" cy="909000"/>
                <a:chOff x="843480" y="3130560"/>
                <a:chExt cx="1062360" cy="9090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925560" y="3130560"/>
                  <a:ext cx="897840" cy="90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43480" y="3130560"/>
                  <a:ext cx="106236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1906200" y="3130560"/>
                <a:ext cx="1062360" cy="909000"/>
                <a:chOff x="1906200" y="3130560"/>
                <a:chExt cx="1062360" cy="9090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987920" y="3130560"/>
                  <a:ext cx="898200" cy="90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0" i="1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-1,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906200" y="3130560"/>
                  <a:ext cx="106236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969280" y="3130560"/>
                <a:ext cx="1062000" cy="909000"/>
                <a:chOff x="2969280" y="3130560"/>
                <a:chExt cx="1062000" cy="9090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3051000" y="3130560"/>
                  <a:ext cx="898200" cy="90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969280" y="3130560"/>
                  <a:ext cx="106200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843480" y="4039920"/>
                <a:ext cx="1062360" cy="909000"/>
                <a:chOff x="843480" y="4039920"/>
                <a:chExt cx="1062360" cy="9090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925560" y="4039920"/>
                  <a:ext cx="897840" cy="90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0" i="1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0,-1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43480" y="4039920"/>
                  <a:ext cx="106236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1906200" y="4039920"/>
                <a:ext cx="1062360" cy="909000"/>
                <a:chOff x="1906200" y="4039920"/>
                <a:chExt cx="1062360" cy="9090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987920" y="4039920"/>
                  <a:ext cx="898200" cy="90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0" i="1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0,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06200" y="4039920"/>
                  <a:ext cx="106236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969280" y="4039920"/>
                <a:ext cx="1062000" cy="909000"/>
                <a:chOff x="2969280" y="4039920"/>
                <a:chExt cx="1062000" cy="9090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051000" y="4039920"/>
                  <a:ext cx="898200" cy="90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0" i="1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0,1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969280" y="4039920"/>
                  <a:ext cx="106200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843480" y="4949640"/>
                <a:ext cx="1062360" cy="909000"/>
                <a:chOff x="843480" y="4949640"/>
                <a:chExt cx="1062360" cy="9090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925560" y="4949640"/>
                  <a:ext cx="897840" cy="90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43480" y="4949640"/>
                  <a:ext cx="106236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1906200" y="4949640"/>
                <a:ext cx="1062360" cy="909000"/>
                <a:chOff x="1906200" y="4949640"/>
                <a:chExt cx="1062360" cy="9090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987920" y="4949640"/>
                  <a:ext cx="898200" cy="90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0" i="1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,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906200" y="4949640"/>
                  <a:ext cx="106236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2969280" y="4949640"/>
                <a:ext cx="1062000" cy="909000"/>
                <a:chOff x="2969280" y="4949640"/>
                <a:chExt cx="1062000" cy="9090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051000" y="4949640"/>
                  <a:ext cx="898200" cy="90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969280" y="4949640"/>
                  <a:ext cx="106200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" name=""/>
            <p:cNvSpPr/>
            <p:nvPr/>
          </p:nvSpPr>
          <p:spPr>
            <a:xfrm>
              <a:off x="838080" y="3124080"/>
              <a:ext cx="3200040" cy="2742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876920" y="3124080"/>
            <a:ext cx="3114360" cy="2666880"/>
            <a:chOff x="4876920" y="3124080"/>
            <a:chExt cx="3114360" cy="2666880"/>
          </a:xfrm>
        </p:grpSpPr>
        <p:grpSp>
          <p:nvGrpSpPr>
            <p:cNvPr id="165" name=""/>
            <p:cNvGrpSpPr/>
            <p:nvPr/>
          </p:nvGrpSpPr>
          <p:grpSpPr>
            <a:xfrm>
              <a:off x="4882320" y="3130200"/>
              <a:ext cx="3102480" cy="2652480"/>
              <a:chOff x="4882320" y="3130200"/>
              <a:chExt cx="3102480" cy="265248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4882320" y="3130200"/>
                <a:ext cx="1033920" cy="883800"/>
                <a:chOff x="4882320" y="3130200"/>
                <a:chExt cx="1033920" cy="8838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962240" y="3130200"/>
                  <a:ext cx="873720" cy="88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0" i="1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-1,-1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882320" y="3130200"/>
                  <a:ext cx="1033920" cy="88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5916600" y="3130200"/>
                <a:ext cx="1033920" cy="883800"/>
                <a:chOff x="5916600" y="3130200"/>
                <a:chExt cx="1033920" cy="8838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996160" y="3130200"/>
                  <a:ext cx="874080" cy="88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0" i="1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-1,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916600" y="3130200"/>
                  <a:ext cx="1033920" cy="88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951240" y="3130200"/>
                <a:ext cx="1033560" cy="883800"/>
                <a:chOff x="6951240" y="3130200"/>
                <a:chExt cx="1033560" cy="8838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7030800" y="3130200"/>
                  <a:ext cx="874080" cy="88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0" i="1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-1,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951240" y="3130200"/>
                  <a:ext cx="1033560" cy="88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882320" y="4014360"/>
                <a:ext cx="1033920" cy="883800"/>
                <a:chOff x="4882320" y="4014360"/>
                <a:chExt cx="1033920" cy="8838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962240" y="4014360"/>
                  <a:ext cx="873720" cy="88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0" i="1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0,-1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882320" y="4014360"/>
                  <a:ext cx="1033920" cy="88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5916600" y="4014360"/>
                <a:ext cx="1033920" cy="883800"/>
                <a:chOff x="5916600" y="4014360"/>
                <a:chExt cx="1033920" cy="8838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996160" y="4014360"/>
                  <a:ext cx="874080" cy="88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0" i="1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0,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916600" y="4014360"/>
                  <a:ext cx="1033920" cy="88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951240" y="4014360"/>
                <a:ext cx="1033560" cy="883800"/>
                <a:chOff x="6951240" y="4014360"/>
                <a:chExt cx="1033560" cy="88380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7030800" y="4014360"/>
                  <a:ext cx="874080" cy="88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0" i="1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0,1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951240" y="4014360"/>
                  <a:ext cx="1033560" cy="88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4882320" y="4898880"/>
                <a:ext cx="1033920" cy="883800"/>
                <a:chOff x="4882320" y="4898880"/>
                <a:chExt cx="1033920" cy="8838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962240" y="4898880"/>
                  <a:ext cx="873720" cy="88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0" i="1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0,-1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882320" y="4898880"/>
                  <a:ext cx="1033920" cy="88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916600" y="4898880"/>
                <a:ext cx="1033920" cy="883800"/>
                <a:chOff x="5916600" y="4898880"/>
                <a:chExt cx="1033920" cy="8838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996160" y="4898880"/>
                  <a:ext cx="874080" cy="88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0" i="1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,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916600" y="4898880"/>
                  <a:ext cx="1033920" cy="88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6951240" y="4898880"/>
                <a:ext cx="1033560" cy="883800"/>
                <a:chOff x="6951240" y="4898880"/>
                <a:chExt cx="1033560" cy="8838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7030800" y="4898880"/>
                  <a:ext cx="874080" cy="88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0" i="1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,1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951240" y="4898880"/>
                  <a:ext cx="1033560" cy="88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" name=""/>
            <p:cNvSpPr/>
            <p:nvPr/>
          </p:nvSpPr>
          <p:spPr>
            <a:xfrm>
              <a:off x="4876920" y="3124080"/>
              <a:ext cx="3114360" cy="2666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240" y="5764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Extraction of Lesion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930" name="Object 1027" descr=""/>
          <p:cNvPicPr/>
          <p:nvPr/>
        </p:nvPicPr>
        <p:blipFill>
          <a:blip r:embed="rId1"/>
          <a:stretch/>
        </p:blipFill>
        <p:spPr>
          <a:xfrm>
            <a:off x="1873080" y="1981080"/>
            <a:ext cx="5061240" cy="480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Extraction of Sulci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932" name="Object 1027" descr=""/>
          <p:cNvPicPr/>
          <p:nvPr/>
        </p:nvPicPr>
        <p:blipFill>
          <a:blip r:embed="rId1"/>
          <a:stretch/>
        </p:blipFill>
        <p:spPr>
          <a:xfrm>
            <a:off x="1892160" y="1905120"/>
            <a:ext cx="4965840" cy="480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Segmented Region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934" name="Object 1027" descr=""/>
          <p:cNvPicPr/>
          <p:nvPr/>
        </p:nvPicPr>
        <p:blipFill>
          <a:blip r:embed="rId1"/>
          <a:stretch/>
        </p:blipFill>
        <p:spPr>
          <a:xfrm>
            <a:off x="2889360" y="252720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Freeform 2"/>
          <p:cNvSpPr/>
          <p:nvPr/>
        </p:nvSpPr>
        <p:spPr>
          <a:xfrm>
            <a:off x="-87480" y="0"/>
            <a:ext cx="4599000" cy="608040"/>
          </a:xfrm>
          <a:custGeom>
            <a:avLst/>
            <a:gdLst>
              <a:gd name="textAreaLeft" fmla="*/ 0 w 4599000"/>
              <a:gd name="textAreaRight" fmla="*/ 4599360 w 4599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897" h="383">
                <a:moveTo>
                  <a:pt x="2691" y="382"/>
                </a:moveTo>
                <a:lnTo>
                  <a:pt x="0" y="382"/>
                </a:lnTo>
                <a:lnTo>
                  <a:pt x="0" y="0"/>
                </a:lnTo>
                <a:lnTo>
                  <a:pt x="2896" y="0"/>
                </a:lnTo>
                <a:lnTo>
                  <a:pt x="2699" y="382"/>
                </a:lnTo>
              </a:path>
            </a:pathLst>
          </a:custGeom>
          <a:solidFill>
            <a:srgbClr val="a680ff"/>
          </a:solidFill>
          <a:ln w="0">
            <a:noFill/>
          </a:ln>
          <a:effectLst>
            <a:outerShdw dist="161899" dir="2700000" blurRad="0" rotWithShape="0">
              <a:srgbClr val="3300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3"/>
          <p:cNvSpPr/>
          <p:nvPr/>
        </p:nvSpPr>
        <p:spPr>
          <a:xfrm>
            <a:off x="237960" y="2610000"/>
            <a:ext cx="8655120" cy="99720"/>
          </a:xfrm>
          <a:prstGeom prst="rect">
            <a:avLst/>
          </a:prstGeom>
          <a:gradFill rotWithShape="0">
            <a:gsLst>
              <a:gs pos="0">
                <a:srgbClr val="ffdacc"/>
              </a:gs>
              <a:gs pos="100000">
                <a:srgbClr val="ff4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4"/>
          <p:cNvSpPr/>
          <p:nvPr/>
        </p:nvSpPr>
        <p:spPr>
          <a:xfrm>
            <a:off x="250920" y="98280"/>
            <a:ext cx="50482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enter for Intelligent Visio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48920" y="887040"/>
            <a:ext cx="8319960" cy="1730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ctr" anchorCtr="1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Structural Signatures: Volume Measurements </a:t>
            </a:r>
            <a:br>
              <a:rPr sz="3400"/>
            </a:b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of Ventricular Size and Cortical Atrophy in </a:t>
            </a:r>
            <a:br>
              <a:rPr sz="3400"/>
            </a:b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Alcoholic and Normal Populations from MRI</a:t>
            </a:r>
            <a:endParaRPr b="0" lang="en-US" sz="3400" spc="-1" strike="noStrike">
              <a:solidFill>
                <a:srgbClr val="cc3300"/>
              </a:solidFill>
              <a:latin typeface="Tahoma"/>
            </a:endParaRPr>
          </a:p>
        </p:txBody>
      </p:sp>
      <p:grpSp>
        <p:nvGrpSpPr>
          <p:cNvPr id="939" name="Group 6"/>
          <p:cNvGrpSpPr/>
          <p:nvPr/>
        </p:nvGrpSpPr>
        <p:grpSpPr>
          <a:xfrm>
            <a:off x="914400" y="3048120"/>
            <a:ext cx="6889680" cy="3105000"/>
            <a:chOff x="914400" y="3048120"/>
            <a:chExt cx="6889680" cy="3105000"/>
          </a:xfrm>
        </p:grpSpPr>
        <p:sp>
          <p:nvSpPr>
            <p:cNvPr id="940" name="Freeform 7"/>
            <p:cNvSpPr/>
            <p:nvPr/>
          </p:nvSpPr>
          <p:spPr>
            <a:xfrm>
              <a:off x="3795840" y="3048120"/>
              <a:ext cx="3733560" cy="2654280"/>
            </a:xfrm>
            <a:custGeom>
              <a:avLst/>
              <a:gdLst>
                <a:gd name="textAreaLeft" fmla="*/ 0 w 3733560"/>
                <a:gd name="textAreaRight" fmla="*/ 3733920 w 3733560"/>
                <a:gd name="textAreaTop" fmla="*/ 0 h 2654280"/>
                <a:gd name="textAreaBottom" fmla="*/ 2654640 h 2654280"/>
              </a:gdLst>
              <a:ahLst/>
              <a:rect l="textAreaLeft" t="textAreaTop" r="textAreaRight" b="textAreaBottom"/>
              <a:pathLst>
                <a:path w="2352" h="1672">
                  <a:moveTo>
                    <a:pt x="0" y="1671"/>
                  </a:moveTo>
                  <a:lnTo>
                    <a:pt x="2351" y="1671"/>
                  </a:lnTo>
                  <a:lnTo>
                    <a:pt x="0" y="1671"/>
                  </a:lnTo>
                  <a:lnTo>
                    <a:pt x="0" y="1262"/>
                  </a:lnTo>
                  <a:lnTo>
                    <a:pt x="2351" y="1262"/>
                  </a:lnTo>
                  <a:lnTo>
                    <a:pt x="0" y="1262"/>
                  </a:lnTo>
                  <a:lnTo>
                    <a:pt x="0" y="836"/>
                  </a:lnTo>
                  <a:lnTo>
                    <a:pt x="2351" y="836"/>
                  </a:lnTo>
                  <a:lnTo>
                    <a:pt x="0" y="836"/>
                  </a:lnTo>
                  <a:lnTo>
                    <a:pt x="0" y="418"/>
                  </a:lnTo>
                  <a:lnTo>
                    <a:pt x="2351" y="418"/>
                  </a:lnTo>
                  <a:lnTo>
                    <a:pt x="0" y="418"/>
                  </a:lnTo>
                  <a:lnTo>
                    <a:pt x="0" y="0"/>
                  </a:lnTo>
                  <a:lnTo>
                    <a:pt x="235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Freeform 8"/>
            <p:cNvSpPr/>
            <p:nvPr/>
          </p:nvSpPr>
          <p:spPr>
            <a:xfrm>
              <a:off x="3795840" y="3048120"/>
              <a:ext cx="3733560" cy="2654280"/>
            </a:xfrm>
            <a:custGeom>
              <a:avLst/>
              <a:gdLst>
                <a:gd name="textAreaLeft" fmla="*/ 0 w 3733560"/>
                <a:gd name="textAreaRight" fmla="*/ 3733920 w 3733560"/>
                <a:gd name="textAreaTop" fmla="*/ 0 h 2654280"/>
                <a:gd name="textAreaBottom" fmla="*/ 2654640 h 2654280"/>
              </a:gdLst>
              <a:ahLst/>
              <a:rect l="textAreaLeft" t="textAreaTop" r="textAreaRight" b="textAreaBottom"/>
              <a:pathLst>
                <a:path w="2352" h="1672">
                  <a:moveTo>
                    <a:pt x="0" y="1671"/>
                  </a:moveTo>
                  <a:lnTo>
                    <a:pt x="0" y="0"/>
                  </a:lnTo>
                  <a:lnTo>
                    <a:pt x="0" y="1671"/>
                  </a:lnTo>
                  <a:lnTo>
                    <a:pt x="473" y="1671"/>
                  </a:lnTo>
                  <a:lnTo>
                    <a:pt x="473" y="0"/>
                  </a:lnTo>
                  <a:lnTo>
                    <a:pt x="473" y="1671"/>
                  </a:lnTo>
                  <a:lnTo>
                    <a:pt x="939" y="1671"/>
                  </a:lnTo>
                  <a:lnTo>
                    <a:pt x="939" y="0"/>
                  </a:lnTo>
                  <a:lnTo>
                    <a:pt x="939" y="1671"/>
                  </a:lnTo>
                  <a:lnTo>
                    <a:pt x="1412" y="1671"/>
                  </a:lnTo>
                  <a:lnTo>
                    <a:pt x="1412" y="0"/>
                  </a:lnTo>
                  <a:lnTo>
                    <a:pt x="1412" y="1671"/>
                  </a:lnTo>
                  <a:lnTo>
                    <a:pt x="1886" y="1671"/>
                  </a:lnTo>
                  <a:lnTo>
                    <a:pt x="1886" y="0"/>
                  </a:lnTo>
                  <a:lnTo>
                    <a:pt x="1886" y="1671"/>
                  </a:lnTo>
                  <a:lnTo>
                    <a:pt x="2351" y="1671"/>
                  </a:lnTo>
                  <a:lnTo>
                    <a:pt x="2351" y="0"/>
                  </a:lnTo>
                  <a:lnTo>
                    <a:pt x="2351" y="167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Line 9"/>
            <p:cNvSpPr/>
            <p:nvPr/>
          </p:nvSpPr>
          <p:spPr>
            <a:xfrm flipV="1">
              <a:off x="7527960" y="3048120"/>
              <a:ext cx="0" cy="2652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Line 10"/>
            <p:cNvSpPr/>
            <p:nvPr/>
          </p:nvSpPr>
          <p:spPr>
            <a:xfrm>
              <a:off x="3795840" y="3048120"/>
              <a:ext cx="3719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Rectangle 11"/>
            <p:cNvSpPr/>
            <p:nvPr/>
          </p:nvSpPr>
          <p:spPr>
            <a:xfrm>
              <a:off x="4002120" y="5129280"/>
              <a:ext cx="138240" cy="509400"/>
            </a:xfrm>
            <a:prstGeom prst="rect">
              <a:avLst/>
            </a:prstGeom>
            <a:solidFill>
              <a:srgbClr val="ffc62a"/>
            </a:solidFill>
            <a:ln w="12600">
              <a:solidFill>
                <a:srgbClr val="ffc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Rectangle 12"/>
            <p:cNvSpPr/>
            <p:nvPr/>
          </p:nvSpPr>
          <p:spPr>
            <a:xfrm>
              <a:off x="4152960" y="5129280"/>
              <a:ext cx="136440" cy="509400"/>
            </a:xfrm>
            <a:prstGeom prst="rect">
              <a:avLst/>
            </a:prstGeom>
            <a:solidFill>
              <a:srgbClr val="ff4600"/>
            </a:solidFill>
            <a:ln w="12600">
              <a:solidFill>
                <a:srgbClr val="ff4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Rectangle 13"/>
            <p:cNvSpPr/>
            <p:nvPr/>
          </p:nvSpPr>
          <p:spPr>
            <a:xfrm>
              <a:off x="4027320" y="4465800"/>
              <a:ext cx="87480" cy="509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c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Rectangle 14"/>
            <p:cNvSpPr/>
            <p:nvPr/>
          </p:nvSpPr>
          <p:spPr>
            <a:xfrm>
              <a:off x="4148280" y="4484520"/>
              <a:ext cx="48960" cy="471600"/>
            </a:xfrm>
            <a:prstGeom prst="rect">
              <a:avLst/>
            </a:prstGeom>
            <a:solidFill>
              <a:srgbClr val="ff4600"/>
            </a:solidFill>
            <a:ln w="50760">
              <a:solidFill>
                <a:srgbClr val="ff4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5"/>
            <p:cNvSpPr/>
            <p:nvPr/>
          </p:nvSpPr>
          <p:spPr>
            <a:xfrm>
              <a:off x="5977080" y="3807000"/>
              <a:ext cx="500040" cy="471240"/>
            </a:xfrm>
            <a:prstGeom prst="rect">
              <a:avLst/>
            </a:prstGeom>
            <a:solidFill>
              <a:srgbClr val="ffc62a"/>
            </a:solidFill>
            <a:ln w="50760">
              <a:solidFill>
                <a:srgbClr val="ffc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16"/>
            <p:cNvSpPr/>
            <p:nvPr/>
          </p:nvSpPr>
          <p:spPr>
            <a:xfrm>
              <a:off x="6507000" y="3787920"/>
              <a:ext cx="514440" cy="509400"/>
            </a:xfrm>
            <a:prstGeom prst="rect">
              <a:avLst/>
            </a:prstGeom>
            <a:solidFill>
              <a:srgbClr val="ff4600"/>
            </a:solidFill>
            <a:ln w="12600">
              <a:solidFill>
                <a:srgbClr val="ff4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17"/>
            <p:cNvSpPr/>
            <p:nvPr/>
          </p:nvSpPr>
          <p:spPr>
            <a:xfrm>
              <a:off x="4878360" y="3124080"/>
              <a:ext cx="501840" cy="509760"/>
            </a:xfrm>
            <a:prstGeom prst="rect">
              <a:avLst/>
            </a:prstGeom>
            <a:solidFill>
              <a:srgbClr val="ffc62a"/>
            </a:solidFill>
            <a:ln w="12600">
              <a:solidFill>
                <a:srgbClr val="ffc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18"/>
            <p:cNvSpPr/>
            <p:nvPr/>
          </p:nvSpPr>
          <p:spPr>
            <a:xfrm>
              <a:off x="5392800" y="3124080"/>
              <a:ext cx="550800" cy="509760"/>
            </a:xfrm>
            <a:prstGeom prst="rect">
              <a:avLst/>
            </a:prstGeom>
            <a:solidFill>
              <a:srgbClr val="ff4600"/>
            </a:solidFill>
            <a:ln w="12600">
              <a:solidFill>
                <a:srgbClr val="ff4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Group 19"/>
            <p:cNvGrpSpPr/>
            <p:nvPr/>
          </p:nvGrpSpPr>
          <p:grpSpPr>
            <a:xfrm>
              <a:off x="3683160" y="3048120"/>
              <a:ext cx="114120" cy="2654280"/>
              <a:chOff x="3683160" y="3048120"/>
              <a:chExt cx="114120" cy="2654280"/>
            </a:xfrm>
          </p:grpSpPr>
          <p:sp>
            <p:nvSpPr>
              <p:cNvPr id="953" name="Freeform 20"/>
              <p:cNvSpPr/>
              <p:nvPr/>
            </p:nvSpPr>
            <p:spPr>
              <a:xfrm>
                <a:off x="3683160" y="3048120"/>
                <a:ext cx="114120" cy="26542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2654280"/>
                  <a:gd name="textAreaBottom" fmla="*/ 2654640 h 2654280"/>
                </a:gdLst>
                <a:ahLst/>
                <a:rect l="textAreaLeft" t="textAreaTop" r="textAreaRight" b="textAreaBottom"/>
                <a:pathLst>
                  <a:path w="72" h="1672">
                    <a:moveTo>
                      <a:pt x="71" y="1671"/>
                    </a:moveTo>
                    <a:lnTo>
                      <a:pt x="0" y="1671"/>
                    </a:lnTo>
                    <a:lnTo>
                      <a:pt x="71" y="1671"/>
                    </a:lnTo>
                    <a:lnTo>
                      <a:pt x="71" y="1262"/>
                    </a:lnTo>
                    <a:lnTo>
                      <a:pt x="0" y="1262"/>
                    </a:lnTo>
                    <a:lnTo>
                      <a:pt x="71" y="1262"/>
                    </a:lnTo>
                    <a:lnTo>
                      <a:pt x="71" y="836"/>
                    </a:lnTo>
                    <a:lnTo>
                      <a:pt x="0" y="836"/>
                    </a:lnTo>
                    <a:lnTo>
                      <a:pt x="71" y="836"/>
                    </a:lnTo>
                    <a:lnTo>
                      <a:pt x="71" y="418"/>
                    </a:lnTo>
                    <a:lnTo>
                      <a:pt x="0" y="418"/>
                    </a:lnTo>
                    <a:lnTo>
                      <a:pt x="71" y="418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21"/>
              <p:cNvSpPr/>
              <p:nvPr/>
            </p:nvSpPr>
            <p:spPr>
              <a:xfrm flipV="1">
                <a:off x="3795840" y="3048120"/>
                <a:ext cx="0" cy="26524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Group 22"/>
            <p:cNvGrpSpPr/>
            <p:nvPr/>
          </p:nvGrpSpPr>
          <p:grpSpPr>
            <a:xfrm>
              <a:off x="3795840" y="5700600"/>
              <a:ext cx="3733560" cy="100080"/>
              <a:chOff x="3795840" y="5700600"/>
              <a:chExt cx="3733560" cy="100080"/>
            </a:xfrm>
          </p:grpSpPr>
          <p:sp>
            <p:nvSpPr>
              <p:cNvPr id="956" name="Freeform 23"/>
              <p:cNvSpPr/>
              <p:nvPr/>
            </p:nvSpPr>
            <p:spPr>
              <a:xfrm>
                <a:off x="3795840" y="5700600"/>
                <a:ext cx="3571920" cy="586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2250" h="37">
                    <a:moveTo>
                      <a:pt x="0" y="0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95" y="0"/>
                    </a:lnTo>
                    <a:lnTo>
                      <a:pt x="95" y="36"/>
                    </a:lnTo>
                    <a:lnTo>
                      <a:pt x="95" y="0"/>
                    </a:lnTo>
                    <a:lnTo>
                      <a:pt x="189" y="0"/>
                    </a:lnTo>
                    <a:lnTo>
                      <a:pt x="189" y="36"/>
                    </a:lnTo>
                    <a:lnTo>
                      <a:pt x="189" y="0"/>
                    </a:lnTo>
                    <a:lnTo>
                      <a:pt x="284" y="0"/>
                    </a:lnTo>
                    <a:lnTo>
                      <a:pt x="284" y="36"/>
                    </a:lnTo>
                    <a:lnTo>
                      <a:pt x="284" y="0"/>
                    </a:lnTo>
                    <a:lnTo>
                      <a:pt x="379" y="0"/>
                    </a:lnTo>
                    <a:lnTo>
                      <a:pt x="379" y="36"/>
                    </a:lnTo>
                    <a:lnTo>
                      <a:pt x="379" y="0"/>
                    </a:lnTo>
                    <a:lnTo>
                      <a:pt x="473" y="0"/>
                    </a:lnTo>
                    <a:lnTo>
                      <a:pt x="473" y="36"/>
                    </a:lnTo>
                    <a:lnTo>
                      <a:pt x="473" y="0"/>
                    </a:lnTo>
                    <a:lnTo>
                      <a:pt x="576" y="0"/>
                    </a:lnTo>
                    <a:lnTo>
                      <a:pt x="576" y="36"/>
                    </a:lnTo>
                    <a:lnTo>
                      <a:pt x="576" y="0"/>
                    </a:lnTo>
                    <a:lnTo>
                      <a:pt x="655" y="0"/>
                    </a:lnTo>
                    <a:lnTo>
                      <a:pt x="655" y="36"/>
                    </a:lnTo>
                    <a:lnTo>
                      <a:pt x="655" y="0"/>
                    </a:lnTo>
                    <a:lnTo>
                      <a:pt x="750" y="0"/>
                    </a:lnTo>
                    <a:lnTo>
                      <a:pt x="750" y="36"/>
                    </a:lnTo>
                    <a:lnTo>
                      <a:pt x="750" y="0"/>
                    </a:lnTo>
                    <a:lnTo>
                      <a:pt x="844" y="0"/>
                    </a:lnTo>
                    <a:lnTo>
                      <a:pt x="844" y="36"/>
                    </a:lnTo>
                    <a:lnTo>
                      <a:pt x="844" y="0"/>
                    </a:lnTo>
                    <a:lnTo>
                      <a:pt x="939" y="0"/>
                    </a:lnTo>
                    <a:lnTo>
                      <a:pt x="939" y="36"/>
                    </a:lnTo>
                    <a:lnTo>
                      <a:pt x="939" y="0"/>
                    </a:lnTo>
                    <a:lnTo>
                      <a:pt x="1034" y="0"/>
                    </a:lnTo>
                    <a:lnTo>
                      <a:pt x="1034" y="36"/>
                    </a:lnTo>
                    <a:lnTo>
                      <a:pt x="1034" y="0"/>
                    </a:lnTo>
                    <a:lnTo>
                      <a:pt x="1128" y="0"/>
                    </a:lnTo>
                    <a:lnTo>
                      <a:pt x="1128" y="36"/>
                    </a:lnTo>
                    <a:lnTo>
                      <a:pt x="1128" y="0"/>
                    </a:lnTo>
                    <a:lnTo>
                      <a:pt x="1223" y="0"/>
                    </a:lnTo>
                    <a:lnTo>
                      <a:pt x="1223" y="36"/>
                    </a:lnTo>
                    <a:lnTo>
                      <a:pt x="1223" y="0"/>
                    </a:lnTo>
                    <a:lnTo>
                      <a:pt x="1318" y="0"/>
                    </a:lnTo>
                    <a:lnTo>
                      <a:pt x="1318" y="36"/>
                    </a:lnTo>
                    <a:lnTo>
                      <a:pt x="1318" y="0"/>
                    </a:lnTo>
                    <a:lnTo>
                      <a:pt x="1413" y="0"/>
                    </a:lnTo>
                    <a:lnTo>
                      <a:pt x="1413" y="36"/>
                    </a:lnTo>
                    <a:lnTo>
                      <a:pt x="1413" y="0"/>
                    </a:lnTo>
                    <a:lnTo>
                      <a:pt x="1507" y="0"/>
                    </a:lnTo>
                    <a:lnTo>
                      <a:pt x="1507" y="36"/>
                    </a:lnTo>
                    <a:lnTo>
                      <a:pt x="1507" y="0"/>
                    </a:lnTo>
                    <a:lnTo>
                      <a:pt x="1602" y="0"/>
                    </a:lnTo>
                    <a:lnTo>
                      <a:pt x="1602" y="36"/>
                    </a:lnTo>
                    <a:lnTo>
                      <a:pt x="1602" y="0"/>
                    </a:lnTo>
                    <a:lnTo>
                      <a:pt x="1697" y="0"/>
                    </a:lnTo>
                    <a:lnTo>
                      <a:pt x="1697" y="36"/>
                    </a:lnTo>
                    <a:lnTo>
                      <a:pt x="1697" y="0"/>
                    </a:lnTo>
                    <a:lnTo>
                      <a:pt x="1791" y="0"/>
                    </a:lnTo>
                    <a:lnTo>
                      <a:pt x="1791" y="36"/>
                    </a:lnTo>
                    <a:lnTo>
                      <a:pt x="1791" y="0"/>
                    </a:lnTo>
                    <a:lnTo>
                      <a:pt x="1886" y="0"/>
                    </a:lnTo>
                    <a:lnTo>
                      <a:pt x="1886" y="36"/>
                    </a:lnTo>
                    <a:lnTo>
                      <a:pt x="1886" y="0"/>
                    </a:lnTo>
                    <a:lnTo>
                      <a:pt x="1981" y="0"/>
                    </a:lnTo>
                    <a:lnTo>
                      <a:pt x="1981" y="36"/>
                    </a:lnTo>
                    <a:lnTo>
                      <a:pt x="1981" y="0"/>
                    </a:lnTo>
                    <a:lnTo>
                      <a:pt x="2060" y="0"/>
                    </a:lnTo>
                    <a:lnTo>
                      <a:pt x="2060" y="36"/>
                    </a:lnTo>
                    <a:lnTo>
                      <a:pt x="2060" y="0"/>
                    </a:lnTo>
                    <a:lnTo>
                      <a:pt x="2154" y="0"/>
                    </a:lnTo>
                    <a:lnTo>
                      <a:pt x="2154" y="36"/>
                    </a:lnTo>
                    <a:lnTo>
                      <a:pt x="2154" y="0"/>
                    </a:lnTo>
                    <a:lnTo>
                      <a:pt x="2249" y="0"/>
                    </a:lnTo>
                    <a:lnTo>
                      <a:pt x="2249" y="36"/>
                    </a:lnTo>
                    <a:lnTo>
                      <a:pt x="224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Freeform 24"/>
              <p:cNvSpPr/>
              <p:nvPr/>
            </p:nvSpPr>
            <p:spPr>
              <a:xfrm>
                <a:off x="3795840" y="5700600"/>
                <a:ext cx="3733560" cy="100080"/>
              </a:xfrm>
              <a:custGeom>
                <a:avLst/>
                <a:gdLst>
                  <a:gd name="textAreaLeft" fmla="*/ 0 w 3733560"/>
                  <a:gd name="textAreaRight" fmla="*/ 3733920 w 373356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352" h="63">
                    <a:moveTo>
                      <a:pt x="0" y="0"/>
                    </a:moveTo>
                    <a:lnTo>
                      <a:pt x="0" y="62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3" y="62"/>
                    </a:lnTo>
                    <a:lnTo>
                      <a:pt x="473" y="0"/>
                    </a:lnTo>
                    <a:lnTo>
                      <a:pt x="939" y="0"/>
                    </a:lnTo>
                    <a:lnTo>
                      <a:pt x="939" y="62"/>
                    </a:lnTo>
                    <a:lnTo>
                      <a:pt x="939" y="0"/>
                    </a:lnTo>
                    <a:lnTo>
                      <a:pt x="1412" y="0"/>
                    </a:lnTo>
                    <a:lnTo>
                      <a:pt x="1412" y="62"/>
                    </a:lnTo>
                    <a:lnTo>
                      <a:pt x="1412" y="0"/>
                    </a:lnTo>
                    <a:lnTo>
                      <a:pt x="1886" y="0"/>
                    </a:lnTo>
                    <a:lnTo>
                      <a:pt x="1886" y="62"/>
                    </a:lnTo>
                    <a:lnTo>
                      <a:pt x="1886" y="0"/>
                    </a:lnTo>
                    <a:lnTo>
                      <a:pt x="2351" y="0"/>
                    </a:lnTo>
                    <a:lnTo>
                      <a:pt x="2351" y="62"/>
                    </a:lnTo>
                    <a:lnTo>
                      <a:pt x="235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Line 25"/>
              <p:cNvSpPr/>
              <p:nvPr/>
            </p:nvSpPr>
            <p:spPr>
              <a:xfrm>
                <a:off x="3795840" y="5700600"/>
                <a:ext cx="37195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Group 26"/>
            <p:cNvGrpSpPr/>
            <p:nvPr/>
          </p:nvGrpSpPr>
          <p:grpSpPr>
            <a:xfrm>
              <a:off x="914400" y="3259080"/>
              <a:ext cx="2805120" cy="2314800"/>
              <a:chOff x="914400" y="3259080"/>
              <a:chExt cx="2805120" cy="2314800"/>
            </a:xfrm>
          </p:grpSpPr>
          <p:sp>
            <p:nvSpPr>
              <p:cNvPr id="960" name="Rectangle 27"/>
              <p:cNvSpPr/>
              <p:nvPr/>
            </p:nvSpPr>
            <p:spPr>
              <a:xfrm>
                <a:off x="914400" y="5207040"/>
                <a:ext cx="28051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Ventricular Volume Alcoholic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Rectangle 28"/>
              <p:cNvSpPr/>
              <p:nvPr/>
            </p:nvSpPr>
            <p:spPr>
              <a:xfrm>
                <a:off x="1177920" y="4557600"/>
                <a:ext cx="25416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Ventricular Volume Norm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Rectangle 29"/>
              <p:cNvSpPr/>
              <p:nvPr/>
            </p:nvSpPr>
            <p:spPr>
              <a:xfrm>
                <a:off x="1303200" y="3908520"/>
                <a:ext cx="2416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ulcus Volume Alcoholic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Rectangle 30"/>
              <p:cNvSpPr/>
              <p:nvPr/>
            </p:nvSpPr>
            <p:spPr>
              <a:xfrm>
                <a:off x="1565280" y="3259080"/>
                <a:ext cx="2154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ulcus Volume Norm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31"/>
            <p:cNvGrpSpPr/>
            <p:nvPr/>
          </p:nvGrpSpPr>
          <p:grpSpPr>
            <a:xfrm>
              <a:off x="3695760" y="5784840"/>
              <a:ext cx="4108320" cy="368280"/>
              <a:chOff x="3695760" y="5784840"/>
              <a:chExt cx="4108320" cy="368280"/>
            </a:xfrm>
          </p:grpSpPr>
          <p:sp>
            <p:nvSpPr>
              <p:cNvPr id="965" name="Rectangle 32"/>
              <p:cNvSpPr/>
              <p:nvPr/>
            </p:nvSpPr>
            <p:spPr>
              <a:xfrm>
                <a:off x="3695760" y="5784840"/>
                <a:ext cx="23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Rectangle 33"/>
              <p:cNvSpPr/>
              <p:nvPr/>
            </p:nvSpPr>
            <p:spPr>
              <a:xfrm>
                <a:off x="4308480" y="5784840"/>
                <a:ext cx="51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.0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Rectangle 34"/>
              <p:cNvSpPr/>
              <p:nvPr/>
            </p:nvSpPr>
            <p:spPr>
              <a:xfrm>
                <a:off x="5086440" y="5784840"/>
                <a:ext cx="39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Rectangle 35"/>
              <p:cNvSpPr/>
              <p:nvPr/>
            </p:nvSpPr>
            <p:spPr>
              <a:xfrm>
                <a:off x="5799240" y="5784840"/>
                <a:ext cx="51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.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Rectangle 36"/>
              <p:cNvSpPr/>
              <p:nvPr/>
            </p:nvSpPr>
            <p:spPr>
              <a:xfrm>
                <a:off x="6575400" y="5784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Rectangle 37"/>
              <p:cNvSpPr/>
              <p:nvPr/>
            </p:nvSpPr>
            <p:spPr>
              <a:xfrm>
                <a:off x="7289640" y="5784840"/>
                <a:ext cx="51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.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ulti-Parameter Measurement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72" name="Rectangle 3"/>
          <p:cNvSpPr/>
          <p:nvPr/>
        </p:nvSpPr>
        <p:spPr>
          <a:xfrm>
            <a:off x="411120" y="2346480"/>
            <a:ext cx="8489880" cy="41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 baseline="-17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{T</a:t>
            </a:r>
            <a:r>
              <a:rPr b="1" lang="en-US" sz="2000" spc="-1" strike="noStrike" baseline="-17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1" lang="en-US" sz="2000" spc="-1" strike="noStrike" baseline="-17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HD, T</a:t>
            </a:r>
            <a:r>
              <a:rPr b="1" lang="en-US" sz="2000" spc="-1" strike="noStrike" baseline="-17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Gd, pMRI, MRA, 1H-MRS, ADC, MTC, BOLD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17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NMR spin-lattice relaxati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17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NMR spin-spin relaxati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D = Proton d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d+T</a:t>
            </a:r>
            <a:r>
              <a:rPr b="0" lang="en-US" sz="2000" spc="-1" strike="noStrike" baseline="-17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Gadolinium enhanced T</a:t>
            </a:r>
            <a:r>
              <a:rPr b="0" lang="en-US" sz="2000" spc="-1" strike="noStrike" baseline="-17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MRI = Dynamic T</a:t>
            </a:r>
            <a:r>
              <a:rPr b="0" lang="en-US" sz="2000" spc="-1" strike="noStrike" baseline="-17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images during Gd bolus inj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A = Time of flight MR angi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S = Magnetic Resonance Spectros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C= Apparent Diffusion Co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C= Magnetization Transfer Contr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LD = Blood Oxygenation Level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Regional Classification &amp; Characteriza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30200" y="2362320"/>
            <a:ext cx="8609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. White matter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. Corpus callosu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. Superficial gray  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. Caudate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. Thalamus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. Putamen  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. Globus pallidus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. Internal capsule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. Blood vessel 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. Ventricle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. Choroid plexus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. Septum pellucidium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. Fornices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4. Extraaxial fluid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5. Zona granularis 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6. Undefined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Adaptive Multi-Level Multi-Dimensional Analysis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76" name="Rectangle 3"/>
          <p:cNvSpPr/>
          <p:nvPr/>
        </p:nvSpPr>
        <p:spPr>
          <a:xfrm>
            <a:off x="1174680" y="1311120"/>
            <a:ext cx="7512120" cy="543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Object 1024" descr=""/>
          <p:cNvPicPr/>
          <p:nvPr/>
        </p:nvPicPr>
        <p:blipFill>
          <a:blip r:embed="rId1"/>
          <a:stretch/>
        </p:blipFill>
        <p:spPr>
          <a:xfrm>
            <a:off x="2568600" y="1438200"/>
            <a:ext cx="4559400" cy="5164200"/>
          </a:xfrm>
          <a:prstGeom prst="rect">
            <a:avLst/>
          </a:prstGeom>
          <a:ln w="12600">
            <a:solidFill>
              <a:srgbClr val="1c1c1c"/>
            </a:solidFill>
            <a:miter/>
          </a:ln>
        </p:spPr>
      </p:pic>
      <p:sp>
        <p:nvSpPr>
          <p:cNvPr id="978" name="Line 5"/>
          <p:cNvSpPr/>
          <p:nvPr/>
        </p:nvSpPr>
        <p:spPr>
          <a:xfrm>
            <a:off x="4400640" y="5638680"/>
            <a:ext cx="0" cy="29556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Line 6"/>
          <p:cNvSpPr/>
          <p:nvPr/>
        </p:nvSpPr>
        <p:spPr>
          <a:xfrm>
            <a:off x="3067200" y="2819520"/>
            <a:ext cx="84744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7"/>
          <p:cNvSpPr/>
          <p:nvPr/>
        </p:nvSpPr>
        <p:spPr>
          <a:xfrm>
            <a:off x="4362480" y="2228760"/>
            <a:ext cx="0" cy="24768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8"/>
          <p:cNvSpPr/>
          <p:nvPr/>
        </p:nvSpPr>
        <p:spPr>
          <a:xfrm>
            <a:off x="4371840" y="3029040"/>
            <a:ext cx="9720" cy="36180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9"/>
          <p:cNvSpPr/>
          <p:nvPr/>
        </p:nvSpPr>
        <p:spPr>
          <a:xfrm>
            <a:off x="4896000" y="3638520"/>
            <a:ext cx="81900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0"/>
          <p:cNvSpPr/>
          <p:nvPr/>
        </p:nvSpPr>
        <p:spPr>
          <a:xfrm flipV="1">
            <a:off x="4381560" y="4809600"/>
            <a:ext cx="0" cy="21924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1"/>
          <p:cNvSpPr/>
          <p:nvPr/>
        </p:nvSpPr>
        <p:spPr>
          <a:xfrm>
            <a:off x="5657760" y="1838160"/>
            <a:ext cx="0" cy="21924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2"/>
          <p:cNvSpPr/>
          <p:nvPr/>
        </p:nvSpPr>
        <p:spPr>
          <a:xfrm>
            <a:off x="3514680" y="1838160"/>
            <a:ext cx="476280" cy="9720"/>
          </a:xfrm>
          <a:prstGeom prst="line">
            <a:avLst/>
          </a:prstGeom>
          <a:ln w="12600">
            <a:solidFill>
              <a:srgbClr val="1c1c1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13"/>
          <p:cNvSpPr/>
          <p:nvPr/>
        </p:nvSpPr>
        <p:spPr>
          <a:xfrm flipV="1">
            <a:off x="6467400" y="2314080"/>
            <a:ext cx="0" cy="400068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14"/>
          <p:cNvSpPr/>
          <p:nvPr/>
        </p:nvSpPr>
        <p:spPr>
          <a:xfrm>
            <a:off x="3095640" y="2124000"/>
            <a:ext cx="0" cy="69552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15"/>
          <p:cNvSpPr/>
          <p:nvPr/>
        </p:nvSpPr>
        <p:spPr>
          <a:xfrm flipH="1">
            <a:off x="6114600" y="2314440"/>
            <a:ext cx="343080" cy="0"/>
          </a:xfrm>
          <a:prstGeom prst="line">
            <a:avLst/>
          </a:prstGeom>
          <a:ln w="12600">
            <a:solidFill>
              <a:srgbClr val="1c1c1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16"/>
          <p:cNvSpPr/>
          <p:nvPr/>
        </p:nvSpPr>
        <p:spPr>
          <a:xfrm>
            <a:off x="6039000" y="5353200"/>
            <a:ext cx="447480" cy="0"/>
          </a:xfrm>
          <a:prstGeom prst="line">
            <a:avLst/>
          </a:prstGeom>
          <a:ln w="12600">
            <a:solidFill>
              <a:srgbClr val="1c1c1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17"/>
          <p:cNvSpPr/>
          <p:nvPr/>
        </p:nvSpPr>
        <p:spPr>
          <a:xfrm>
            <a:off x="5657760" y="5619600"/>
            <a:ext cx="9720" cy="476280"/>
          </a:xfrm>
          <a:prstGeom prst="line">
            <a:avLst/>
          </a:prstGeom>
          <a:ln w="12600">
            <a:solidFill>
              <a:srgbClr val="1c1c1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18"/>
          <p:cNvSpPr/>
          <p:nvPr/>
        </p:nvSpPr>
        <p:spPr>
          <a:xfrm>
            <a:off x="6124680" y="6305400"/>
            <a:ext cx="352440" cy="0"/>
          </a:xfrm>
          <a:prstGeom prst="line">
            <a:avLst/>
          </a:prstGeom>
          <a:ln w="12600">
            <a:solidFill>
              <a:srgbClr val="1c1c1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Building Signatur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993" name="Picture 1027" descr=""/>
          <p:cNvPicPr/>
          <p:nvPr/>
        </p:nvPicPr>
        <p:blipFill>
          <a:blip r:embed="rId1"/>
          <a:stretch/>
        </p:blipFill>
        <p:spPr>
          <a:xfrm>
            <a:off x="4786200" y="1901880"/>
            <a:ext cx="3560760" cy="455760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028" descr=""/>
          <p:cNvPicPr/>
          <p:nvPr/>
        </p:nvPicPr>
        <p:blipFill>
          <a:blip r:embed="rId2"/>
          <a:stretch/>
        </p:blipFill>
        <p:spPr>
          <a:xfrm>
            <a:off x="789120" y="1984320"/>
            <a:ext cx="3438360" cy="4508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142640" y="8377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Analysis of 15 classes (normal group)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996" name="Picture 1027" descr=""/>
          <p:cNvPicPr/>
          <p:nvPr/>
        </p:nvPicPr>
        <p:blipFill>
          <a:blip r:embed="rId1"/>
          <a:stretch/>
        </p:blipFill>
        <p:spPr>
          <a:xfrm>
            <a:off x="2467080" y="1951200"/>
            <a:ext cx="4408560" cy="4408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Stroke Effect on 12-Years Old Subject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998" name="Picture 1027" descr=""/>
          <p:cNvPicPr/>
          <p:nvPr/>
        </p:nvPicPr>
        <p:blipFill>
          <a:blip r:embed="rId1"/>
          <a:stretch/>
        </p:blipFill>
        <p:spPr>
          <a:xfrm>
            <a:off x="6305400" y="2355840"/>
            <a:ext cx="2590920" cy="321948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028" descr=""/>
          <p:cNvPicPr/>
          <p:nvPr/>
        </p:nvPicPr>
        <p:blipFill>
          <a:blip r:embed="rId2"/>
          <a:stretch/>
        </p:blipFill>
        <p:spPr>
          <a:xfrm>
            <a:off x="328680" y="2298600"/>
            <a:ext cx="2857320" cy="332100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029" descr=""/>
          <p:cNvPicPr/>
          <p:nvPr/>
        </p:nvPicPr>
        <p:blipFill>
          <a:blip r:embed="rId3"/>
          <a:stretch/>
        </p:blipFill>
        <p:spPr>
          <a:xfrm>
            <a:off x="3376440" y="2357280"/>
            <a:ext cx="2754360" cy="3260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mage Averaging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275760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981080" y="2286000"/>
                <a:ext cx="5319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  <m:e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den>
                    </m:f>
                    <m:nary>
                      <m:naryPr>
                        <m:chr m:val="∑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275760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40" y="2147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143000" y="3733920"/>
            <a:ext cx="1981080" cy="1928520"/>
            <a:chOff x="1143000" y="3733920"/>
            <a:chExt cx="1981080" cy="1928520"/>
          </a:xfrm>
        </p:grpSpPr>
        <p:grpSp>
          <p:nvGrpSpPr>
            <p:cNvPr id="201" name=""/>
            <p:cNvGrpSpPr/>
            <p:nvPr/>
          </p:nvGrpSpPr>
          <p:grpSpPr>
            <a:xfrm>
              <a:off x="1147680" y="3738240"/>
              <a:ext cx="1971720" cy="1918440"/>
              <a:chOff x="1147680" y="3738240"/>
              <a:chExt cx="1971720" cy="19184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147680" y="3738240"/>
                <a:ext cx="657360" cy="639360"/>
                <a:chOff x="1147680" y="3738240"/>
                <a:chExt cx="657360" cy="6393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216080" y="3738240"/>
                  <a:ext cx="5205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147680" y="3738240"/>
                  <a:ext cx="6573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805040" y="3738240"/>
                <a:ext cx="657000" cy="639360"/>
                <a:chOff x="1805040" y="3738240"/>
                <a:chExt cx="657000" cy="6393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873080" y="3738240"/>
                  <a:ext cx="5209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805040" y="3738240"/>
                  <a:ext cx="65700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462040" y="3738240"/>
                <a:ext cx="657360" cy="639360"/>
                <a:chOff x="2462040" y="3738240"/>
                <a:chExt cx="657360" cy="6393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2530440" y="3738240"/>
                  <a:ext cx="5205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462040" y="3738240"/>
                  <a:ext cx="6573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147680" y="4377600"/>
                <a:ext cx="657360" cy="639360"/>
                <a:chOff x="1147680" y="4377600"/>
                <a:chExt cx="657360" cy="6393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216080" y="4377600"/>
                  <a:ext cx="5205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147680" y="4377600"/>
                  <a:ext cx="6573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1805040" y="4377600"/>
                <a:ext cx="657000" cy="639360"/>
                <a:chOff x="1805040" y="4377600"/>
                <a:chExt cx="657000" cy="639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1873080" y="4377600"/>
                  <a:ext cx="5209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05040" y="4377600"/>
                  <a:ext cx="65700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2462040" y="4377600"/>
                <a:ext cx="657360" cy="639360"/>
                <a:chOff x="2462040" y="4377600"/>
                <a:chExt cx="657360" cy="63936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2530440" y="4377600"/>
                  <a:ext cx="5205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462040" y="4377600"/>
                  <a:ext cx="6573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1147680" y="5017320"/>
                <a:ext cx="657360" cy="639360"/>
                <a:chOff x="1147680" y="5017320"/>
                <a:chExt cx="657360" cy="639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1216080" y="5017320"/>
                  <a:ext cx="5205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147680" y="5017320"/>
                  <a:ext cx="6573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1805040" y="5017320"/>
                <a:ext cx="657000" cy="639360"/>
                <a:chOff x="1805040" y="5017320"/>
                <a:chExt cx="657000" cy="6393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873080" y="5017320"/>
                  <a:ext cx="5209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805040" y="5017320"/>
                  <a:ext cx="65700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2462040" y="5017320"/>
                <a:ext cx="657360" cy="639360"/>
                <a:chOff x="2462040" y="5017320"/>
                <a:chExt cx="657360" cy="6393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2530440" y="5017320"/>
                  <a:ext cx="5205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2462040" y="5017320"/>
                  <a:ext cx="6573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9" name=""/>
            <p:cNvSpPr/>
            <p:nvPr/>
          </p:nvSpPr>
          <p:spPr>
            <a:xfrm>
              <a:off x="1143000" y="3733920"/>
              <a:ext cx="1981080" cy="1928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77120" y="3429000"/>
            <a:ext cx="2247840" cy="2241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733920" y="3429000"/>
            <a:ext cx="27334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Freeform 2"/>
          <p:cNvSpPr/>
          <p:nvPr/>
        </p:nvSpPr>
        <p:spPr>
          <a:xfrm>
            <a:off x="-87480" y="0"/>
            <a:ext cx="6202440" cy="608040"/>
          </a:xfrm>
          <a:custGeom>
            <a:avLst/>
            <a:gdLst>
              <a:gd name="textAreaLeft" fmla="*/ 0 w 6202440"/>
              <a:gd name="textAreaRight" fmla="*/ 6202800 w 6202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3907" h="383">
                <a:moveTo>
                  <a:pt x="3630" y="382"/>
                </a:moveTo>
                <a:lnTo>
                  <a:pt x="0" y="382"/>
                </a:lnTo>
                <a:lnTo>
                  <a:pt x="0" y="0"/>
                </a:lnTo>
                <a:lnTo>
                  <a:pt x="3906" y="0"/>
                </a:lnTo>
                <a:lnTo>
                  <a:pt x="3638" y="382"/>
                </a:lnTo>
              </a:path>
            </a:pathLst>
          </a:custGeom>
          <a:solidFill>
            <a:srgbClr val="a680ff"/>
          </a:solidFill>
          <a:ln w="0">
            <a:noFill/>
          </a:ln>
          <a:effectLst>
            <a:outerShdw dist="161899" dir="2700000" blurRad="0" rotWithShape="0">
              <a:srgbClr val="3300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3"/>
          <p:cNvSpPr/>
          <p:nvPr/>
        </p:nvSpPr>
        <p:spPr>
          <a:xfrm>
            <a:off x="212760" y="1411200"/>
            <a:ext cx="8655120" cy="98640"/>
          </a:xfrm>
          <a:prstGeom prst="rect">
            <a:avLst/>
          </a:prstGeom>
          <a:gradFill rotWithShape="0">
            <a:gsLst>
              <a:gs pos="0">
                <a:srgbClr val="ffdacc"/>
              </a:gs>
              <a:gs pos="100000">
                <a:srgbClr val="ff4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4"/>
          <p:cNvSpPr/>
          <p:nvPr/>
        </p:nvSpPr>
        <p:spPr>
          <a:xfrm>
            <a:off x="225360" y="98280"/>
            <a:ext cx="64389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enter for Intelligent Vision and Informatio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Line 5"/>
          <p:cNvSpPr/>
          <p:nvPr/>
        </p:nvSpPr>
        <p:spPr>
          <a:xfrm>
            <a:off x="4484520" y="5122800"/>
            <a:ext cx="0" cy="76212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25360" y="799920"/>
            <a:ext cx="8369280" cy="55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ypical Function of Interest Analysis: Dhawan et al. (1992)</a:t>
            </a:r>
            <a:endParaRPr b="0" lang="en-US" sz="24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06" name="Rectangle 7"/>
          <p:cNvSpPr/>
          <p:nvPr/>
        </p:nvSpPr>
        <p:spPr>
          <a:xfrm>
            <a:off x="2955960" y="5856120"/>
            <a:ext cx="3281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VOI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Group 8"/>
          <p:cNvGrpSpPr/>
          <p:nvPr/>
        </p:nvGrpSpPr>
        <p:grpSpPr>
          <a:xfrm>
            <a:off x="701640" y="1995480"/>
            <a:ext cx="7377120" cy="3360600"/>
            <a:chOff x="701640" y="1995480"/>
            <a:chExt cx="7377120" cy="3360600"/>
          </a:xfrm>
        </p:grpSpPr>
        <p:sp>
          <p:nvSpPr>
            <p:cNvPr id="1008" name="Rectangle 9"/>
            <p:cNvSpPr/>
            <p:nvPr/>
          </p:nvSpPr>
          <p:spPr>
            <a:xfrm>
              <a:off x="958680" y="2009880"/>
              <a:ext cx="1916280" cy="101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0"/>
            <p:cNvSpPr/>
            <p:nvPr/>
          </p:nvSpPr>
          <p:spPr>
            <a:xfrm>
              <a:off x="701640" y="2046240"/>
              <a:ext cx="245448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4600"/>
                  </a:solidFill>
                  <a:latin typeface="Arial"/>
                </a:rPr>
                <a:t>Anatomical </a:t>
              </a:r>
              <a:br>
                <a:rPr sz="1800"/>
              </a:br>
              <a:r>
                <a:rPr b="1" lang="en-US" sz="1800" spc="-1" strike="noStrike">
                  <a:solidFill>
                    <a:srgbClr val="ff4600"/>
                  </a:solidFill>
                  <a:latin typeface="Arial"/>
                </a:rPr>
                <a:t>Refer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4600"/>
                  </a:solidFill>
                  <a:latin typeface="Arial"/>
                </a:rPr>
                <a:t>(S.C.A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1"/>
            <p:cNvSpPr/>
            <p:nvPr/>
          </p:nvSpPr>
          <p:spPr>
            <a:xfrm>
              <a:off x="958680" y="4338720"/>
              <a:ext cx="1916280" cy="101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2"/>
            <p:cNvSpPr/>
            <p:nvPr/>
          </p:nvSpPr>
          <p:spPr>
            <a:xfrm>
              <a:off x="6056280" y="1995480"/>
              <a:ext cx="1916280" cy="101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3"/>
            <p:cNvSpPr/>
            <p:nvPr/>
          </p:nvSpPr>
          <p:spPr>
            <a:xfrm>
              <a:off x="6024600" y="2046240"/>
              <a:ext cx="205416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4600"/>
                  </a:solidFill>
                  <a:latin typeface="Arial"/>
                </a:rPr>
                <a:t>Functional </a:t>
              </a:r>
              <a:br>
                <a:rPr sz="1800"/>
              </a:br>
              <a:r>
                <a:rPr b="1" lang="en-US" sz="1800" spc="-1" strike="noStrike">
                  <a:solidFill>
                    <a:srgbClr val="ff4600"/>
                  </a:solidFill>
                  <a:latin typeface="Arial"/>
                </a:rPr>
                <a:t>Refer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4600"/>
                  </a:solidFill>
                  <a:latin typeface="Arial"/>
                </a:rPr>
                <a:t>(F.C.A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"/>
            <p:cNvSpPr/>
            <p:nvPr/>
          </p:nvSpPr>
          <p:spPr>
            <a:xfrm>
              <a:off x="3525840" y="4324320"/>
              <a:ext cx="1916280" cy="101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5"/>
            <p:cNvSpPr/>
            <p:nvPr/>
          </p:nvSpPr>
          <p:spPr>
            <a:xfrm>
              <a:off x="3513240" y="2023920"/>
              <a:ext cx="1915920" cy="101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6"/>
            <p:cNvSpPr/>
            <p:nvPr/>
          </p:nvSpPr>
          <p:spPr>
            <a:xfrm>
              <a:off x="3657600" y="2144880"/>
              <a:ext cx="1552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4600"/>
                  </a:solidFill>
                  <a:latin typeface="Arial"/>
                </a:rPr>
                <a:t>Refer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4600"/>
                  </a:solidFill>
                  <a:latin typeface="Arial"/>
                </a:rPr>
                <a:t>Signat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7"/>
            <p:cNvSpPr/>
            <p:nvPr/>
          </p:nvSpPr>
          <p:spPr>
            <a:xfrm>
              <a:off x="1077840" y="4473720"/>
              <a:ext cx="1716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R Im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New Subj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Line 18"/>
            <p:cNvSpPr/>
            <p:nvPr/>
          </p:nvSpPr>
          <p:spPr>
            <a:xfrm>
              <a:off x="2843280" y="2482920"/>
              <a:ext cx="689040" cy="14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9"/>
            <p:cNvSpPr/>
            <p:nvPr/>
          </p:nvSpPr>
          <p:spPr>
            <a:xfrm flipH="1">
              <a:off x="5373360" y="2470320"/>
              <a:ext cx="663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20"/>
            <p:cNvSpPr/>
            <p:nvPr/>
          </p:nvSpPr>
          <p:spPr>
            <a:xfrm>
              <a:off x="1890720" y="3033720"/>
              <a:ext cx="0" cy="13129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21"/>
            <p:cNvSpPr/>
            <p:nvPr/>
          </p:nvSpPr>
          <p:spPr>
            <a:xfrm>
              <a:off x="6043680" y="4309920"/>
              <a:ext cx="1915920" cy="101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22"/>
            <p:cNvSpPr/>
            <p:nvPr/>
          </p:nvSpPr>
          <p:spPr>
            <a:xfrm>
              <a:off x="6175440" y="4444920"/>
              <a:ext cx="17161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T Im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New Subj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Line 23"/>
            <p:cNvSpPr/>
            <p:nvPr/>
          </p:nvSpPr>
          <p:spPr>
            <a:xfrm>
              <a:off x="7015320" y="3019320"/>
              <a:ext cx="0" cy="13129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24"/>
            <p:cNvSpPr/>
            <p:nvPr/>
          </p:nvSpPr>
          <p:spPr>
            <a:xfrm>
              <a:off x="4459320" y="3048120"/>
              <a:ext cx="0" cy="1269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Line 25"/>
            <p:cNvSpPr/>
            <p:nvPr/>
          </p:nvSpPr>
          <p:spPr>
            <a:xfrm>
              <a:off x="2830680" y="4826160"/>
              <a:ext cx="7016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Line 26"/>
            <p:cNvSpPr/>
            <p:nvPr/>
          </p:nvSpPr>
          <p:spPr>
            <a:xfrm flipH="1">
              <a:off x="5385960" y="4811760"/>
              <a:ext cx="663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27"/>
            <p:cNvSpPr/>
            <p:nvPr/>
          </p:nvSpPr>
          <p:spPr>
            <a:xfrm>
              <a:off x="3645000" y="4459320"/>
              <a:ext cx="17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R-P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rincipal Axes Registra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28" name="Text Box 3"/>
          <p:cNvSpPr/>
          <p:nvPr/>
        </p:nvSpPr>
        <p:spPr>
          <a:xfrm>
            <a:off x="2153160" y="2747880"/>
            <a:ext cx="58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 1 if (x,y,z) is in th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 0 if (x,y,z) is not in th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4"/>
          <p:cNvSpPr/>
          <p:nvPr/>
        </p:nvSpPr>
        <p:spPr>
          <a:xfrm>
            <a:off x="426708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0" name="Object 5" descr=""/>
          <p:cNvPicPr/>
          <p:nvPr/>
        </p:nvPicPr>
        <p:blipFill>
          <a:blip r:embed="rId1"/>
          <a:stretch/>
        </p:blipFill>
        <p:spPr>
          <a:xfrm>
            <a:off x="1781280" y="2824200"/>
            <a:ext cx="1371600" cy="428760"/>
          </a:xfrm>
          <a:prstGeom prst="rect">
            <a:avLst/>
          </a:prstGeom>
          <a:ln w="0">
            <a:noFill/>
          </a:ln>
        </p:spPr>
      </p:pic>
      <p:sp>
        <p:nvSpPr>
          <p:cNvPr id="1031" name="Rectangle 6"/>
          <p:cNvSpPr/>
          <p:nvPr/>
        </p:nvSpPr>
        <p:spPr>
          <a:xfrm>
            <a:off x="0" y="2766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2" name="Object 7" descr=""/>
          <p:cNvPicPr/>
          <p:nvPr/>
        </p:nvPicPr>
        <p:blipFill>
          <a:blip r:embed="rId2"/>
          <a:stretch/>
        </p:blipFill>
        <p:spPr>
          <a:xfrm>
            <a:off x="790560" y="4653000"/>
            <a:ext cx="1905120" cy="1116000"/>
          </a:xfrm>
          <a:prstGeom prst="rect">
            <a:avLst/>
          </a:prstGeom>
          <a:ln w="0">
            <a:noFill/>
          </a:ln>
        </p:spPr>
      </p:pic>
      <p:pic>
        <p:nvPicPr>
          <p:cNvPr id="1033" name="Object 8" descr=""/>
          <p:cNvPicPr/>
          <p:nvPr/>
        </p:nvPicPr>
        <p:blipFill>
          <a:blip r:embed="rId3"/>
          <a:stretch/>
        </p:blipFill>
        <p:spPr>
          <a:xfrm>
            <a:off x="3457440" y="4500720"/>
            <a:ext cx="2219400" cy="1290600"/>
          </a:xfrm>
          <a:prstGeom prst="rect">
            <a:avLst/>
          </a:prstGeom>
          <a:ln w="0">
            <a:noFill/>
          </a:ln>
        </p:spPr>
      </p:pic>
      <p:pic>
        <p:nvPicPr>
          <p:cNvPr id="1034" name="Object 9" descr=""/>
          <p:cNvPicPr/>
          <p:nvPr/>
        </p:nvPicPr>
        <p:blipFill>
          <a:blip r:embed="rId4"/>
          <a:stretch/>
        </p:blipFill>
        <p:spPr>
          <a:xfrm>
            <a:off x="6124680" y="4500720"/>
            <a:ext cx="2104920" cy="1263600"/>
          </a:xfrm>
          <a:prstGeom prst="rect">
            <a:avLst/>
          </a:prstGeom>
          <a:ln w="0">
            <a:noFill/>
          </a:ln>
        </p:spPr>
      </p:pic>
      <p:sp>
        <p:nvSpPr>
          <p:cNvPr id="1035" name="Text Box 10"/>
          <p:cNvSpPr/>
          <p:nvPr/>
        </p:nvSpPr>
        <p:spPr>
          <a:xfrm>
            <a:off x="651600" y="232416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11"/>
          <p:cNvSpPr/>
          <p:nvPr/>
        </p:nvSpPr>
        <p:spPr>
          <a:xfrm>
            <a:off x="883080" y="373860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AR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Translate the centroid of V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to the origin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2. Rotate the principal axes of V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 to coincide with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the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x, y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axe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Rotate the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x, y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axes to coincide with th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principal axes of V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4. Translate the origin to the centroid of V2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5. Scale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V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olume to match V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volume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Iterative PAR for MR-PET Images</a:t>
            </a:r>
            <a:br>
              <a:rPr sz="3200"/>
            </a:b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(Dhawan et al, 1992)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40" name="Rectangle 3"/>
          <p:cNvSpPr/>
          <p:nvPr/>
        </p:nvSpPr>
        <p:spPr>
          <a:xfrm>
            <a:off x="304920" y="2286000"/>
            <a:ext cx="8313480" cy="38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 Threshold the PET 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  Extract binary cerebrum and cerebellum areas from MR sc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. Obtain a three-dimensional representation for both MR and P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ata: rescale and interpol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.  Construct a parallelepiped from the slices of the interpolated PET data tha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tains the binary PET brain volume. This volume will be referred to 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e "FOV box" of the PET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.  Compute the centroid and principal axes of the binary PET brain volum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terative PAR…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20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6.  Add n slices to the FOV box on the top and the bottom such that th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ts val="20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ugmented FOV(n) box will have the same number of slices as the binary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ts val="20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R brain. Gradually shrink this FOV(n) box back to its original  size,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ts val="20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V(0) box, recomputing the centroid and principal axes of the trimme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ts val="20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inary MR brain at each step iteratively.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ts val="20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7.   Interpolate the gray-level PET data (rescaled to match the MR data)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ts val="20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o obtain the PET volume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ts val="20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ts val="20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8.  Transform the PET volume into the space of the original MR slices using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ts val="20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e last set of MR and PET centroids and principal axes.. Extract from th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ts val="20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ET volume the slices which match the original MR slices.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PAR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grpSp>
        <p:nvGrpSpPr>
          <p:cNvPr id="1044" name="Group 3"/>
          <p:cNvGrpSpPr/>
          <p:nvPr/>
        </p:nvGrpSpPr>
        <p:grpSpPr>
          <a:xfrm>
            <a:off x="152280" y="1981080"/>
            <a:ext cx="2971800" cy="4419720"/>
            <a:chOff x="152280" y="1981080"/>
            <a:chExt cx="2971800" cy="4419720"/>
          </a:xfrm>
        </p:grpSpPr>
        <p:pic>
          <p:nvPicPr>
            <p:cNvPr id="1045" name="Object 1026" descr=""/>
            <p:cNvPicPr/>
            <p:nvPr/>
          </p:nvPicPr>
          <p:blipFill>
            <a:blip r:embed="rId1"/>
            <a:stretch/>
          </p:blipFill>
          <p:spPr>
            <a:xfrm>
              <a:off x="152280" y="2200320"/>
              <a:ext cx="2971800" cy="42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6" name="Text Box 5"/>
            <p:cNvSpPr/>
            <p:nvPr/>
          </p:nvSpPr>
          <p:spPr>
            <a:xfrm>
              <a:off x="786600" y="1981080"/>
              <a:ext cx="133992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terat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Group 6"/>
          <p:cNvGrpSpPr/>
          <p:nvPr/>
        </p:nvGrpSpPr>
        <p:grpSpPr>
          <a:xfrm>
            <a:off x="2895480" y="2187720"/>
            <a:ext cx="3124440" cy="4213080"/>
            <a:chOff x="2895480" y="2187720"/>
            <a:chExt cx="3124440" cy="4213080"/>
          </a:xfrm>
        </p:grpSpPr>
        <p:pic>
          <p:nvPicPr>
            <p:cNvPr id="1048" name="Object 1025" descr=""/>
            <p:cNvPicPr/>
            <p:nvPr/>
          </p:nvPicPr>
          <p:blipFill>
            <a:blip r:embed="rId2"/>
            <a:stretch/>
          </p:blipFill>
          <p:spPr>
            <a:xfrm>
              <a:off x="2895480" y="2360880"/>
              <a:ext cx="3124440" cy="40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9" name="Text Box 8"/>
            <p:cNvSpPr/>
            <p:nvPr/>
          </p:nvSpPr>
          <p:spPr>
            <a:xfrm>
              <a:off x="3892320" y="2187720"/>
              <a:ext cx="111636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terat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Group 9"/>
          <p:cNvGrpSpPr/>
          <p:nvPr/>
        </p:nvGrpSpPr>
        <p:grpSpPr>
          <a:xfrm>
            <a:off x="5867280" y="1600200"/>
            <a:ext cx="3048120" cy="4924440"/>
            <a:chOff x="5867280" y="1600200"/>
            <a:chExt cx="3048120" cy="4924440"/>
          </a:xfrm>
        </p:grpSpPr>
        <p:sp>
          <p:nvSpPr>
            <p:cNvPr id="1051" name="Text Box 10"/>
            <p:cNvSpPr/>
            <p:nvPr/>
          </p:nvSpPr>
          <p:spPr>
            <a:xfrm>
              <a:off x="6759720" y="1600200"/>
              <a:ext cx="1159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terat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2" name="Object 1024" descr=""/>
            <p:cNvPicPr/>
            <p:nvPr/>
          </p:nvPicPr>
          <p:blipFill>
            <a:blip r:embed="rId3"/>
            <a:stretch/>
          </p:blipFill>
          <p:spPr>
            <a:xfrm>
              <a:off x="5867280" y="2168640"/>
              <a:ext cx="3048120" cy="435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Freeform 2"/>
          <p:cNvSpPr/>
          <p:nvPr/>
        </p:nvSpPr>
        <p:spPr>
          <a:xfrm>
            <a:off x="-87480" y="0"/>
            <a:ext cx="6315120" cy="608040"/>
          </a:xfrm>
          <a:custGeom>
            <a:avLst/>
            <a:gdLst>
              <a:gd name="textAreaLeft" fmla="*/ 0 w 6315120"/>
              <a:gd name="textAreaRight" fmla="*/ 6315480 w 631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3978" h="383">
                <a:moveTo>
                  <a:pt x="3693" y="382"/>
                </a:moveTo>
                <a:lnTo>
                  <a:pt x="0" y="382"/>
                </a:lnTo>
                <a:lnTo>
                  <a:pt x="0" y="0"/>
                </a:lnTo>
                <a:lnTo>
                  <a:pt x="3977" y="0"/>
                </a:lnTo>
                <a:lnTo>
                  <a:pt x="3709" y="382"/>
                </a:lnTo>
              </a:path>
            </a:pathLst>
          </a:custGeom>
          <a:solidFill>
            <a:srgbClr val="a680ff"/>
          </a:solidFill>
          <a:ln w="0">
            <a:noFill/>
          </a:ln>
          <a:effectLst>
            <a:outerShdw dist="161899" dir="2700000" blurRad="0" rotWithShape="0">
              <a:srgbClr val="3300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212760" y="1411200"/>
            <a:ext cx="8655120" cy="98640"/>
          </a:xfrm>
          <a:prstGeom prst="rect">
            <a:avLst/>
          </a:prstGeom>
          <a:gradFill rotWithShape="0">
            <a:gsLst>
              <a:gs pos="0">
                <a:srgbClr val="ffdacc"/>
              </a:gs>
              <a:gs pos="100000">
                <a:srgbClr val="ff4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"/>
          <p:cNvSpPr/>
          <p:nvPr/>
        </p:nvSpPr>
        <p:spPr>
          <a:xfrm>
            <a:off x="150840" y="112680"/>
            <a:ext cx="6012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enter for Intelligent Vision and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74320" y="828360"/>
            <a:ext cx="862020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ctr" anchorCtr="1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-Modality MR-PET Brain Image Image Registration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57" name="Rectangle 6"/>
          <p:cNvSpPr/>
          <p:nvPr/>
        </p:nvSpPr>
        <p:spPr>
          <a:xfrm>
            <a:off x="1515960" y="4572000"/>
            <a:ext cx="618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8" name="Object 1024" descr=""/>
          <p:cNvPicPr/>
          <p:nvPr/>
        </p:nvPicPr>
        <p:blipFill>
          <a:blip r:embed="rId1"/>
          <a:stretch/>
        </p:blipFill>
        <p:spPr>
          <a:xfrm>
            <a:off x="547560" y="1666800"/>
            <a:ext cx="7912080" cy="486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2"/>
          <p:cNvSpPr/>
          <p:nvPr/>
        </p:nvSpPr>
        <p:spPr>
          <a:xfrm>
            <a:off x="-87480" y="0"/>
            <a:ext cx="6315120" cy="608040"/>
          </a:xfrm>
          <a:custGeom>
            <a:avLst/>
            <a:gdLst>
              <a:gd name="textAreaLeft" fmla="*/ 0 w 6315120"/>
              <a:gd name="textAreaRight" fmla="*/ 6315480 w 631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3978" h="383">
                <a:moveTo>
                  <a:pt x="3693" y="382"/>
                </a:moveTo>
                <a:lnTo>
                  <a:pt x="0" y="382"/>
                </a:lnTo>
                <a:lnTo>
                  <a:pt x="0" y="0"/>
                </a:lnTo>
                <a:lnTo>
                  <a:pt x="3977" y="0"/>
                </a:lnTo>
                <a:lnTo>
                  <a:pt x="3709" y="382"/>
                </a:lnTo>
              </a:path>
            </a:pathLst>
          </a:custGeom>
          <a:solidFill>
            <a:srgbClr val="a680ff"/>
          </a:solidFill>
          <a:ln w="0">
            <a:noFill/>
          </a:ln>
          <a:effectLst>
            <a:outerShdw dist="161899" dir="2700000" blurRad="0" rotWithShape="0">
              <a:srgbClr val="3300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3"/>
          <p:cNvSpPr/>
          <p:nvPr/>
        </p:nvSpPr>
        <p:spPr>
          <a:xfrm>
            <a:off x="212760" y="1411200"/>
            <a:ext cx="8655120" cy="98640"/>
          </a:xfrm>
          <a:prstGeom prst="rect">
            <a:avLst/>
          </a:prstGeom>
          <a:gradFill rotWithShape="0">
            <a:gsLst>
              <a:gs pos="0">
                <a:srgbClr val="ffdacc"/>
              </a:gs>
              <a:gs pos="100000">
                <a:srgbClr val="ff4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4"/>
          <p:cNvSpPr/>
          <p:nvPr/>
        </p:nvSpPr>
        <p:spPr>
          <a:xfrm>
            <a:off x="150840" y="112680"/>
            <a:ext cx="6012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enter for Intelligent Vision and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74320" y="828360"/>
            <a:ext cx="862020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ctr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-Modality MR-PET Brain Image Registration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063" name="Object 6" descr=""/>
          <p:cNvPicPr/>
          <p:nvPr/>
        </p:nvPicPr>
        <p:blipFill>
          <a:blip r:embed="rId1"/>
          <a:stretch/>
        </p:blipFill>
        <p:spPr>
          <a:xfrm>
            <a:off x="471600" y="1666800"/>
            <a:ext cx="7912080" cy="486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Freeform 2"/>
          <p:cNvSpPr/>
          <p:nvPr/>
        </p:nvSpPr>
        <p:spPr>
          <a:xfrm>
            <a:off x="-87480" y="0"/>
            <a:ext cx="6315120" cy="608040"/>
          </a:xfrm>
          <a:custGeom>
            <a:avLst/>
            <a:gdLst>
              <a:gd name="textAreaLeft" fmla="*/ 0 w 6315120"/>
              <a:gd name="textAreaRight" fmla="*/ 6315480 w 631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3978" h="383">
                <a:moveTo>
                  <a:pt x="3693" y="382"/>
                </a:moveTo>
                <a:lnTo>
                  <a:pt x="0" y="382"/>
                </a:lnTo>
                <a:lnTo>
                  <a:pt x="0" y="0"/>
                </a:lnTo>
                <a:lnTo>
                  <a:pt x="3977" y="0"/>
                </a:lnTo>
                <a:lnTo>
                  <a:pt x="3709" y="382"/>
                </a:lnTo>
              </a:path>
            </a:pathLst>
          </a:custGeom>
          <a:solidFill>
            <a:srgbClr val="a680ff"/>
          </a:solidFill>
          <a:ln w="0">
            <a:noFill/>
          </a:ln>
          <a:effectLst>
            <a:outerShdw dist="161899" dir="2700000" blurRad="0" rotWithShape="0">
              <a:srgbClr val="3300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3"/>
          <p:cNvSpPr/>
          <p:nvPr/>
        </p:nvSpPr>
        <p:spPr>
          <a:xfrm>
            <a:off x="212760" y="1411200"/>
            <a:ext cx="8655120" cy="98640"/>
          </a:xfrm>
          <a:prstGeom prst="rect">
            <a:avLst/>
          </a:prstGeom>
          <a:gradFill rotWithShape="0">
            <a:gsLst>
              <a:gs pos="0">
                <a:srgbClr val="ffdacc"/>
              </a:gs>
              <a:gs pos="100000">
                <a:srgbClr val="ff4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4"/>
          <p:cNvSpPr/>
          <p:nvPr/>
        </p:nvSpPr>
        <p:spPr>
          <a:xfrm>
            <a:off x="150840" y="112680"/>
            <a:ext cx="6012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enter for Intelligent Vision and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74320" y="828360"/>
            <a:ext cx="862020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ctr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-Modality MR-PET Brain Image Registration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068" name="Object 1024" descr=""/>
          <p:cNvPicPr/>
          <p:nvPr/>
        </p:nvPicPr>
        <p:blipFill>
          <a:blip r:embed="rId1"/>
          <a:stretch/>
        </p:blipFill>
        <p:spPr>
          <a:xfrm>
            <a:off x="434880" y="1666800"/>
            <a:ext cx="7912080" cy="486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R Volume Signatur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070" name="spatial MR-PET.mpg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edian Filter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37195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743200" y="2209680"/>
                <a:ext cx="29862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edian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  <m:r>
                            <m:t xml:space="preserve">∈</m:t>
                          </m:r>
                          <m:r>
                            <m:t xml:space="preserve">N</m:t>
                          </m:r>
                        </m:e>
                      </m:mr>
                    </m:m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895480" y="3429000"/>
            <a:ext cx="28101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Laplacian: Second Order Gradient for Edge Detec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231948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33520" y="2138400"/>
                <a:ext cx="827244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3240" y="2147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523880" y="3962520"/>
            <a:ext cx="1981080" cy="1928520"/>
            <a:chOff x="1523880" y="3962520"/>
            <a:chExt cx="1981080" cy="1928520"/>
          </a:xfrm>
        </p:grpSpPr>
        <p:grpSp>
          <p:nvGrpSpPr>
            <p:cNvPr id="241" name=""/>
            <p:cNvGrpSpPr/>
            <p:nvPr/>
          </p:nvGrpSpPr>
          <p:grpSpPr>
            <a:xfrm>
              <a:off x="1528560" y="3966840"/>
              <a:ext cx="1971720" cy="1918440"/>
              <a:chOff x="1528560" y="3966840"/>
              <a:chExt cx="1971720" cy="1918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1528560" y="3966840"/>
                <a:ext cx="657360" cy="639360"/>
                <a:chOff x="1528560" y="3966840"/>
                <a:chExt cx="657360" cy="6393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596960" y="3966840"/>
                  <a:ext cx="5205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528560" y="3966840"/>
                  <a:ext cx="6573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185920" y="3966840"/>
                <a:ext cx="657000" cy="639360"/>
                <a:chOff x="2185920" y="3966840"/>
                <a:chExt cx="657000" cy="6393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253960" y="3966840"/>
                  <a:ext cx="5209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185920" y="3966840"/>
                  <a:ext cx="65700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2842920" y="3966840"/>
                <a:ext cx="657360" cy="639360"/>
                <a:chOff x="2842920" y="3966840"/>
                <a:chExt cx="657360" cy="6393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2911320" y="3966840"/>
                  <a:ext cx="5205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842920" y="3966840"/>
                  <a:ext cx="6573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1528560" y="4606200"/>
                <a:ext cx="657360" cy="639360"/>
                <a:chOff x="1528560" y="4606200"/>
                <a:chExt cx="657360" cy="6393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1596960" y="4606200"/>
                  <a:ext cx="5205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528560" y="4606200"/>
                  <a:ext cx="6573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2185920" y="4606200"/>
                <a:ext cx="657000" cy="639360"/>
                <a:chOff x="2185920" y="4606200"/>
                <a:chExt cx="657000" cy="6393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2253960" y="4606200"/>
                  <a:ext cx="5209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185920" y="4606200"/>
                  <a:ext cx="65700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842920" y="4606200"/>
                <a:ext cx="657360" cy="639360"/>
                <a:chOff x="2842920" y="4606200"/>
                <a:chExt cx="657360" cy="6393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911320" y="4606200"/>
                  <a:ext cx="5205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842920" y="4606200"/>
                  <a:ext cx="6573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528560" y="5245920"/>
                <a:ext cx="657360" cy="639360"/>
                <a:chOff x="1528560" y="5245920"/>
                <a:chExt cx="657360" cy="6393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596960" y="5245920"/>
                  <a:ext cx="5205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528560" y="5245920"/>
                  <a:ext cx="6573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185920" y="5245920"/>
                <a:ext cx="657000" cy="639360"/>
                <a:chOff x="2185920" y="5245920"/>
                <a:chExt cx="657000" cy="6393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253960" y="5245920"/>
                  <a:ext cx="5209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185920" y="5245920"/>
                  <a:ext cx="65700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2842920" y="5245920"/>
                <a:ext cx="657360" cy="639360"/>
                <a:chOff x="2842920" y="5245920"/>
                <a:chExt cx="657360" cy="6393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2911320" y="5245920"/>
                  <a:ext cx="5205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842920" y="5245920"/>
                  <a:ext cx="6573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9" name=""/>
            <p:cNvSpPr/>
            <p:nvPr/>
          </p:nvSpPr>
          <p:spPr>
            <a:xfrm>
              <a:off x="1523880" y="3962520"/>
              <a:ext cx="1981080" cy="1928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419720" y="3581280"/>
            <a:ext cx="27334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mage Sharpening with Laplacia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3240" y="2147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219320" y="3048120"/>
            <a:ext cx="1981080" cy="1928520"/>
            <a:chOff x="1219320" y="3048120"/>
            <a:chExt cx="1981080" cy="1928520"/>
          </a:xfrm>
        </p:grpSpPr>
        <p:grpSp>
          <p:nvGrpSpPr>
            <p:cNvPr id="274" name=""/>
            <p:cNvGrpSpPr/>
            <p:nvPr/>
          </p:nvGrpSpPr>
          <p:grpSpPr>
            <a:xfrm>
              <a:off x="1224000" y="3052440"/>
              <a:ext cx="1971720" cy="1918440"/>
              <a:chOff x="1224000" y="3052440"/>
              <a:chExt cx="1971720" cy="1918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1224000" y="3052440"/>
                <a:ext cx="657360" cy="639360"/>
                <a:chOff x="1224000" y="3052440"/>
                <a:chExt cx="657360" cy="6393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292400" y="3052440"/>
                  <a:ext cx="5205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224000" y="3052440"/>
                  <a:ext cx="6573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1881360" y="3052440"/>
                <a:ext cx="657000" cy="639360"/>
                <a:chOff x="1881360" y="3052440"/>
                <a:chExt cx="657000" cy="6393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1949400" y="3052440"/>
                  <a:ext cx="5209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881360" y="3052440"/>
                  <a:ext cx="65700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2538360" y="3052440"/>
                <a:ext cx="657360" cy="639360"/>
                <a:chOff x="2538360" y="3052440"/>
                <a:chExt cx="657360" cy="6393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606760" y="3052440"/>
                  <a:ext cx="5205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538360" y="3052440"/>
                  <a:ext cx="6573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224000" y="3691800"/>
                <a:ext cx="657360" cy="639360"/>
                <a:chOff x="1224000" y="3691800"/>
                <a:chExt cx="657360" cy="6393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292400" y="3691800"/>
                  <a:ext cx="5205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224000" y="3691800"/>
                  <a:ext cx="6573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1881360" y="3691800"/>
                <a:ext cx="657000" cy="639360"/>
                <a:chOff x="1881360" y="3691800"/>
                <a:chExt cx="657000" cy="6393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949400" y="3691800"/>
                  <a:ext cx="5209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881360" y="3691800"/>
                  <a:ext cx="65700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2538360" y="3691800"/>
                <a:ext cx="657360" cy="639360"/>
                <a:chOff x="2538360" y="3691800"/>
                <a:chExt cx="657360" cy="6393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606760" y="3691800"/>
                  <a:ext cx="5205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538360" y="3691800"/>
                  <a:ext cx="6573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224000" y="4331520"/>
                <a:ext cx="657360" cy="639360"/>
                <a:chOff x="1224000" y="4331520"/>
                <a:chExt cx="657360" cy="6393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292400" y="4331520"/>
                  <a:ext cx="5205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224000" y="4331520"/>
                  <a:ext cx="6573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1881360" y="4331520"/>
                <a:ext cx="657000" cy="639360"/>
                <a:chOff x="1881360" y="4331520"/>
                <a:chExt cx="657000" cy="6393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1949400" y="4331520"/>
                  <a:ext cx="5209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881360" y="4331520"/>
                  <a:ext cx="65700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2538360" y="4331520"/>
                <a:ext cx="657360" cy="639360"/>
                <a:chOff x="2538360" y="4331520"/>
                <a:chExt cx="657360" cy="6393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2606760" y="4331520"/>
                  <a:ext cx="5205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538360" y="4331520"/>
                  <a:ext cx="6573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219320" y="3048120"/>
              <a:ext cx="1981080" cy="1928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648320" y="2971800"/>
            <a:ext cx="22129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17:04:07Z</dcterms:created>
  <dc:creator> </dc:creator>
  <dc:description/>
  <dc:language>en-US</dc:language>
  <cp:lastModifiedBy>HSS</cp:lastModifiedBy>
  <dcterms:modified xsi:type="dcterms:W3CDTF">2010-11-10T17:23:33Z</dcterms:modified>
  <cp:revision>43</cp:revision>
  <dc:subject/>
  <dc:title>Medical Image Analaysis</dc:title>
</cp:coreProperties>
</file>