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D788-187F-4B00-924E-D8C2F7A56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0956-EC14-4EDA-8403-DD9EC045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B520-4D3F-4638-A5BD-117B31F4A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D704-B4EC-44F8-A649-7CB85ABE8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71EB-98E7-43F8-89E6-2D0384C1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3624-3C16-4E9F-B77B-BE02DCA3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5A72-A465-4FEB-8B61-3FC492F4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B8DA-8D94-40B3-BCB2-8F63D638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246E-C61A-44C3-8AE8-F9F5B74D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AB4E-4645-48E0-935B-6D05D7F8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573F-B639-4AEA-930E-502CE47E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1E6A-296C-495C-8A16-B28373BE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F529-1C6D-456A-932D-A0483BFDF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.wmf"/><Relationship Id="rId1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 Re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am P Dha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Radon Trans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623960" y="3048120"/>
          <a:ext cx="5821560" cy="81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3960" y="3048120"/>
                    <a:ext cx="582156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981080" y="2057400"/>
          <a:ext cx="4038840" cy="86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2057400"/>
                    <a:ext cx="403884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666880" y="4114800"/>
          <a:ext cx="3429000" cy="211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4114800"/>
                    <a:ext cx="3429000" cy="21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ed Backproj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2133720" y="1752480"/>
          <a:ext cx="4267080" cy="26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752480"/>
                    <a:ext cx="4267080" cy="26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5791320" y="4648320"/>
          <a:ext cx="561960" cy="16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4648320"/>
                    <a:ext cx="561960" cy="16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6400800" y="5257800"/>
          <a:ext cx="485640" cy="23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5257800"/>
                    <a:ext cx="4856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851040" y="4648320"/>
            <a:ext cx="4907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gration over the spatial frequency variabl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hould be carried out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38080" y="4876200"/>
            <a:ext cx="5715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in practice, the projections are considered to be bandlimi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eans that any spectral energy beyond a spatial frequency, say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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st be ignor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39360" y="5286960"/>
            <a:ext cx="137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computed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838080" y="5715000"/>
          <a:ext cx="2971800" cy="608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5715000"/>
                    <a:ext cx="29718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4648320" y="5791320"/>
          <a:ext cx="1876320" cy="485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48320" y="5791320"/>
                    <a:ext cx="18763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4267080" y="6477120"/>
          <a:ext cx="352440" cy="218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67080" y="6477120"/>
                    <a:ext cx="35244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609480" y="6400800"/>
          <a:ext cx="524160" cy="219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9480" y="6400800"/>
                    <a:ext cx="52416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4565520" y="6476400"/>
            <a:ext cx="364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Fourier transform of the filter kernel fun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83520" y="6400080"/>
            <a:ext cx="298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spatial domain and is bandlimi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838080" y="1981080"/>
          <a:ext cx="297180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29718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4648320" y="2057400"/>
          <a:ext cx="187632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057400"/>
                    <a:ext cx="18763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4267080" y="2743200"/>
          <a:ext cx="352440" cy="21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2743200"/>
                    <a:ext cx="35244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609480" y="2666880"/>
          <a:ext cx="524160" cy="21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2666880"/>
                    <a:ext cx="52416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"/>
          <p:cNvSpPr/>
          <p:nvPr/>
        </p:nvSpPr>
        <p:spPr>
          <a:xfrm>
            <a:off x="4565520" y="2742480"/>
            <a:ext cx="364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Fourier transform of the filter kernel fun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83520" y="2666160"/>
            <a:ext cx="298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spatial domain and is bandlimi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505320" y="3352680"/>
          <a:ext cx="1295280" cy="314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05320" y="3352680"/>
                    <a:ext cx="129528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505320" y="3809880"/>
          <a:ext cx="1714320" cy="486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5320" y="3809880"/>
                    <a:ext cx="171432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3505320" y="4495680"/>
          <a:ext cx="1904760" cy="595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05320" y="4495680"/>
                    <a:ext cx="190476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2209680" y="2438280"/>
            <a:ext cx="4438800" cy="3000600"/>
            <a:chOff x="2209680" y="2438280"/>
            <a:chExt cx="4438800" cy="3000600"/>
          </a:xfrm>
        </p:grpSpPr>
        <p:grpSp>
          <p:nvGrpSpPr>
            <p:cNvPr id="300" name=""/>
            <p:cNvGrpSpPr/>
            <p:nvPr/>
          </p:nvGrpSpPr>
          <p:grpSpPr>
            <a:xfrm>
              <a:off x="2209680" y="2438280"/>
              <a:ext cx="4181760" cy="3000600"/>
              <a:chOff x="2209680" y="2438280"/>
              <a:chExt cx="4181760" cy="3000600"/>
            </a:xfrm>
          </p:grpSpPr>
          <p:sp>
            <p:nvSpPr>
              <p:cNvPr id="301" name=""/>
              <p:cNvSpPr/>
              <p:nvPr/>
            </p:nvSpPr>
            <p:spPr>
              <a:xfrm flipV="1">
                <a:off x="4238640" y="2543040"/>
                <a:ext cx="0" cy="289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209680" y="4067280"/>
                <a:ext cx="418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4238640" y="3047760"/>
                <a:ext cx="1009440" cy="100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 flipV="1">
                <a:off x="3218760" y="3047760"/>
                <a:ext cx="1009800" cy="100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238720" y="3066840"/>
                <a:ext cx="0" cy="100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28840" y="3066840"/>
                <a:ext cx="0" cy="100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333680" y="2438280"/>
                <a:ext cx="59040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Mangal"/>
                  </a:rPr>
                  <a:t>H(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Mangal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095800" y="4133880"/>
                <a:ext cx="552240" cy="33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Mangal"/>
                  </a:rPr>
                  <a:t>1/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981160" y="4086000"/>
                <a:ext cx="552240" cy="33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Mangal"/>
                  </a:rPr>
                  <a:t>-1/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162320" y="2895480"/>
                <a:ext cx="552240" cy="33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Mangal"/>
                  </a:rPr>
                  <a:t>1/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6372360" y="3902040"/>
              <a:ext cx="276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33520" y="17521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projections are sampled with a time interval of t, the projections can be represented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16200000">
            <a:off x="-360" y="33156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2209680" y="2133720"/>
          <a:ext cx="466920" cy="22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133720"/>
                    <a:ext cx="4669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609480" y="2437920"/>
            <a:ext cx="75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Sampling theorem and the bandlimited constraint, all spatial frequency components beyo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ignored such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3505320" y="3200400"/>
          <a:ext cx="83808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3200400"/>
                    <a:ext cx="8380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828800" y="4572000"/>
          <a:ext cx="396252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4572000"/>
                    <a:ext cx="396252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844200" y="4037760"/>
            <a:ext cx="62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bandlimited projections with a sampling interval o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52280" y="2133720"/>
            <a:ext cx="3962160" cy="2590200"/>
            <a:chOff x="152280" y="2133720"/>
            <a:chExt cx="3962160" cy="2590200"/>
          </a:xfrm>
        </p:grpSpPr>
        <p:sp>
          <p:nvSpPr>
            <p:cNvPr id="327" name=""/>
            <p:cNvSpPr/>
            <p:nvPr/>
          </p:nvSpPr>
          <p:spPr>
            <a:xfrm flipV="1">
              <a:off x="1963440" y="2223720"/>
              <a:ext cx="0" cy="25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52280" y="3539880"/>
              <a:ext cx="373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48400" y="2133720"/>
              <a:ext cx="52704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Mangal"/>
                </a:rPr>
                <a:t>H(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Mang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28800" y="3597480"/>
              <a:ext cx="49284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angal"/>
                </a:rPr>
                <a:t>1/2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40960" y="3556440"/>
              <a:ext cx="49320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angal"/>
                </a:rPr>
                <a:t>-1/2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868200" y="3397320"/>
              <a:ext cx="246240" cy="2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963440" y="3195000"/>
              <a:ext cx="892800" cy="343800"/>
            </a:xfrm>
            <a:custGeom>
              <a:avLst/>
              <a:gdLst/>
              <a:ahLst/>
              <a:rect l="l" t="t" r="r" b="b"/>
              <a:pathLst>
                <a:path w="1575" h="627">
                  <a:moveTo>
                    <a:pt x="0" y="612"/>
                  </a:moveTo>
                  <a:cubicBezTo>
                    <a:pt x="173" y="333"/>
                    <a:pt x="347" y="54"/>
                    <a:pt x="540" y="27"/>
                  </a:cubicBezTo>
                  <a:cubicBezTo>
                    <a:pt x="733" y="0"/>
                    <a:pt x="983" y="347"/>
                    <a:pt x="1155" y="447"/>
                  </a:cubicBezTo>
                  <a:cubicBezTo>
                    <a:pt x="1327" y="547"/>
                    <a:pt x="1451" y="587"/>
                    <a:pt x="1575" y="6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1062000" y="3195000"/>
              <a:ext cx="892800" cy="343800"/>
            </a:xfrm>
            <a:custGeom>
              <a:avLst/>
              <a:gdLst/>
              <a:ahLst/>
              <a:rect l="l" t="t" r="r" b="b"/>
              <a:pathLst>
                <a:path w="1575" h="627">
                  <a:moveTo>
                    <a:pt x="0" y="612"/>
                  </a:moveTo>
                  <a:cubicBezTo>
                    <a:pt x="173" y="333"/>
                    <a:pt x="347" y="54"/>
                    <a:pt x="540" y="27"/>
                  </a:cubicBezTo>
                  <a:cubicBezTo>
                    <a:pt x="733" y="0"/>
                    <a:pt x="983" y="347"/>
                    <a:pt x="1155" y="447"/>
                  </a:cubicBezTo>
                  <a:cubicBezTo>
                    <a:pt x="1327" y="547"/>
                    <a:pt x="1451" y="587"/>
                    <a:pt x="1575" y="6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4191120" y="1905120"/>
            <a:ext cx="4438440" cy="2999520"/>
            <a:chOff x="4191120" y="1905120"/>
            <a:chExt cx="4438440" cy="2999520"/>
          </a:xfrm>
        </p:grpSpPr>
        <p:grpSp>
          <p:nvGrpSpPr>
            <p:cNvPr id="336" name=""/>
            <p:cNvGrpSpPr/>
            <p:nvPr/>
          </p:nvGrpSpPr>
          <p:grpSpPr>
            <a:xfrm>
              <a:off x="4191120" y="1905120"/>
              <a:ext cx="4438440" cy="2999520"/>
              <a:chOff x="4191120" y="1905120"/>
              <a:chExt cx="4438440" cy="299952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4191120" y="1905120"/>
                <a:ext cx="4438440" cy="2999520"/>
                <a:chOff x="4191120" y="1905120"/>
                <a:chExt cx="4438440" cy="2999520"/>
              </a:xfrm>
            </p:grpSpPr>
            <p:sp>
              <p:nvSpPr>
                <p:cNvPr id="338" name=""/>
                <p:cNvSpPr/>
                <p:nvPr/>
              </p:nvSpPr>
              <p:spPr>
                <a:xfrm flipV="1">
                  <a:off x="6219720" y="2009160"/>
                  <a:ext cx="0" cy="289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191120" y="3533760"/>
                  <a:ext cx="4181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315120" y="1905120"/>
                  <a:ext cx="59040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Mangal"/>
                    </a:rPr>
                    <a:t>h(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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8353440" y="3368520"/>
                  <a:ext cx="276120" cy="31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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219720" y="2484720"/>
                  <a:ext cx="1638000" cy="1473120"/>
                </a:xfrm>
                <a:custGeom>
                  <a:avLst/>
                  <a:gdLst/>
                  <a:ahLst/>
                  <a:rect l="l" t="t" r="r" b="b"/>
                  <a:pathLst>
                    <a:path w="2580" h="2320">
                      <a:moveTo>
                        <a:pt x="0" y="0"/>
                      </a:moveTo>
                      <a:cubicBezTo>
                        <a:pt x="247" y="805"/>
                        <a:pt x="495" y="1610"/>
                        <a:pt x="660" y="1965"/>
                      </a:cubicBezTo>
                      <a:cubicBezTo>
                        <a:pt x="825" y="2320"/>
                        <a:pt x="883" y="2270"/>
                        <a:pt x="990" y="2130"/>
                      </a:cubicBezTo>
                      <a:cubicBezTo>
                        <a:pt x="1097" y="1990"/>
                        <a:pt x="1173" y="1150"/>
                        <a:pt x="1305" y="1125"/>
                      </a:cubicBezTo>
                      <a:cubicBezTo>
                        <a:pt x="1437" y="1100"/>
                        <a:pt x="1620" y="1945"/>
                        <a:pt x="1785" y="1980"/>
                      </a:cubicBezTo>
                      <a:cubicBezTo>
                        <a:pt x="1950" y="2015"/>
                        <a:pt x="2162" y="1385"/>
                        <a:pt x="2295" y="1335"/>
                      </a:cubicBezTo>
                      <a:cubicBezTo>
                        <a:pt x="2428" y="1285"/>
                        <a:pt x="2504" y="1482"/>
                        <a:pt x="2580" y="16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H="1">
                  <a:off x="4581360" y="2494080"/>
                  <a:ext cx="1638000" cy="1473120"/>
                </a:xfrm>
                <a:custGeom>
                  <a:avLst/>
                  <a:gdLst/>
                  <a:ahLst/>
                  <a:rect l="l" t="t" r="r" b="b"/>
                  <a:pathLst>
                    <a:path w="2580" h="2320">
                      <a:moveTo>
                        <a:pt x="0" y="0"/>
                      </a:moveTo>
                      <a:cubicBezTo>
                        <a:pt x="247" y="805"/>
                        <a:pt x="495" y="1610"/>
                        <a:pt x="660" y="1965"/>
                      </a:cubicBezTo>
                      <a:cubicBezTo>
                        <a:pt x="825" y="2320"/>
                        <a:pt x="883" y="2270"/>
                        <a:pt x="990" y="2130"/>
                      </a:cubicBezTo>
                      <a:cubicBezTo>
                        <a:pt x="1097" y="1990"/>
                        <a:pt x="1173" y="1150"/>
                        <a:pt x="1305" y="1125"/>
                      </a:cubicBezTo>
                      <a:cubicBezTo>
                        <a:pt x="1437" y="1100"/>
                        <a:pt x="1620" y="1945"/>
                        <a:pt x="1785" y="1980"/>
                      </a:cubicBezTo>
                      <a:cubicBezTo>
                        <a:pt x="1950" y="2015"/>
                        <a:pt x="2162" y="1385"/>
                        <a:pt x="2295" y="1335"/>
                      </a:cubicBezTo>
                      <a:cubicBezTo>
                        <a:pt x="2428" y="1285"/>
                        <a:pt x="2504" y="1482"/>
                        <a:pt x="2580" y="16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4" name=""/>
              <p:cNvSpPr/>
              <p:nvPr/>
            </p:nvSpPr>
            <p:spPr>
              <a:xfrm>
                <a:off x="6219720" y="2570400"/>
                <a:ext cx="1704960" cy="1276200"/>
              </a:xfrm>
              <a:custGeom>
                <a:avLst/>
                <a:gdLst/>
                <a:ahLst/>
                <a:rect l="l" t="t" r="r" b="b"/>
                <a:pathLst>
                  <a:path w="2685" h="2010">
                    <a:moveTo>
                      <a:pt x="0" y="0"/>
                    </a:moveTo>
                    <a:cubicBezTo>
                      <a:pt x="144" y="735"/>
                      <a:pt x="288" y="1470"/>
                      <a:pt x="630" y="1740"/>
                    </a:cubicBezTo>
                    <a:cubicBezTo>
                      <a:pt x="972" y="2010"/>
                      <a:pt x="1713" y="1655"/>
                      <a:pt x="2055" y="1620"/>
                    </a:cubicBezTo>
                    <a:cubicBezTo>
                      <a:pt x="2397" y="1585"/>
                      <a:pt x="2541" y="1557"/>
                      <a:pt x="2685" y="153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4524480" y="2561040"/>
                <a:ext cx="1704960" cy="1276200"/>
              </a:xfrm>
              <a:custGeom>
                <a:avLst/>
                <a:gdLst/>
                <a:ahLst/>
                <a:rect l="l" t="t" r="r" b="b"/>
                <a:pathLst>
                  <a:path w="2685" h="2010">
                    <a:moveTo>
                      <a:pt x="0" y="0"/>
                    </a:moveTo>
                    <a:cubicBezTo>
                      <a:pt x="144" y="735"/>
                      <a:pt x="288" y="1470"/>
                      <a:pt x="630" y="1740"/>
                    </a:cubicBezTo>
                    <a:cubicBezTo>
                      <a:pt x="972" y="2010"/>
                      <a:pt x="1713" y="1655"/>
                      <a:pt x="2055" y="1620"/>
                    </a:cubicBezTo>
                    <a:cubicBezTo>
                      <a:pt x="2397" y="1585"/>
                      <a:pt x="2541" y="1557"/>
                      <a:pt x="2685" y="153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7048440" y="3071520"/>
              <a:ext cx="7617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ang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  <a:ea typeface="Mangal"/>
                </a:rPr>
                <a:t>R-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angal"/>
                </a:rPr>
                <a:t>(p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43840" y="3766680"/>
              <a:ext cx="82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ang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Mangal"/>
                </a:rPr>
                <a:t>Hamming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angal"/>
                </a:rPr>
                <a:t>(p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 flipV="1">
              <a:off x="7076520" y="3709440"/>
              <a:ext cx="7596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nal Algorithm: FB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3079800" y="2209680"/>
          <a:ext cx="3135240" cy="15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9800" y="2209680"/>
                    <a:ext cx="3135240" cy="15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v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57200" y="2362320"/>
          <a:ext cx="335268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335268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457200" y="3276720"/>
          <a:ext cx="34290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4290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609480" y="4343400"/>
          <a:ext cx="2895840" cy="1370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4343400"/>
                    <a:ext cx="2895840" cy="13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3" name=""/>
          <p:cNvGrpSpPr/>
          <p:nvPr/>
        </p:nvGrpSpPr>
        <p:grpSpPr>
          <a:xfrm>
            <a:off x="4267080" y="2317680"/>
            <a:ext cx="4414320" cy="3149640"/>
            <a:chOff x="4267080" y="2317680"/>
            <a:chExt cx="4414320" cy="3149640"/>
          </a:xfrm>
        </p:grpSpPr>
        <p:sp>
          <p:nvSpPr>
            <p:cNvPr id="364" name=""/>
            <p:cNvSpPr/>
            <p:nvPr/>
          </p:nvSpPr>
          <p:spPr>
            <a:xfrm>
              <a:off x="4705200" y="4819680"/>
              <a:ext cx="12286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angal"/>
                </a:rPr>
                <a:t>R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angal"/>
                </a:rPr>
                <a:t>with ray sum 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  <a:ea typeface="Mang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628960" y="2847960"/>
              <a:ext cx="4762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angal"/>
                </a:rPr>
                <a:t>f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  <a:ea typeface="Mang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943600" y="2847960"/>
              <a:ext cx="4759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angal"/>
                </a:rPr>
                <a:t>f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  <a:ea typeface="Mang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257880" y="2847960"/>
              <a:ext cx="4759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angal"/>
                </a:rPr>
                <a:t>f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  <a:ea typeface="Mang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962840" y="4971960"/>
              <a:ext cx="4759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angal"/>
                </a:rPr>
                <a:t>f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  <a:ea typeface="Mang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781600" y="3152880"/>
              <a:ext cx="2400120" cy="1771560"/>
            </a:xfrm>
            <a:prstGeom prst="noSmoking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19576800">
              <a:off x="4705200" y="3476160"/>
              <a:ext cx="4257720" cy="2761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5638680" y="2819520"/>
              <a:ext cx="2657520" cy="2457000"/>
              <a:chOff x="5638680" y="2819520"/>
              <a:chExt cx="2657520" cy="2457000"/>
            </a:xfrm>
          </p:grpSpPr>
          <p:sp>
            <p:nvSpPr>
              <p:cNvPr id="372" name=""/>
              <p:cNvSpPr/>
              <p:nvPr/>
            </p:nvSpPr>
            <p:spPr>
              <a:xfrm>
                <a:off x="5638680" y="2828880"/>
                <a:ext cx="2648160" cy="2428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952960" y="2828880"/>
                <a:ext cx="0" cy="243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286320" y="2828880"/>
                <a:ext cx="0" cy="243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19680" y="2828880"/>
                <a:ext cx="0" cy="243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953040" y="2828880"/>
                <a:ext cx="0" cy="243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286400" y="2828880"/>
                <a:ext cx="0" cy="243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20120" y="2819520"/>
                <a:ext cx="0" cy="243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953480" y="2838240"/>
                <a:ext cx="0" cy="243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286840" y="2838240"/>
                <a:ext cx="0" cy="243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638680" y="4962600"/>
                <a:ext cx="265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638680" y="4657680"/>
                <a:ext cx="265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638680" y="4353120"/>
                <a:ext cx="265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638680" y="4048200"/>
                <a:ext cx="265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638680" y="3743280"/>
                <a:ext cx="265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638680" y="3438720"/>
                <a:ext cx="265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638680" y="3133800"/>
                <a:ext cx="265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638680" y="2828880"/>
                <a:ext cx="265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5952960" y="4038480"/>
              <a:ext cx="333360" cy="333360"/>
            </a:xfrm>
            <a:custGeom>
              <a:avLst/>
              <a:gdLst/>
              <a:ahLst/>
              <a:rect l="l" t="t" r="r" b="b"/>
              <a:pathLst>
                <a:path w="525" h="525">
                  <a:moveTo>
                    <a:pt x="0" y="525"/>
                  </a:moveTo>
                  <a:lnTo>
                    <a:pt x="15" y="30"/>
                  </a:lnTo>
                  <a:lnTo>
                    <a:pt x="510" y="0"/>
                  </a:lnTo>
                  <a:lnTo>
                    <a:pt x="525" y="180"/>
                  </a:lnTo>
                  <a:lnTo>
                    <a:pt x="0" y="525"/>
                  </a:lnTo>
                  <a:close/>
                </a:path>
              </a:pathLst>
            </a:custGeom>
            <a:solidFill>
              <a:srgbClr val="4d4d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267080" y="3343320"/>
              <a:ext cx="12286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angal"/>
                </a:rPr>
                <a:t>Overlapping are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angal"/>
                </a:rPr>
                <a:t>for defining w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  <a:ea typeface="Mangal"/>
                </a:rPr>
                <a:t>i,j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314680" y="3657600"/>
              <a:ext cx="71424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 ML Image Re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5486400" cy="146376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1600200" y="3352680"/>
            <a:ext cx="5486400" cy="22179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2057400" y="5638680"/>
          <a:ext cx="4267080" cy="8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5638680"/>
                    <a:ext cx="426708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"/>
          <p:cNvSpPr/>
          <p:nvPr/>
        </p:nvSpPr>
        <p:spPr>
          <a:xfrm>
            <a:off x="0" y="371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L-EM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371600" y="2819520"/>
          <a:ext cx="6705720" cy="114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819520"/>
                    <a:ext cx="6705720" cy="114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 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523880" y="2286000"/>
            <a:ext cx="6391440" cy="2333160"/>
            <a:chOff x="1523880" y="2286000"/>
            <a:chExt cx="6391440" cy="2333160"/>
          </a:xfrm>
        </p:grpSpPr>
        <p:sp>
          <p:nvSpPr>
            <p:cNvPr id="45" name=""/>
            <p:cNvSpPr/>
            <p:nvPr/>
          </p:nvSpPr>
          <p:spPr>
            <a:xfrm>
              <a:off x="2838240" y="3508560"/>
              <a:ext cx="285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448760" y="3515040"/>
              <a:ext cx="285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1990440" y="3657960"/>
              <a:ext cx="79056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1523880" y="3686400"/>
              <a:ext cx="47592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142720" y="3105360"/>
              <a:ext cx="314280" cy="62856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238120" y="3333960"/>
              <a:ext cx="119160" cy="247320"/>
            </a:xfrm>
            <a:prstGeom prst="can">
              <a:avLst>
                <a:gd name="adj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6531480" y="3626280"/>
              <a:ext cx="923040" cy="2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6093000" y="3665880"/>
              <a:ext cx="448920" cy="6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6000">
              <a:off x="6685920" y="3085560"/>
              <a:ext cx="390240" cy="6847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6000">
              <a:off x="6781320" y="3313800"/>
              <a:ext cx="214560" cy="303840"/>
            </a:xfrm>
            <a:prstGeom prst="can">
              <a:avLst>
                <a:gd name="adj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47880" y="2762640"/>
              <a:ext cx="2104920" cy="97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Image Formation Syste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Book Antiqu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4880" y="3876840"/>
              <a:ext cx="914400" cy="4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bject 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000920" y="3819600"/>
              <a:ext cx="914400" cy="4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 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943000" y="3238920"/>
              <a:ext cx="380880" cy="90720"/>
            </a:xfrm>
            <a:prstGeom prst="rightArrow">
              <a:avLst>
                <a:gd name="adj1" fmla="val 50000"/>
                <a:gd name="adj2" fmla="val 10496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62680" y="3171960"/>
              <a:ext cx="380880" cy="90720"/>
            </a:xfrm>
            <a:prstGeom prst="rightArrow">
              <a:avLst>
                <a:gd name="adj1" fmla="val 50000"/>
                <a:gd name="adj2" fmla="val 10496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523880" y="4286160"/>
              <a:ext cx="2854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38160" y="2314440"/>
              <a:ext cx="285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81600" y="4267440"/>
              <a:ext cx="285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448320" y="2286000"/>
              <a:ext cx="285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52440" y="2514960"/>
              <a:ext cx="118080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adiating Objec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(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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990440" y="2615040"/>
              <a:ext cx="0" cy="103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6534000" y="2586240"/>
              <a:ext cx="0" cy="103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00760" y="2705400"/>
              <a:ext cx="10951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(x,y,z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82420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143000" y="4800600"/>
                <a:ext cx="67723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  <m:r>
                              <m:t xml:space="preserve">,</m:t>
                            </m:r>
                            <m:r>
                              <m:t xml:space="preserve">α</m:t>
                            </m:r>
                            <m:r>
                              <m:t xml:space="preserve">,</m:t>
                            </m:r>
                            <m:r>
                              <m:t xml:space="preserve">β</m:t>
                            </m:r>
                            <m:r>
                              <m:t xml:space="preserve">,</m:t>
                            </m:r>
                            <m:r>
                              <m:t xml:space="preserve">γ</m:t>
                            </m:r>
                            <m:r>
                              <m:t xml:space="preserve">)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</m:e>
                        </m:nary>
                      </m:e>
                    </m:nary>
                    <m:r>
                      <m:t xml:space="preserve">α</m:t>
                    </m:r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)</m:t>
                    </m:r>
                    <m:r>
                      <m:t xml:space="preserve">dαdβd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269064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143000" y="5562720"/>
                <a:ext cx="6734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γ</m:t>
                            </m:r>
                            <m:r>
                              <m:t xml:space="preserve">)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</m:e>
                        </m:nary>
                      </m:e>
                    </m:nary>
                    <m:r>
                      <m:t xml:space="preserve">α</m:t>
                    </m:r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)</m:t>
                    </m:r>
                    <m:r>
                      <m:t xml:space="preserve">dαdβdγ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-Grid EM Algorith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990720" y="895320"/>
          <a:ext cx="5486400" cy="588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895320"/>
                    <a:ext cx="5486400" cy="58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GEM Reconstru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2743200" y="2133720"/>
            <a:ext cx="365760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nstruction in M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19572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609480" y="2895480"/>
                <a:ext cx="77774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nary>
                      <m:naryPr>
                        <m:chr m:val="∭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xdyd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1815480" y="4529160"/>
            <a:ext cx="62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ier Transform Reconstruction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 Formation: External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143000" y="2133720"/>
            <a:ext cx="6705720" cy="4171320"/>
            <a:chOff x="1143000" y="2133720"/>
            <a:chExt cx="6705720" cy="4171320"/>
          </a:xfrm>
        </p:grpSpPr>
        <p:sp>
          <p:nvSpPr>
            <p:cNvPr id="74" name=""/>
            <p:cNvSpPr/>
            <p:nvPr/>
          </p:nvSpPr>
          <p:spPr>
            <a:xfrm>
              <a:off x="6305760" y="5848200"/>
              <a:ext cx="133344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constructed Cross-Sectional Im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238800" y="4515120"/>
              <a:ext cx="1218960" cy="121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553440" y="4791240"/>
              <a:ext cx="637920" cy="66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753240" y="4991040"/>
              <a:ext cx="247680" cy="2664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552320" y="4915080"/>
              <a:ext cx="1314360" cy="9522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diation Sour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09520" y="4610160"/>
              <a:ext cx="352440" cy="45684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09240" y="4238640"/>
              <a:ext cx="90720" cy="285480"/>
            </a:xfrm>
            <a:prstGeom prst="upArrow">
              <a:avLst>
                <a:gd name="adj1" fmla="val 50000"/>
                <a:gd name="adj2" fmla="val 78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24120" y="3365280"/>
              <a:ext cx="285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267680" y="3476160"/>
              <a:ext cx="285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1609560" y="2345760"/>
              <a:ext cx="0" cy="10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1228680" y="3438360"/>
              <a:ext cx="390240" cy="89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1628640" y="3447720"/>
              <a:ext cx="9810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771560" y="2876400"/>
              <a:ext cx="313920" cy="62856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866600" y="3105000"/>
              <a:ext cx="119160" cy="247320"/>
            </a:xfrm>
            <a:prstGeom prst="can">
              <a:avLst>
                <a:gd name="adj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6161760" y="2342160"/>
              <a:ext cx="2160" cy="10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162120" y="3417480"/>
              <a:ext cx="12002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5702760" y="3436560"/>
              <a:ext cx="468000" cy="70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6000">
              <a:off x="6314400" y="2856240"/>
              <a:ext cx="390240" cy="6847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6000">
              <a:off x="6409800" y="3084840"/>
              <a:ext cx="214560" cy="303840"/>
            </a:xfrm>
            <a:prstGeom prst="can">
              <a:avLst>
                <a:gd name="adj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76720" y="2533680"/>
              <a:ext cx="2104920" cy="97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Image Formation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Book Antiqu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33360" y="3647880"/>
              <a:ext cx="9144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bject 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629400" y="3590640"/>
              <a:ext cx="9144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 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934320" y="2885760"/>
              <a:ext cx="914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electe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ross-Se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48360" y="32572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71480" y="3009600"/>
              <a:ext cx="380880" cy="90720"/>
            </a:xfrm>
            <a:prstGeom prst="rightArrow">
              <a:avLst>
                <a:gd name="adj1" fmla="val 50000"/>
                <a:gd name="adj2" fmla="val 10496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91160" y="2943000"/>
              <a:ext cx="380880" cy="90720"/>
            </a:xfrm>
            <a:prstGeom prst="rightArrow">
              <a:avLst>
                <a:gd name="adj1" fmla="val 50000"/>
                <a:gd name="adj2" fmla="val 10496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62960" y="4142880"/>
              <a:ext cx="90720" cy="266760"/>
            </a:xfrm>
            <a:prstGeom prst="downArrow">
              <a:avLst>
                <a:gd name="adj1" fmla="val 50000"/>
                <a:gd name="adj2" fmla="val 7351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71240" y="2133720"/>
              <a:ext cx="285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15160" y="3999960"/>
              <a:ext cx="285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00640" y="2190600"/>
              <a:ext cx="285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24040" y="2390760"/>
              <a:ext cx="79992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adiating Obj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43000" y="4399920"/>
              <a:ext cx="285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34000" y="2390760"/>
              <a:ext cx="79992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 Formation: Internal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371600" y="1828800"/>
            <a:ext cx="6620040" cy="4184640"/>
            <a:chOff x="1371600" y="1828800"/>
            <a:chExt cx="6620040" cy="4184640"/>
          </a:xfrm>
        </p:grpSpPr>
        <p:sp>
          <p:nvSpPr>
            <p:cNvPr id="109" name=""/>
            <p:cNvSpPr/>
            <p:nvPr/>
          </p:nvSpPr>
          <p:spPr>
            <a:xfrm>
              <a:off x="1390680" y="3895560"/>
              <a:ext cx="285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1371600" y="1828800"/>
              <a:ext cx="6620040" cy="4184640"/>
              <a:chOff x="1371600" y="1828800"/>
              <a:chExt cx="6620040" cy="4184640"/>
            </a:xfrm>
          </p:grpSpPr>
          <p:sp>
            <p:nvSpPr>
              <p:cNvPr id="111" name=""/>
              <p:cNvSpPr/>
              <p:nvPr/>
            </p:nvSpPr>
            <p:spPr>
              <a:xfrm>
                <a:off x="2866680" y="3060720"/>
                <a:ext cx="2858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10600" y="3171600"/>
                <a:ext cx="2854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372360" y="5556240"/>
                <a:ext cx="133344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Reconstructed Cross-Sectional Imag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1752480" y="2041200"/>
                <a:ext cx="0" cy="108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1371600" y="3133440"/>
                <a:ext cx="390240" cy="89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1771560" y="3143160"/>
                <a:ext cx="9810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914480" y="2571480"/>
                <a:ext cx="314280" cy="62856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009520" y="2800080"/>
                <a:ext cx="119160" cy="2476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6304680" y="2037600"/>
                <a:ext cx="2160" cy="108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305040" y="3112920"/>
                <a:ext cx="11998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5845680" y="3132000"/>
                <a:ext cx="468000" cy="70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00">
                <a:off x="6457320" y="2551680"/>
                <a:ext cx="390240" cy="68508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6000">
                <a:off x="6552720" y="2780280"/>
                <a:ext cx="214560" cy="30384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419280" y="2228760"/>
                <a:ext cx="2104920" cy="97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 Antiqua"/>
                  </a:rPr>
                  <a:t>Image Formation Syste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Book Antiqua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276280" y="3343320"/>
                <a:ext cx="914400" cy="43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bject Domai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772320" y="3286080"/>
                <a:ext cx="914400" cy="43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Image Domai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77240" y="2581200"/>
                <a:ext cx="914400" cy="39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Selected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Cross-Sec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191280" y="295272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305760" y="4209840"/>
                <a:ext cx="1219320" cy="1218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620040" y="4486320"/>
                <a:ext cx="637920" cy="666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819840" y="4686480"/>
                <a:ext cx="247680" cy="26640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714400" y="2705040"/>
                <a:ext cx="380880" cy="90720"/>
              </a:xfrm>
              <a:prstGeom prst="rightArrow">
                <a:avLst>
                  <a:gd name="adj1" fmla="val 50000"/>
                  <a:gd name="adj2" fmla="val 10496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34080" y="2638080"/>
                <a:ext cx="380880" cy="90720"/>
              </a:xfrm>
              <a:prstGeom prst="rightArrow">
                <a:avLst>
                  <a:gd name="adj1" fmla="val 50000"/>
                  <a:gd name="adj2" fmla="val 10496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905880" y="3838680"/>
                <a:ext cx="90720" cy="266400"/>
              </a:xfrm>
              <a:prstGeom prst="downArrow">
                <a:avLst>
                  <a:gd name="adj1" fmla="val 50000"/>
                  <a:gd name="adj2" fmla="val 7341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514160" y="1828800"/>
                <a:ext cx="2854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058080" y="3695760"/>
                <a:ext cx="2858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343920" y="1885680"/>
                <a:ext cx="2854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914480" y="2152440"/>
                <a:ext cx="79992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Radiating Objec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91400" y="2114280"/>
                <a:ext cx="79992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Imag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ier Trans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955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828800" y="2286000"/>
                <a:ext cx="49291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ux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vy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514600" y="3886200"/>
            <a:ext cx="1219320" cy="12096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257800" y="3809880"/>
            <a:ext cx="120960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on Trans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133720" y="1371600"/>
            <a:ext cx="5238720" cy="5486400"/>
            <a:chOff x="2133720" y="1371600"/>
            <a:chExt cx="5238720" cy="5486400"/>
          </a:xfrm>
        </p:grpSpPr>
        <p:sp>
          <p:nvSpPr>
            <p:cNvPr id="147" name=""/>
            <p:cNvSpPr/>
            <p:nvPr/>
          </p:nvSpPr>
          <p:spPr>
            <a:xfrm>
              <a:off x="6429600" y="3124080"/>
              <a:ext cx="342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95720" y="1371600"/>
              <a:ext cx="342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00400" y="2304720"/>
              <a:ext cx="2152440" cy="1838160"/>
            </a:xfrm>
            <a:custGeom>
              <a:avLst/>
              <a:gdLst/>
              <a:ahLst/>
              <a:rect l="l" t="t" r="r" b="b"/>
              <a:pathLst>
                <a:path w="3390" h="2895">
                  <a:moveTo>
                    <a:pt x="375" y="1080"/>
                  </a:moveTo>
                  <a:lnTo>
                    <a:pt x="1230" y="45"/>
                  </a:lnTo>
                  <a:lnTo>
                    <a:pt x="2025" y="0"/>
                  </a:lnTo>
                  <a:lnTo>
                    <a:pt x="2295" y="120"/>
                  </a:lnTo>
                  <a:lnTo>
                    <a:pt x="2685" y="465"/>
                  </a:lnTo>
                  <a:lnTo>
                    <a:pt x="2940" y="510"/>
                  </a:lnTo>
                  <a:lnTo>
                    <a:pt x="3225" y="525"/>
                  </a:lnTo>
                  <a:lnTo>
                    <a:pt x="3360" y="690"/>
                  </a:lnTo>
                  <a:lnTo>
                    <a:pt x="3390" y="1050"/>
                  </a:lnTo>
                  <a:lnTo>
                    <a:pt x="3360" y="1230"/>
                  </a:lnTo>
                  <a:lnTo>
                    <a:pt x="3330" y="1680"/>
                  </a:lnTo>
                  <a:lnTo>
                    <a:pt x="3210" y="1860"/>
                  </a:lnTo>
                  <a:lnTo>
                    <a:pt x="2910" y="2100"/>
                  </a:lnTo>
                  <a:lnTo>
                    <a:pt x="2700" y="2235"/>
                  </a:lnTo>
                  <a:lnTo>
                    <a:pt x="2505" y="2265"/>
                  </a:lnTo>
                  <a:lnTo>
                    <a:pt x="2130" y="2310"/>
                  </a:lnTo>
                  <a:lnTo>
                    <a:pt x="1725" y="2385"/>
                  </a:lnTo>
                  <a:lnTo>
                    <a:pt x="1245" y="2865"/>
                  </a:lnTo>
                  <a:lnTo>
                    <a:pt x="720" y="2895"/>
                  </a:lnTo>
                  <a:lnTo>
                    <a:pt x="540" y="2520"/>
                  </a:lnTo>
                  <a:lnTo>
                    <a:pt x="540" y="2250"/>
                  </a:lnTo>
                  <a:lnTo>
                    <a:pt x="585" y="2010"/>
                  </a:lnTo>
                  <a:lnTo>
                    <a:pt x="540" y="1920"/>
                  </a:lnTo>
                  <a:lnTo>
                    <a:pt x="270" y="1785"/>
                  </a:lnTo>
                  <a:lnTo>
                    <a:pt x="30" y="1575"/>
                  </a:lnTo>
                  <a:lnTo>
                    <a:pt x="0" y="1350"/>
                  </a:lnTo>
                  <a:lnTo>
                    <a:pt x="135" y="1230"/>
                  </a:lnTo>
                  <a:lnTo>
                    <a:pt x="375" y="108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4476960" y="4285800"/>
              <a:ext cx="2504880" cy="18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76960" y="6191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52720" y="1761840"/>
              <a:ext cx="342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95840" y="5924520"/>
              <a:ext cx="342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91560" y="4143240"/>
              <a:ext cx="342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648320" y="1838160"/>
              <a:ext cx="1685880" cy="21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29080" y="2000160"/>
              <a:ext cx="1685880" cy="21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10200" y="2162160"/>
              <a:ext cx="1685520" cy="21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981600" y="2314440"/>
              <a:ext cx="1685880" cy="21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53000" y="2466720"/>
              <a:ext cx="1685520" cy="21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24040" y="2619360"/>
              <a:ext cx="1685880" cy="21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95800" y="2771640"/>
              <a:ext cx="1685520" cy="21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85920" y="2933640"/>
              <a:ext cx="1685880" cy="21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57320" y="3105000"/>
              <a:ext cx="1685880" cy="21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76920" y="4476600"/>
              <a:ext cx="1838160" cy="1400040"/>
            </a:xfrm>
            <a:custGeom>
              <a:avLst/>
              <a:gdLst/>
              <a:ahLst/>
              <a:rect l="l" t="t" r="r" b="b"/>
              <a:pathLst>
                <a:path w="2895" h="2205">
                  <a:moveTo>
                    <a:pt x="0" y="2205"/>
                  </a:moveTo>
                  <a:lnTo>
                    <a:pt x="240" y="1575"/>
                  </a:lnTo>
                  <a:lnTo>
                    <a:pt x="360" y="1080"/>
                  </a:lnTo>
                  <a:lnTo>
                    <a:pt x="705" y="825"/>
                  </a:lnTo>
                  <a:lnTo>
                    <a:pt x="1005" y="525"/>
                  </a:lnTo>
                  <a:lnTo>
                    <a:pt x="1320" y="195"/>
                  </a:lnTo>
                  <a:lnTo>
                    <a:pt x="1740" y="0"/>
                  </a:lnTo>
                  <a:lnTo>
                    <a:pt x="2310" y="0"/>
                  </a:lnTo>
                  <a:lnTo>
                    <a:pt x="289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29080" y="3038400"/>
              <a:ext cx="342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495520" y="2209680"/>
              <a:ext cx="3105000" cy="246672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33720" y="3267000"/>
              <a:ext cx="425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257720" y="1675800"/>
              <a:ext cx="0" cy="31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10240" y="2019240"/>
              <a:ext cx="342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3190320" y="1895040"/>
              <a:ext cx="2114280" cy="272412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62120" y="2761920"/>
              <a:ext cx="7333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(x,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39000" y="4429080"/>
              <a:ext cx="7333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(p,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81240" y="6419880"/>
              <a:ext cx="51912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ne integral projection P(p,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) of the two-dimensional Radon transform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on Trans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828800" y="1981080"/>
            <a:ext cx="4952520" cy="2943360"/>
            <a:chOff x="1828800" y="1981080"/>
            <a:chExt cx="4952520" cy="2943360"/>
          </a:xfrm>
        </p:grpSpPr>
        <p:grpSp>
          <p:nvGrpSpPr>
            <p:cNvPr id="176" name=""/>
            <p:cNvGrpSpPr/>
            <p:nvPr/>
          </p:nvGrpSpPr>
          <p:grpSpPr>
            <a:xfrm>
              <a:off x="3076200" y="2199960"/>
              <a:ext cx="2686320" cy="2647800"/>
              <a:chOff x="3076200" y="2199960"/>
              <a:chExt cx="2686320" cy="2647800"/>
            </a:xfrm>
          </p:grpSpPr>
          <p:sp>
            <p:nvSpPr>
              <p:cNvPr id="177" name=""/>
              <p:cNvSpPr/>
              <p:nvPr/>
            </p:nvSpPr>
            <p:spPr>
              <a:xfrm>
                <a:off x="3076560" y="2247480"/>
                <a:ext cx="1819080" cy="186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124240" y="2199960"/>
                <a:ext cx="342720" cy="1847880"/>
              </a:xfrm>
              <a:custGeom>
                <a:avLst/>
                <a:gdLst/>
                <a:ahLst/>
                <a:rect l="l" t="t" r="r" b="b"/>
                <a:pathLst>
                  <a:path w="540" h="2910">
                    <a:moveTo>
                      <a:pt x="540" y="0"/>
                    </a:moveTo>
                    <a:lnTo>
                      <a:pt x="540" y="720"/>
                    </a:lnTo>
                    <a:lnTo>
                      <a:pt x="0" y="720"/>
                    </a:lnTo>
                    <a:lnTo>
                      <a:pt x="0" y="1050"/>
                    </a:lnTo>
                    <a:lnTo>
                      <a:pt x="540" y="1050"/>
                    </a:lnTo>
                    <a:lnTo>
                      <a:pt x="540" y="1680"/>
                    </a:lnTo>
                    <a:lnTo>
                      <a:pt x="285" y="1680"/>
                    </a:lnTo>
                    <a:lnTo>
                      <a:pt x="285" y="1980"/>
                    </a:lnTo>
                    <a:lnTo>
                      <a:pt x="540" y="1980"/>
                    </a:lnTo>
                    <a:lnTo>
                      <a:pt x="540" y="291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5400000">
                <a:off x="3828600" y="3666960"/>
                <a:ext cx="342720" cy="1847880"/>
              </a:xfrm>
              <a:custGeom>
                <a:avLst/>
                <a:gdLst/>
                <a:ahLst/>
                <a:rect l="l" t="t" r="r" b="b"/>
                <a:pathLst>
                  <a:path w="540" h="2910">
                    <a:moveTo>
                      <a:pt x="540" y="0"/>
                    </a:moveTo>
                    <a:lnTo>
                      <a:pt x="540" y="720"/>
                    </a:lnTo>
                    <a:lnTo>
                      <a:pt x="0" y="720"/>
                    </a:lnTo>
                    <a:lnTo>
                      <a:pt x="0" y="1050"/>
                    </a:lnTo>
                    <a:lnTo>
                      <a:pt x="540" y="1050"/>
                    </a:lnTo>
                    <a:lnTo>
                      <a:pt x="540" y="1680"/>
                    </a:lnTo>
                    <a:lnTo>
                      <a:pt x="285" y="1680"/>
                    </a:lnTo>
                    <a:lnTo>
                      <a:pt x="285" y="1980"/>
                    </a:lnTo>
                    <a:lnTo>
                      <a:pt x="540" y="1980"/>
                    </a:lnTo>
                    <a:lnTo>
                      <a:pt x="540" y="291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124080" y="2657160"/>
                <a:ext cx="1742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114720" y="2857320"/>
                <a:ext cx="1742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3652920" y="2318760"/>
                <a:ext cx="0" cy="174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133440" y="3247920"/>
                <a:ext cx="174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124080" y="3457440"/>
                <a:ext cx="1742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3872160" y="2309040"/>
                <a:ext cx="0" cy="174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4262400" y="2328120"/>
                <a:ext cx="0" cy="174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4472280" y="2328120"/>
                <a:ext cx="0" cy="174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flipV="1">
                <a:off x="3375720" y="3045600"/>
                <a:ext cx="1183320" cy="127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flipV="1">
                <a:off x="3452040" y="2864520"/>
                <a:ext cx="1183320" cy="127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flipV="1">
                <a:off x="4004640" y="2540520"/>
                <a:ext cx="1183320" cy="127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flipV="1">
                <a:off x="4137840" y="2378880"/>
                <a:ext cx="1183320" cy="127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486320" y="3571560"/>
                <a:ext cx="1276200" cy="1276200"/>
              </a:xfrm>
              <a:custGeom>
                <a:avLst/>
                <a:gdLst/>
                <a:ahLst/>
                <a:rect l="l" t="t" r="r" b="b"/>
                <a:pathLst>
                  <a:path w="2010" h="2010">
                    <a:moveTo>
                      <a:pt x="2010" y="0"/>
                    </a:moveTo>
                    <a:lnTo>
                      <a:pt x="1575" y="435"/>
                    </a:lnTo>
                    <a:lnTo>
                      <a:pt x="1200" y="45"/>
                    </a:lnTo>
                    <a:lnTo>
                      <a:pt x="990" y="255"/>
                    </a:lnTo>
                    <a:lnTo>
                      <a:pt x="1365" y="630"/>
                    </a:lnTo>
                    <a:lnTo>
                      <a:pt x="705" y="1290"/>
                    </a:lnTo>
                    <a:lnTo>
                      <a:pt x="465" y="1065"/>
                    </a:lnTo>
                    <a:lnTo>
                      <a:pt x="300" y="1260"/>
                    </a:lnTo>
                    <a:lnTo>
                      <a:pt x="525" y="1485"/>
                    </a:lnTo>
                    <a:lnTo>
                      <a:pt x="0" y="201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267080" y="2638080"/>
                <a:ext cx="228600" cy="218880"/>
              </a:xfrm>
              <a:custGeom>
                <a:avLst/>
                <a:gdLst/>
                <a:ahLst/>
                <a:rect l="l" t="t" r="r" b="b"/>
                <a:pathLst>
                  <a:path w="345" h="315">
                    <a:moveTo>
                      <a:pt x="0" y="240"/>
                    </a:moveTo>
                    <a:lnTo>
                      <a:pt x="15" y="0"/>
                    </a:lnTo>
                    <a:lnTo>
                      <a:pt x="195" y="15"/>
                    </a:lnTo>
                    <a:lnTo>
                      <a:pt x="345" y="135"/>
                    </a:lnTo>
                    <a:lnTo>
                      <a:pt x="345" y="315"/>
                    </a:lnTo>
                    <a:lnTo>
                      <a:pt x="90" y="315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666960" y="3247920"/>
                <a:ext cx="218880" cy="228240"/>
              </a:xfrm>
              <a:custGeom>
                <a:avLst/>
                <a:gdLst/>
                <a:ahLst/>
                <a:rect l="l" t="t" r="r" b="b"/>
                <a:pathLst>
                  <a:path w="345" h="360">
                    <a:moveTo>
                      <a:pt x="90" y="345"/>
                    </a:moveTo>
                    <a:lnTo>
                      <a:pt x="0" y="240"/>
                    </a:lnTo>
                    <a:lnTo>
                      <a:pt x="0" y="0"/>
                    </a:lnTo>
                    <a:lnTo>
                      <a:pt x="210" y="0"/>
                    </a:lnTo>
                    <a:lnTo>
                      <a:pt x="345" y="135"/>
                    </a:lnTo>
                    <a:lnTo>
                      <a:pt x="330" y="360"/>
                    </a:lnTo>
                    <a:lnTo>
                      <a:pt x="90" y="345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5562360" y="1981080"/>
              <a:ext cx="121896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jection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124000" y="4591080"/>
              <a:ext cx="121896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jection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47920" y="4219560"/>
              <a:ext cx="121896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jection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28800" y="2705040"/>
              <a:ext cx="1218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construction Sp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038480" y="241884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28640" y="300960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290988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0988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4312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295280" y="5029200"/>
                <a:ext cx="61437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ier Slice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4267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-y coordinate system rotated to p-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371600" y="2514600"/>
          <a:ext cx="205740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514600"/>
                    <a:ext cx="20574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295280" y="3505320"/>
          <a:ext cx="205740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505320"/>
                    <a:ext cx="205740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295280" y="4419720"/>
          <a:ext cx="6248520" cy="57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4419720"/>
                    <a:ext cx="624852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219320" y="4952880"/>
          <a:ext cx="228600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4952880"/>
                    <a:ext cx="22860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066680" y="5638680"/>
          <a:ext cx="3353040" cy="50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66680" y="5638680"/>
                    <a:ext cx="335304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2061360" y="6094800"/>
            <a:ext cx="107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 =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s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=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in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ier Slice Theore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905120" y="2209680"/>
            <a:ext cx="4647600" cy="3276720"/>
            <a:chOff x="1905120" y="2209680"/>
            <a:chExt cx="4647600" cy="3276720"/>
          </a:xfrm>
        </p:grpSpPr>
        <p:sp>
          <p:nvSpPr>
            <p:cNvPr id="225" name=""/>
            <p:cNvSpPr/>
            <p:nvPr/>
          </p:nvSpPr>
          <p:spPr>
            <a:xfrm>
              <a:off x="2438280" y="4028760"/>
              <a:ext cx="372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4381200" y="2457360"/>
              <a:ext cx="0" cy="302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3914640" y="2818800"/>
              <a:ext cx="923760" cy="24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3457440" y="3124080"/>
              <a:ext cx="1809720" cy="18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3152880" y="3600360"/>
              <a:ext cx="2438280" cy="88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28960" y="2885760"/>
              <a:ext cx="108576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400200" y="3180960"/>
              <a:ext cx="193356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43160" y="3657600"/>
              <a:ext cx="24858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62480" y="3867120"/>
              <a:ext cx="3902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ang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67080" y="2209680"/>
              <a:ext cx="3902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ang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05120" y="3171600"/>
              <a:ext cx="6188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angal"/>
                </a:rPr>
                <a:t>F(u,v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29000" y="3647880"/>
              <a:ext cx="50472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86200" y="3485880"/>
              <a:ext cx="50472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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771800" y="3533760"/>
              <a:ext cx="50472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933640" y="2857320"/>
              <a:ext cx="6285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Mangal"/>
                </a:rPr>
                <a:t>S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Arial"/>
                  <a:ea typeface="Mangal"/>
                </a:rPr>
                <a:t>k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Mangal"/>
                </a:rPr>
                <a:t>(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Mang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86240" y="2867040"/>
              <a:ext cx="6285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Mangal"/>
                </a:rPr>
                <a:t>S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Arial"/>
                  <a:ea typeface="Mangal"/>
                </a:rPr>
                <a:t>2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Mangal"/>
                </a:rPr>
                <a:t>(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Mang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10240" y="3381120"/>
              <a:ext cx="6285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Mangal"/>
                </a:rPr>
                <a:t>S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Arial"/>
                  <a:ea typeface="Mangal"/>
                </a:rPr>
                <a:t>1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Mangal"/>
                </a:rPr>
                <a:t>(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Mang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67280" y="3758400"/>
              <a:ext cx="542880" cy="276120"/>
            </a:xfrm>
            <a:custGeom>
              <a:avLst/>
              <a:gdLst/>
              <a:ahLst/>
              <a:rect l="l" t="t" r="r" b="b"/>
              <a:pathLst>
                <a:path w="855" h="435">
                  <a:moveTo>
                    <a:pt x="855" y="435"/>
                  </a:moveTo>
                  <a:cubicBezTo>
                    <a:pt x="792" y="326"/>
                    <a:pt x="730" y="217"/>
                    <a:pt x="660" y="150"/>
                  </a:cubicBezTo>
                  <a:cubicBezTo>
                    <a:pt x="590" y="83"/>
                    <a:pt x="545" y="55"/>
                    <a:pt x="435" y="30"/>
                  </a:cubicBezTo>
                  <a:cubicBezTo>
                    <a:pt x="325" y="5"/>
                    <a:pt x="162" y="2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743360" y="3653640"/>
              <a:ext cx="199800" cy="371520"/>
            </a:xfrm>
            <a:custGeom>
              <a:avLst/>
              <a:gdLst/>
              <a:ahLst/>
              <a:rect l="l" t="t" r="r" b="b"/>
              <a:pathLst>
                <a:path w="315" h="585">
                  <a:moveTo>
                    <a:pt x="315" y="585"/>
                  </a:moveTo>
                  <a:cubicBezTo>
                    <a:pt x="296" y="491"/>
                    <a:pt x="277" y="397"/>
                    <a:pt x="225" y="300"/>
                  </a:cubicBezTo>
                  <a:cubicBezTo>
                    <a:pt x="173" y="203"/>
                    <a:pt x="86" y="101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09920" y="3729960"/>
              <a:ext cx="77400" cy="295200"/>
            </a:xfrm>
            <a:custGeom>
              <a:avLst/>
              <a:gdLst/>
              <a:ahLst/>
              <a:rect l="l" t="t" r="r" b="b"/>
              <a:pathLst>
                <a:path w="122" h="465">
                  <a:moveTo>
                    <a:pt x="105" y="465"/>
                  </a:moveTo>
                  <a:cubicBezTo>
                    <a:pt x="113" y="391"/>
                    <a:pt x="122" y="317"/>
                    <a:pt x="105" y="240"/>
                  </a:cubicBezTo>
                  <a:cubicBezTo>
                    <a:pt x="88" y="163"/>
                    <a:pt x="44" y="81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21:15:02Z</dcterms:created>
  <dc:creator>HSS</dc:creator>
  <dc:description/>
  <dc:language>en-US</dc:language>
  <cp:lastModifiedBy>HSS</cp:lastModifiedBy>
  <dcterms:modified xsi:type="dcterms:W3CDTF">2010-11-10T17:16:29Z</dcterms:modified>
  <cp:revision>6</cp:revision>
  <dc:subject/>
  <dc:title>Image Reconstruction</dc:title>
</cp:coreProperties>
</file>