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B78-C116-47C4-9AC7-7035ADBE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40-8F5D-4F77-A118-16FD803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B08-44F0-4843-A4A6-BDD3026D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01C-593A-4EEB-980F-895D2E45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983-2616-40FE-A67E-2D8FCC7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E1D-A3F9-4412-A75E-B04B947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785-3369-4EA9-AEC8-91DD3206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D85-0D82-46A1-AC6E-A187796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C58-DA25-4C49-B367-E824BE61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4A4-1C14-4735-88AB-487AC80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502-FE97-4F3B-A590-E11356F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C67-F35F-411E-94A3-384D180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5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3520" y="6248160"/>
            <a:ext cx="57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Oriented Program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1A2-2F48-444F-A456-6897C465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ava.sun.com/docs/books/tutorial/javabeans/customization/index.html#customizer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3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P with JavaBean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220-A38C-4072-A537-6B7DFB804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ing Bound Property Suppor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mport the java.beans pack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(accessing to the PropertyChangeSupport clas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tantiate a PropertyChangeSupport obj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private PropertyChangeSupport changes = new PropertyChangeSupport(this);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mplement methods to maintain the property change listener li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public void addPropertyChangeListener( PropertyChangeListener l) { changes.addPropertyChangeListener(l); }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public void removePropertyChangeListener( PropertyChangeListener l) { changes.removePropertyChangeListener(l); }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ify a property's setter method to fire a property change event when the property is chang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OurButton's setLabel method looks like thi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public void setLabel(String newLabel) { String oldLabel = label; label = newLabel; sizeToFit(); changes.firePropertyChange("label", oldLabel, newLabel); }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Note that setLabel stores the old label value, because both the old and new labels must be passed to firePropertyChange.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public void firePropertyChange(String propertyName, Object oldValue, Object newValue) </a:t>
            </a:r>
            <a:endParaRPr b="0" lang="en-US" sz="1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324-FD3E-4257-98A0-D3F011DBE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ained Propert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ean property is constrained when any change to that property can be veto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: 3 pa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sourc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bean containing one or more constrained properties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Listener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objects that implement the VetoableChangeListener interface. A listener object accepts or rejects proposed changes to a constrained property in the source bean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PropertyChangeEvent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object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taining the property name and its old and new values.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xample: JellyBean and Voter</a:t>
            </a:r>
            <a:endParaRPr b="0" lang="en-US" sz="2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4AB-3496-457B-B5E3-685B5DADF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xed Propert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ed properties represent collections of values accessed, like an array, b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o access the entire indexed property arr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&lt;PropertyType&gt;[] get&lt;PropertyName&gt;()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set&lt;PropertyName&gt;(&lt;PropertyType&gt;[] value)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o access individual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&lt;PropertyType&gt; get&lt;PropertyName&gt;(int index)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set&lt;PropertyName&gt;(int index, &lt;PropertyType&gt; value)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17D-552F-46F2-96E3-6C55DB220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overing Ev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ntro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add&lt;EventListenerType&gt;(&lt;EventListenerType&gt; a)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remove&lt;EventListenerType&gt;(&lt;EventListenerType&gt; a)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BeanInf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ple: ExplicitButtonBeanInfo.jav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e: this example works in JDK1.3 but not in JDK1.4!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556-6B68-444B-9490-52F4F90CE7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ewing Ev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ean (e.g. OurButton) and then pull down the Edit &gt; Event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king up events in the BeanBox (e.g. Juggler an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event adapter classes (\beanbox\tmp\sunw\beanbox\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Monitor demo bean prints out source bean event reports at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33A-C1A1-4E66-85D7-16644A8A30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spector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spection – the capability of a builder tool to discover information about a 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ng a bean’s features (P, E, M, but in BDK, you see only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JDK core reflection API and design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we (designers) explicitly expose a bean’s fe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1F4-91BC-40E2-827A-4E5BD4D2B7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eanInfo Clas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parate, associated class that implements the BeanInfo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anInfo class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ose only those features you want to expose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y on BeanInfo to expose some Bean features while relying on low-level reflection to expose others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ociate an icon with the target bean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pecify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ustomiz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lass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gregate features into normal and expert categories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 a more descriptive display name, or additional information about a bean feature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145-BFFD-4668-ACD7-F9BA6703C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ature Descrip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eatureDescriptor is the base class for the other descriptor classes. It declares the aspects common to all descriptor typ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anDescriptor describes the target Bean's class type and name, and describes the target Bean's customizer class if it exis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yDescriptor describes the target bean's properti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exedPropertyDescriptor is a subclass of PropertyDescriptor, and describes the target Bean's indexed properti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SetDescriptor describes the events the target Bean fir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dDescriptor describes the target Bean's metho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ameterDescriptor describes method parameter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EDE-71E0-4359-A0BE-4BBADF13B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Steps to Creating a BeanInfo Clas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your BeanInfo class a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n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Bean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the appropriate methods to return the properties, methods, or events that you want expo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ly associate an icon with the target b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target bean class, and, if the bean has a customizer, specify it a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9A0-B141-4949-84F2-42DAE2A4A5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stom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propert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bean property has its own property edi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stom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ustomizers are used when property editors are not practical or applicable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editors are associated with individual properties, while a customizer is associated with a b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91A-1AF5-4036-A1AE-B65DA6DB2B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jor Top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JavaBean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component infrastructure of Java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the component model of Java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connection model of Java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ng the deployment model of Java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key features and techniques of component oriented programming with JavaB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5CF-060D-4650-823D-46ED5FF39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perty Edi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association via a BeanInfo object. E.g., Molecule demo bean: Within the MoleculeBeanInfo class, the Molecule bean's property editor is set with the following line of code: pd.setPropertyEditorClass(MoleculeNameEditor.clas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egistration via java.Beans.PropertyEditorManager.registerEditor. This method takes a pair of arguments: The class type, and the editor to be associated with that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earch. If a class has no explicitly associated property editor, then the PropertyEditorManager searchs for that class's property editor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ng "Editor" to the fully qualified class name. For example, for the java.beans.ComplexNumber class, the property editor manager would search for the java.beans.ComplexNumberEditor cl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ng "Editor" to the class name and searching a class search path. The default class path for the BeanBox is sun.beans.edi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149-2978-401D-A316-97A6895909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stomiz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complete control over how to configure or edit a 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java.awt.Component or one of its sub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java.beans.Customizer interface This means implementing methods to register PropertyChangeListener objects, and firing property change events at those listeners when a change to the target Bean has occur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default constru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the customizer with its target class via BeanInfo.getBeanDescrip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Bean that has an associated Customizer is dropped into the BeanBox, you will notice a "Customize..." item on the Edit m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567-66DE-4BBC-89D6-EAD800FA7B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siste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beans must pers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an persists by having its properties, fields, and state information saved and restored to and from stor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chanism that makes persistence possibl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bean instance is serialized, it is converted into a data stream and written to storage. Any applet, application, or tool that uses that bean can then "reconstitute" i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erializ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D54-7E95-47CF-ABC6-3FC60D230B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ializable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ializable interface provides automatic serialization by using the Java Object Serialization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that implement Serializable must hav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-argument constr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constructor will be called when an object is "reconstituted" from a .ser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't need to implement Serializable in your class if it is already implemented in a superclass (but you do need to make sure works correctly and as you expect with default serializ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elds but static and transient are serialized. Use the transient modifier to specify fields you do not want serialized, and to specify classes that are not serializ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302-87A9-4268-8178-7C25C0BB08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view of Bean Build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an Builder is a tool which allows the visual assembly of an application by instantiating and setting the properties of components based on the JavaBeans component archite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ynamic behavior of the application is specified by "wiring" relationships that represent events handlers and method calls between the objects in an appl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is application is saved to and restored from an XML file. An application is constructed using the Java API without having to write a line of source c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A37-71B0-419B-8D90-2F33522A54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32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BF7-2433-4402-9D29-E426A5E372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2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258-D73C-4A1C-A581-3197244C4C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-360"/>
            <a:ext cx="42670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encoding="UTF-8" ?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&lt;java version="1.3.0" class="java.beans.XMLDecoder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 &lt;object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x.swing.JPa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void method="add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&lt;object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x.swing.JButt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void property="label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&lt;string&gt;Clear&lt;/string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void property="model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&lt;void property="actionCommand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&lt;string /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void method="addActionListener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&lt;object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.beans.EventHandl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 method="create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&lt;class&gt;java.awt.event.ActionListener&lt;/class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&lt;object id="JTextArea0"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x.swing.JText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 &lt;void property="border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 &lt;object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x.swing.border.LineBor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 &lt;object class="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java.awt.Col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 &lt;int&gt;0&lt;/int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 &lt;int&gt;0&lt;/int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 &lt;int&gt;0&lt;/int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   &lt;int&gt;255&lt;/int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 &lt;/object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   &lt;int&gt;1&lt;/int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   &lt;/object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&lt;/objec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string&gt;setText&lt;/string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   &lt;string&gt;source.actionCommand&lt;/string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&lt;/object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&lt;/object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void method="add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&lt;object idref="JTextArea0" /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void property="layout"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&lt;null /&gt; 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 &lt;/void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 &lt;/object&gt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&lt;/java&gt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24600" y="2819520"/>
            <a:ext cx="3638520" cy="3276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0FC-4D9C-4D44-B82A-63894B6D30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n Builder extends the capabilities of the original BeanBox by demonstrating new techniques for persistence, layout editing and dynamic event adapter gen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Java Bean was designed for the construction of graphical user interface (GUI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930-4F46-4C07-9DD9-6542D3272D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Bean is a component model for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n has four kinds of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, bound, constrained, and index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K is a visual design tool provided by Sun Micr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5 steps to build a Java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can be discovered by introspection or BeanInfo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6AA-0895-4357-8EC7-D01079F713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avaB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Beans defines a software component model for Java, so that third party ISVs can create and ship Java components that can be composed together into applications” [Sun 1997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vaBean is a reusable software component that can be manipulated visually in a builder tool” [Sun 1997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A8-5D76-469E-8077-C436DB8E3D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spection – the capability of a builder tool to discover information about a 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anInfo class can expose only those features you want to ex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5 steps to creating a BeanInfo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tion can be done by property editors or custom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ce is done by se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n Builder provides more capability for component com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nent architecture of Java beans could be described using the similar diagrams used in device beans and C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6A4-A906-48E6-9524-704024E8F3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 Steps to Create a JavaBean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ckage statement as the first line of your sourc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 for persis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your packaged classes using the -d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anifest file to describe the contents of a JAR 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AAC-73C4-47F8-953E-8072FC812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 Steps to Create a JavaBean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JAR file for your bean using the jar ut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iles were archived correc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your Java bean wrapped in a JAR 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bean into the Bean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3E9-0202-4554-AA3B-F8E09D51F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Kinds of Propert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mple properties describing a bean’s appearance and behavior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their values change, provide event notification to other objec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alue changes can be okayed or vetoed by other objec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e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-value propert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A2A-2A32-4C44-AD36-4F7197BCB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Propert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are aspects of a Bean's appearance and behavior that are changeable at desig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are private values accessed throu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getter and setter method names follow specific rules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 patt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using these design pattern-based method names, JavaBeans-enabled builder tools (and the BeanBox)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scover a Bean's properties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ermine the properties' read/write attributes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ermine the properties' types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te an appropriate property editor for each property typ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splay the properties' (usually in a property sheet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ter those properties (at design time)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22F-DA12-44E6-8454-30151319A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dding a Color Property to SimpleBea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itialize a private instanc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ivate Color color = Color.green;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Color getColor(){ return color; }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setColor(Color newColor){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 = newColor; repaint(); }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ride the paint() method inherited from Canv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void paint(Graphics g) {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.setColor(color); g.fillRect(20, 5, 20, 30); }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5DD-2569-4921-AEE2-0A7B5D1B9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und Properti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ever a bound property changes, notification of the change is sent to interested listen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ean containing a bound property must maintain a list of property change listeners and alert them when the bound property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venience class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PropertyChange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rst implements methods that add and remove </a:t>
            </a:r>
            <a:r>
              <a:rPr b="0" lang="en-US" sz="2600" spc="-1" strike="noStrike">
                <a:solidFill>
                  <a:srgbClr val="0000ff"/>
                </a:solidFill>
                <a:latin typeface="Courier New"/>
              </a:rPr>
              <a:t>PropertyChangeListen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bjects from a list and then fir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opertyChangeEv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bjects at those listeners when the bound property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DC3-5828-40D3-A87D-BD4681687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0:39:07Z</dcterms:created>
  <dc:creator>Andy Wang</dc:creator>
  <dc:description/>
  <dc:language>en-US</dc:language>
  <cp:lastModifiedBy>wang</cp:lastModifiedBy>
  <dcterms:modified xsi:type="dcterms:W3CDTF">2005-05-15T21:22:12Z</dcterms:modified>
  <cp:revision>137</cp:revision>
  <dc:subject/>
  <dc:title>Component Oriented Programming</dc:title>
</cp:coreProperties>
</file>