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092A4-1C15-4B74-AE60-A29E6F09E9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5"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461AF2B-2C0C-47B2-B15F-B33AE52BE5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DB3520F9-3C85-4A12-AB19-2353777899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3"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D0D8A5C5-6543-49FA-851D-1E519C820C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5AD8F0-7CB0-4BA3-97D1-5D77BF0250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8"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47A13B-E929-47F8-9BAB-5A39ACECAE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3F4E65-C944-4DB4-AFDC-1B2D12AC82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F61CAC0D-4A67-4D41-89F1-262DDD3BCB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8B679082-C9F3-4D95-BF43-5BFD640AAC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7775824-58BD-4101-9488-2198CF325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7"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F5AE281C-BF92-47C9-8F15-BC6E29A6F5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4"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3783572-BF32-4DC0-8D4B-AB780EC07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A599C16C-A657-4F80-8823-1E656EE6B7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7E537F19-A46C-4600-9211-60321F3A39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886D7FED-42A5-4E95-8AA0-3F60F2B7BB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2"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66781513-5B13-4DB0-88A6-955C7395DB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7"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8181013D-25EF-4553-AB4F-15F4518CD3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62E8F90-6547-4300-9799-0FB5878DFD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5250E15-21E3-4830-AEB5-8DBEE53AD2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B5890CB1-FFF7-432A-904E-75D03C6D4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CE717C8-877C-4758-A60C-26E940C151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3"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10D64BEE-D9E7-482C-8FD4-FB045858B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7"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22E5720-3850-417F-A381-C2995B925F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728C80F-E144-4860-9C93-FCDF59493F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87A0-5204-449A-9E83-C7DA1DAB168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0"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1" name=""/>
          <p:cNvGrpSpPr/>
          <p:nvPr/>
        </p:nvGrpSpPr>
        <p:grpSpPr>
          <a:xfrm>
            <a:off x="7086240" y="76320"/>
            <a:ext cx="305280" cy="685800"/>
            <a:chOff x="7086240" y="76320"/>
            <a:chExt cx="305280" cy="685800"/>
          </a:xfrm>
        </p:grpSpPr>
        <p:sp>
          <p:nvSpPr>
            <p:cNvPr id="42"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4"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B0B6-9D79-4B42-BE34-744947B02CE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6" name="PlaceHolder 2"/>
          <p:cNvSpPr>
            <a:spLocks noGrp="1"/>
          </p:cNvSpPr>
          <p:nvPr>
            <p:ph type="title"/>
          </p:nvPr>
        </p:nvSpPr>
        <p:spPr>
          <a:xfrm>
            <a:off x="7086240" y="838080"/>
            <a:ext cx="2057400" cy="5486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w3.org/2001/XMLSchema" TargetMode="External"/><Relationship Id="rId2" Type="http://schemas.openxmlformats.org/officeDocument/2006/relationships/hyperlink" Target="http://books.org/" TargetMode="External"/><Relationship Id="rId3" Type="http://schemas.openxmlformats.org/officeDocument/2006/relationships/hyperlink" Target="http://books.org/"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E:/TEMP/.org/soap/envelope/%22%20xmlns:xsd=%22http:/ww" TargetMode="External"/><Relationship Id="rId2" Type="http://schemas.openxmlformats.org/officeDocument/2006/relationships/hyperlink" Target="file:///E:/TEMP/.org/soap/envelope/%22%20xmlns:xsd=%22http:/ww" TargetMode="External"/><Relationship Id="rId3" Type="http://schemas.openxmlformats.org/officeDocument/2006/relationships/hyperlink" Target="file:///E:/TEMP/.org/soap/envelope/%22%20xmlns:xsd=%22http:/ww" TargetMode="External"/><Relationship Id="rId4" Type="http://schemas.openxmlformats.org/officeDocument/2006/relationships/hyperlink" Target="file:///E:/TEMP/.org/soap/envelope/%22%20xmlns:xsd=%22http:/ww"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localhost:8080/axis/Convert.jws?wsdl" TargetMode="External"/><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localhost:8080/axis/services/Convert" TargetMode="Externa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hyperlink" Target="http://localhost:8080/soap/admin/index.html" TargetMode="External"/><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hyperlink" Target="http://localhost:8080/axis/services/AdminServi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90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vantGarde"/>
              </a:rPr>
              <a:t>Chapter 8 </a:t>
            </a:r>
            <a:br>
              <a:rPr sz="4000"/>
            </a:br>
            <a:r>
              <a:rPr b="1" lang="en-US" sz="4000" spc="-1" strike="noStrike">
                <a:solidFill>
                  <a:srgbClr val="ff3300"/>
                </a:solidFill>
                <a:latin typeface="AvantGarde"/>
              </a:rPr>
              <a:t>Web Services Components</a:t>
            </a:r>
            <a:endParaRPr b="1" lang="en-US" sz="4000" spc="-1" strike="noStrike">
              <a:solidFill>
                <a:srgbClr val="ff3300"/>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 (cont.)</a:t>
            </a:r>
            <a:endParaRPr b="1" lang="en-US" sz="2800" spc="-1" strike="noStrike">
              <a:solidFill>
                <a:srgbClr val="ff3300"/>
              </a:solidFill>
              <a:latin typeface="AvantGarde"/>
            </a:endParaRPr>
          </a:p>
        </p:txBody>
      </p:sp>
      <p:sp>
        <p:nvSpPr>
          <p:cNvPr id="10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XML document shows two student records. Each record consists of  student name and his/her </a:t>
            </a:r>
            <a:r>
              <a:rPr b="1" lang="en-US" sz="2400" spc="-1" strike="noStrike">
                <a:solidFill>
                  <a:srgbClr val="000000"/>
                </a:solidFill>
                <a:latin typeface="Times New Roman"/>
              </a:rPr>
              <a:t>grade point average </a:t>
            </a:r>
            <a:r>
              <a:rPr b="0" lang="en-US" sz="2400" spc="-1" strike="noStrike">
                <a:solidFill>
                  <a:srgbClr val="000000"/>
                </a:solidFill>
                <a:latin typeface="Times New Roman"/>
              </a:rPr>
              <a:t>(</a:t>
            </a:r>
            <a:r>
              <a:rPr b="1" lang="en-US" sz="2400" spc="-1" strike="noStrike">
                <a:solidFill>
                  <a:srgbClr val="000000"/>
                </a:solidFill>
                <a:latin typeface="Times New Roman"/>
              </a:rPr>
              <a:t>gpa).</a:t>
            </a:r>
            <a:r>
              <a:rPr b="0" lang="en-US" sz="2400" spc="-1" strike="noStrike">
                <a:solidFill>
                  <a:srgbClr val="000000"/>
                </a:solidFill>
                <a:latin typeface="Times New Roman"/>
              </a:rPr>
              <a:t> The tag  students is a top level root element which has a number of sub-elements called studen</a:t>
            </a:r>
            <a:r>
              <a:rPr b="0" i="1" lang="en-US" sz="2400" spc="-1" strike="noStrike">
                <a:solidFill>
                  <a:srgbClr val="000000"/>
                </a:solidFill>
                <a:latin typeface="Times New Roman"/>
              </a:rPr>
              <a:t>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udent element consists of two sub-elements called name and gpa.  The identifier id in student tag is an attribute of element stud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g “?” is a Processing Instruction (PI) to inform XML parser that this XML document must conform XML v. 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ery XML document must have its metadata just like a data record in a data table of any database must satisfy the definition of the table which is called </a:t>
            </a:r>
            <a:r>
              <a:rPr b="0" i="1" lang="en-US" sz="2400" spc="-1" strike="noStrike">
                <a:solidFill>
                  <a:srgbClr val="000000"/>
                </a:solidFill>
                <a:latin typeface="Times New Roman"/>
              </a:rPr>
              <a:t>schema</a:t>
            </a:r>
            <a:r>
              <a:rPr b="0" lang="en-US" sz="2400" spc="-1" strike="noStrike">
                <a:solidFill>
                  <a:srgbClr val="000000"/>
                </a:solidFill>
                <a:latin typeface="Times New Roman"/>
              </a:rPr>
              <a:t> in databa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 (cont.)</a:t>
            </a:r>
            <a:endParaRPr b="1" lang="en-US" sz="2800" spc="-1" strike="noStrike">
              <a:solidFill>
                <a:srgbClr val="ff3300"/>
              </a:solidFill>
              <a:latin typeface="AvantGarde"/>
            </a:endParaRPr>
          </a:p>
        </p:txBody>
      </p:sp>
      <p:sp>
        <p:nvSpPr>
          <p:cNvPr id="10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may be many different formats of  XML schema such as internal DTD within XML file,  a separate external DTD, or a schem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DTD itself does not use XML syntax and is not very flexible.  Schema is getting more and more popular now and is replacing DTD because schema itself is in XML form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XML Schema Document (XSD) is a metadata of a XML document. XSD specifies the syntax, structure, and constraints in a corresponding XML including datatype or complex datatype of elements, attributes of elemen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 (cont.)</a:t>
            </a:r>
            <a:endParaRPr b="1" lang="en-US" sz="2800" spc="-1" strike="noStrike">
              <a:solidFill>
                <a:srgbClr val="ff3300"/>
              </a:solidFill>
              <a:latin typeface="AvantGarde"/>
            </a:endParaRPr>
          </a:p>
        </p:txBody>
      </p:sp>
      <p:sp>
        <p:nvSpPr>
          <p:cNvPr id="10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Schema describes the structure of above students XML document.  A complex type can be specified by a complexType tag as follow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element name = “stud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complexType&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element name = “name” type = xsd: string”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element name = “gpa” type = “xsd: float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complexType&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element&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 (cont.)</a:t>
            </a:r>
            <a:endParaRPr b="1" lang="en-US" sz="2800" spc="-1" strike="noStrike">
              <a:solidFill>
                <a:srgbClr val="ff3300"/>
              </a:solidFill>
              <a:latin typeface="AvantGarde"/>
            </a:endParaRPr>
          </a:p>
        </p:txBody>
      </p:sp>
      <p:sp>
        <p:nvSpPr>
          <p:cNvPr id="10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s examine a complete XSD Schema sampl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ml version=”1.0” encoding=”UTF-8”?&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chema xmlns:xsd=</a:t>
            </a:r>
            <a:r>
              <a:rPr b="0" lang="en-US" sz="2000" spc="-1" strike="noStrike" u="sng">
                <a:solidFill>
                  <a:srgbClr val="0000ff"/>
                </a:solidFill>
                <a:uFillTx/>
                <a:latin typeface="Times New Roman"/>
                <a:hlinkClick r:id="rId1"/>
              </a:rPr>
              <a:t>http://www.w3.org/2001/XMLSchem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rgetNamespace=</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www.mybooks.org</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http://www.mybooks.org”&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xsd:element name = “student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xsd:element ref=”stud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inOccurs=”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xOccurs=”unbounded”/&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xsd:element&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 (cont.)</a:t>
            </a:r>
            <a:endParaRPr b="1" lang="en-US" sz="2800" spc="-1" strike="noStrike">
              <a:solidFill>
                <a:srgbClr val="ff3300"/>
              </a:solidFill>
              <a:latin typeface="AvantGarde"/>
            </a:endParaRPr>
          </a:p>
        </p:txBody>
      </p:sp>
      <p:sp>
        <p:nvSpPr>
          <p:cNvPr id="10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elememt name=”studen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complexTyp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sequenc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element ref=”nam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element ref=“gpa”/&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sequenc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complexTyp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elemen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element name=”name” type=”xsd:string”/&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xsd:element name=”gpa” type=”xsd:float”/&g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schema&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 (cont.)</a:t>
            </a:r>
            <a:endParaRPr b="1" lang="en-US" sz="2800" spc="-1" strike="noStrike">
              <a:solidFill>
                <a:srgbClr val="ff3300"/>
              </a:solidFill>
              <a:latin typeface="AvantGarde"/>
            </a:endParaRPr>
          </a:p>
        </p:txBody>
      </p:sp>
      <p:sp>
        <p:nvSpPr>
          <p:cNvPr id="11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quence tag in XSD Schema specifies the order and the occurrence of sub-elements in their parent element. In this example name</a:t>
            </a:r>
            <a:r>
              <a:rPr b="0" i="1" lang="en-US" sz="2400" spc="-1" strike="noStrike">
                <a:solidFill>
                  <a:srgbClr val="000000"/>
                </a:solidFill>
                <a:latin typeface="Times New Roman"/>
              </a:rPr>
              <a:t> </a:t>
            </a:r>
            <a:r>
              <a:rPr b="0" lang="en-US" sz="2400" spc="-1" strike="noStrike">
                <a:solidFill>
                  <a:srgbClr val="000000"/>
                </a:solidFill>
                <a:latin typeface="Times New Roman"/>
              </a:rPr>
              <a:t>and gpa elements are the sub-elements of the student element which in turn is an element of the students ele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there may be many students in a students set. The XMLNS plays a same role as package in Java and namespace in C++ to prevent naming collis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lement name can be qualified with a namespace prefix with a colon symbol “</a:t>
            </a:r>
            <a:r>
              <a:rPr b="1" lang="en-US" sz="2400" spc="-1" strike="noStrike">
                <a:solidFill>
                  <a:srgbClr val="000000"/>
                </a:solidFill>
                <a:latin typeface="Times New Roman"/>
              </a:rPr>
              <a:t>:</a:t>
            </a:r>
            <a:r>
              <a:rPr b="0" lang="en-US" sz="2400" spc="-1" strike="noStrike">
                <a:solidFill>
                  <a:srgbClr val="000000"/>
                </a:solidFill>
                <a:latin typeface="Times New Roman"/>
              </a:rPr>
              <a:t>”. The idea of combining a namespace URI with a local name is to make any identifier name in XML  universally uni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The Simple Object Access Protocol (SOAP) Basics</a:t>
            </a:r>
            <a:br>
              <a:rPr sz="2400"/>
            </a:br>
            <a:endParaRPr b="1" lang="en-US" sz="2400" spc="-1" strike="noStrike">
              <a:solidFill>
                <a:srgbClr val="ff3300"/>
              </a:solidFill>
              <a:latin typeface="AvantGarde"/>
            </a:endParaRPr>
          </a:p>
        </p:txBody>
      </p:sp>
      <p:sp>
        <p:nvSpPr>
          <p:cNvPr id="11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AP is an XML based message exchange protocol specified by the W3C specif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AP is also a lightweight protocol working in a distributed heterogeneous environment.  Some people simply say that SOAP = HTTP + XML since SOAP message is an XML-document but it conforms to a specific XML Schem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AP is used to specify the format of a request and response in the Web service computing to get and send message via HTTP port by HTTP POST meth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The Simple Object Access Protocol (SOAP) Basics (cont.)</a:t>
            </a:r>
            <a:br>
              <a:rPr sz="2000"/>
            </a:br>
            <a:endParaRPr b="1" lang="en-US" sz="2000" spc="-1" strike="noStrike">
              <a:solidFill>
                <a:srgbClr val="ff3300"/>
              </a:solidFill>
              <a:latin typeface="AvantGarde"/>
            </a:endParaRPr>
          </a:p>
        </p:txBody>
      </p:sp>
      <p:sp>
        <p:nvSpPr>
          <p:cNvPr id="11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SOAP message has a required envelope and a message body. A SOAP envelope identifies an XML document as a SOAP messag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AP envelope element must have one sub-element which is the Body element.  A Body element of a SOAP message can be data itself, a name of method be invoked, arguments of the method be invoked, a SOAP request message, or return results from a SOAP response messag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AP envelope may also have a header sub element but it is optional. A header element just gives more metadata about the messag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The Simple Object Access Protocol (SOAP) Basics (cont.)</a:t>
            </a:r>
            <a:br>
              <a:rPr sz="2000"/>
            </a:br>
            <a:endParaRPr b="1" lang="en-US" sz="2000" spc="-1" strike="noStrike">
              <a:solidFill>
                <a:srgbClr val="ff3300"/>
              </a:solidFill>
              <a:latin typeface="AvantGarde"/>
            </a:endParaRPr>
          </a:p>
        </p:txBody>
      </p:sp>
      <p:sp>
        <p:nvSpPr>
          <p:cNvPr id="11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ample of a SOAP request message which asks a Web service to convert a temperature zero Celsius degree to Fahrenheit degree. The name of the invoked method is “toFahrenhei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ml version="1.0" encoding="UTF-8"?&g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SOAP-ENV:Envelope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P-ENV:encodingStyl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chemas.xmlsoap.org/soap/encoding/"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ns:SOAP-ENV="http://schemas.xmlsoa</a:t>
            </a:r>
            <a:r>
              <a:rPr b="0" lang="en-US" sz="2400" spc="-1" strike="noStrike" u="sng">
                <a:solidFill>
                  <a:srgbClr val="0000ff"/>
                </a:solidFill>
                <a:uFillTx/>
                <a:latin typeface="Times New Roman"/>
                <a:hlinkClick r:id="rId1"/>
              </a:rPr>
              <a:t>.org</a:t>
            </a:r>
            <a:r>
              <a:rPr b="0" lang="en-US" sz="2400" spc="-1" strike="noStrike" u="sng">
                <a:solidFill>
                  <a:srgbClr val="0000ff"/>
                </a:solidFill>
                <a:uFillTx/>
                <a:latin typeface="Times New Roman"/>
                <a:hlinkClick r:id="rId2"/>
              </a:rPr>
              <a:t>/soap/envelope/" </a:t>
            </a:r>
            <a:r>
              <a:rPr b="0" lang="en-US" sz="2400" spc="-1" strike="noStrike" u="sng">
                <a:solidFill>
                  <a:srgbClr val="0000ff"/>
                </a:solidFill>
                <a:uFillTx/>
                <a:latin typeface="Times New Roman"/>
                <a:hlinkClick r:id="rId3"/>
              </a:rPr>
              <a:t>xmlns:xsd</a:t>
            </a:r>
            <a:r>
              <a:rPr b="0" lang="en-US" sz="2400" spc="-1" strike="noStrike" u="sng">
                <a:solidFill>
                  <a:srgbClr val="0000ff"/>
                </a:solidFill>
                <a:uFillTx/>
                <a:latin typeface="Times New Roman"/>
                <a:hlinkClick r:id="rId4"/>
              </a:rPr>
              <a:t>="http://ww</a:t>
            </a:r>
            <a:r>
              <a:rPr b="0" lang="en-US" sz="2400" spc="-1" strike="noStrike">
                <a:solidFill>
                  <a:srgbClr val="000000"/>
                </a:solidFill>
                <a:latin typeface="Times New Roman"/>
              </a:rPr>
              <a:t>w.w3.org/2001/XMLSchema" xmlns:xsi="http://www.w3.org/2001/XMLSchema-instance" xmlns:SOAP-ENC="http://schemas.xmlsoap.org/soap/encoding/"&g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The Simple Object Access Protocol (SOAP) Basics (cont.)</a:t>
            </a:r>
            <a:br>
              <a:rPr sz="2000"/>
            </a:br>
            <a:endParaRPr b="1" lang="en-US" sz="2000" spc="-1" strike="noStrike">
              <a:solidFill>
                <a:srgbClr val="ff3300"/>
              </a:solidFill>
              <a:latin typeface="AvantGarde"/>
            </a:endParaRPr>
          </a:p>
        </p:txBody>
      </p:sp>
      <p:sp>
        <p:nvSpPr>
          <p:cNvPr id="11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SOAP-ENV:Body&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toFahrenhei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celsius xsi:type="xsd:string"&gt;0&lt;/celsius&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toFahrenhei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SOAP-ENV:Body&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SOAP-ENV:Envelope&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the Body element of this SOAP request a XSD string type data “0” is passed in as an argument to the remote method (operation) toFahrenheit of this Web servic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vantGarde"/>
              </a:rPr>
              <a:t>Objectives of</a:t>
            </a:r>
            <a:r>
              <a:rPr b="1" lang="en-US" sz="2400" spc="-1" strike="noStrike">
                <a:solidFill>
                  <a:srgbClr val="ff3300"/>
                </a:solidFill>
                <a:latin typeface="AvantGarde"/>
              </a:rPr>
              <a:t> Chapter 8  Web  Service Components</a:t>
            </a:r>
            <a:br>
              <a:rPr sz="2400"/>
            </a:br>
            <a:endParaRPr b="1" lang="en-US" sz="2400" spc="-1" strike="noStrike">
              <a:solidFill>
                <a:srgbClr val="ff3300"/>
              </a:solidFill>
              <a:latin typeface="AvantGarde"/>
            </a:endParaRPr>
          </a:p>
        </p:txBody>
      </p:sp>
      <p:sp>
        <p:nvSpPr>
          <p:cNvPr id="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the Web service framewor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concepts of  Web  service compon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compositions of  Web  service compon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ypes of Web service components and their deploym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interoperability of Web services compon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synchronous and asynchronous Web services invo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step by step tutorials on building, deploying, and using Web service compon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vantGarde"/>
              </a:rPr>
              <a:t>The Simple Object Access Protocol (SOAP) Basics (cont.)</a:t>
            </a:r>
            <a:br>
              <a:rPr sz="2000"/>
            </a:br>
            <a:endParaRPr b="1" lang="en-US" sz="2000" spc="-1" strike="noStrike">
              <a:solidFill>
                <a:srgbClr val="ff3300"/>
              </a:solidFill>
              <a:latin typeface="AvantGarde"/>
            </a:endParaRPr>
          </a:p>
        </p:txBody>
      </p:sp>
      <p:sp>
        <p:nvSpPr>
          <p:cNvPr id="12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SOAP message is a SOAP response message of the converted temperature of 32 Fahrenheit degre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 encoding="UTF-8"?&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OAP-ENV:Envelop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ns:SOAP-ENV="http://schemas.xmlsoap.org/soap/envelope/" xmlns:xsd="http://www.w3.org/2001/XMLSchema" xmlns:xsi="http://www.w3.org/2001/XMLSchema-instance"&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SOAP-ENV:Body&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toFahrenheitRespons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AP-ENV:encodingStyl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chemas.xmlsoap.org/soap/encoding/"&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toFahrenheitResult xsi:typ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sd:string"&gt;32&lt;/toFahrenheitResult&g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toFahrenheitResponse&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OAP-ENV:Body&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OAP-ENV:Envelope&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Web Service Architecture</a:t>
            </a:r>
            <a:r>
              <a:rPr b="1" lang="en-US" sz="2800" spc="-1" strike="noStrike">
                <a:solidFill>
                  <a:srgbClr val="ff3300"/>
                </a:solidFill>
                <a:latin typeface="AvantGarde"/>
              </a:rPr>
              <a:t>	</a:t>
            </a:r>
            <a:br>
              <a:rPr sz="2800"/>
            </a:br>
            <a:endParaRPr b="1" lang="en-US" sz="2800" spc="-1" strike="noStrike">
              <a:solidFill>
                <a:srgbClr val="ff3300"/>
              </a:solidFill>
              <a:latin typeface="AvantGarde"/>
            </a:endParaRPr>
          </a:p>
        </p:txBody>
      </p:sp>
      <p:sp>
        <p:nvSpPr>
          <p:cNvPr id="123" name="PlaceHolder 2"/>
          <p:cNvSpPr>
            <a:spLocks noGrp="1"/>
          </p:cNvSpPr>
          <p:nvPr>
            <p:ph/>
          </p:nvPr>
        </p:nvSpPr>
        <p:spPr>
          <a:xfrm>
            <a:off x="685800" y="1219320"/>
            <a:ext cx="7772400" cy="1218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hree impotent components in Web service architecture. The Web  service requester (simplified client) on the left, the Web  service provider on the right, and the Web  service registry on the top.</a:t>
            </a:r>
            <a:endParaRPr b="0" lang="en-US" sz="2000" spc="-1" strike="noStrike">
              <a:solidFill>
                <a:srgbClr val="000000"/>
              </a:solidFill>
              <a:latin typeface="Times New Roman"/>
            </a:endParaRPr>
          </a:p>
        </p:txBody>
      </p:sp>
      <p:graphicFrame>
        <p:nvGraphicFramePr>
          <p:cNvPr id="124" name=""/>
          <p:cNvGraphicFramePr/>
          <p:nvPr/>
        </p:nvGraphicFramePr>
        <p:xfrm>
          <a:off x="1905120" y="2362320"/>
          <a:ext cx="5379840" cy="4173480"/>
        </p:xfrm>
        <a:graphic>
          <a:graphicData uri="http://schemas.openxmlformats.org/presentationml/2006/ole">
            <p:oleObj r:id="rId1" spid="">
              <p:embed/>
              <p:pic>
                <p:nvPicPr>
                  <p:cNvPr id="125" name="" descr=""/>
                  <p:cNvPicPr/>
                  <p:nvPr/>
                </p:nvPicPr>
                <p:blipFill>
                  <a:blip r:embed="rId2"/>
                  <a:stretch/>
                </p:blipFill>
                <p:spPr>
                  <a:xfrm>
                    <a:off x="1905120" y="2362320"/>
                    <a:ext cx="5379840" cy="41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Web Service Architecture (cont.)</a:t>
            </a:r>
            <a:r>
              <a:rPr b="1" lang="en-US" sz="2800" spc="-1" strike="noStrike">
                <a:solidFill>
                  <a:srgbClr val="ff3300"/>
                </a:solidFill>
                <a:latin typeface="AvantGarde"/>
              </a:rPr>
              <a:t>	</a:t>
            </a:r>
            <a:br>
              <a:rPr sz="2800"/>
            </a:br>
            <a:endParaRPr b="1" lang="en-US" sz="2800" spc="-1" strike="noStrike">
              <a:solidFill>
                <a:srgbClr val="ff3300"/>
              </a:solidFill>
              <a:latin typeface="AvantGarde"/>
            </a:endParaRPr>
          </a:p>
        </p:txBody>
      </p:sp>
      <p:sp>
        <p:nvSpPr>
          <p:cNvPr id="12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b service provider must publish/register its services with a Universal Description, Discovery, and Integration (UDDI) registry so that it can be accessed by any Web services requester globall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just looks like a phonebook where all businesses register their phones there for customers to lookup services. A customer must lookup the phonebook either on-line or by phonebook unless a customer knows the phone number befor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b service can also be reached without any assistance from UDDI if the Web  service client knows the contact information such as Web  service’s URL, name of method, argument signature of  the method including types of return val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Web Service Architecture (cont.)</a:t>
            </a:r>
            <a:r>
              <a:rPr b="1" lang="en-US" sz="2800" spc="-1" strike="noStrike">
                <a:solidFill>
                  <a:srgbClr val="ff3300"/>
                </a:solidFill>
                <a:latin typeface="AvantGarde"/>
              </a:rPr>
              <a:t>	</a:t>
            </a:r>
            <a:br>
              <a:rPr sz="2800"/>
            </a:br>
            <a:endParaRPr b="1" lang="en-US" sz="2800" spc="-1" strike="noStrike">
              <a:solidFill>
                <a:srgbClr val="ff3300"/>
              </a:solidFill>
              <a:latin typeface="AvantGarde"/>
            </a:endParaRPr>
          </a:p>
        </p:txBody>
      </p:sp>
      <p:sp>
        <p:nvSpPr>
          <p:cNvPr id="12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eb service provider can register their Web services at these UDDI registries and Web  service requester can lookup a specific Web  service by its provider name (business name), category info, Web  service name, or even by the keys of them if requester know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eb service provider actually registers a WSDL (web Service Description Language) interface at UDDI registry which is a contract interface of the Web service to be used by its cli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UDDI query requests and UDDI query results are in the  SOAP format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a:t>
            </a:r>
            <a:endParaRPr b="1" lang="en-US" sz="2800" spc="-1" strike="noStrike">
              <a:solidFill>
                <a:srgbClr val="ff3300"/>
              </a:solidFill>
              <a:latin typeface="AvantGarde"/>
            </a:endParaRPr>
          </a:p>
        </p:txBody>
      </p:sp>
      <p:sp>
        <p:nvSpPr>
          <p:cNvPr id="13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eb  service WSDL interface is a XML file describing what functionality this Web  service provides, where this Web  service resides, and how to access Web  service and invoke the remote method provided by this Web  servi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SDL shows an abstract view or interface definition that can be implemented by many concrete Web  service implementations in different platforms, and different languag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divide a WSDL Web  service definition into two parts: Web  service reusable interface specification and Web  service implementation. There may be four elements in first pa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3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types</a:t>
            </a:r>
            <a:r>
              <a:rPr b="0" lang="en-US" sz="2400" spc="-1" strike="noStrike">
                <a:solidFill>
                  <a:srgbClr val="000000"/>
                </a:solidFill>
                <a:latin typeface="Times New Roman"/>
              </a:rPr>
              <a:t> elements for complex data type and user defined type; </a:t>
            </a:r>
            <a:r>
              <a:rPr b="1" lang="en-US" sz="2400" spc="-1" strike="noStrike">
                <a:solidFill>
                  <a:srgbClr val="000000"/>
                </a:solidFill>
                <a:latin typeface="Times New Roman"/>
              </a:rPr>
              <a:t>message</a:t>
            </a:r>
            <a:r>
              <a:rPr b="0" lang="en-US" sz="2400" spc="-1" strike="noStrike">
                <a:solidFill>
                  <a:srgbClr val="000000"/>
                </a:solidFill>
                <a:latin typeface="Times New Roman"/>
              </a:rPr>
              <a:t> elements for message description which is used in portType element;  </a:t>
            </a:r>
            <a:r>
              <a:rPr b="1" lang="en-US" sz="2400" spc="-1" strike="noStrike">
                <a:solidFill>
                  <a:srgbClr val="000000"/>
                </a:solidFill>
                <a:latin typeface="Times New Roman"/>
              </a:rPr>
              <a:t>portType</a:t>
            </a:r>
            <a:r>
              <a:rPr b="0" lang="en-US" sz="2400" spc="-1" strike="noStrike">
                <a:solidFill>
                  <a:srgbClr val="000000"/>
                </a:solidFill>
                <a:latin typeface="Times New Roman"/>
              </a:rPr>
              <a:t> element  describing an abstract set of  reusable exposed operations by one or many Web  service endpoints(port);  </a:t>
            </a:r>
            <a:r>
              <a:rPr b="1" lang="en-US" sz="2400" spc="-1" strike="noStrike">
                <a:solidFill>
                  <a:srgbClr val="000000"/>
                </a:solidFill>
                <a:latin typeface="Times New Roman"/>
              </a:rPr>
              <a:t>binding</a:t>
            </a:r>
            <a:r>
              <a:rPr b="0" lang="en-US" sz="2400" spc="-1" strike="noStrike">
                <a:solidFill>
                  <a:srgbClr val="000000"/>
                </a:solidFill>
                <a:latin typeface="Times New Roman"/>
              </a:rPr>
              <a:t> element for message format specification and concrete protocol binding specification such as SOAP, HTTP, MIM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major elements in WSDL implementation part: Port element which is a single Web service endpoint defined based on a binding defined in binding element and an URL access location; Service element which is a parent element of port element and a collection of related Web service endpoints or ports. WSDL XML document basically defines Web services as a collection of endpoints or por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3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ructure of a WSDL looks like the following templa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definition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types  …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message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portType …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binding …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service …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port … &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service&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definition&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3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list is a WSDL definition part of Convert.wsdl which gives a clear description of a Web service definition. A WSDL definition element has a number of sub elements such as, message element, portType element, binding  element, port element, and service elemen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wsdl:definitions . .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message name="toFahrenheitRespons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art name="return" type="SOAP-ENC:string"/&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messag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message name="toFahrenheitReques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art name="in0" type="SOAP-ENC:string"/&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messag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ortType name="Conver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3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wsdl:operation name="toFahrenheit" parameterOrder="in0"&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input message="intf:toFahrenheitRequest"/&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utput message="intf:toFahrenheitResponse"/&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peration&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ortType&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binding name="ConvertSoapBinding" type="intf:Convert"&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oap:binding style="rpc"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port="http://schemas.xmlsoap.org/soap/http"/&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peration name="toFahrenheit"&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oap:operation soapAction=""/&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inpu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wsdlsoap:bod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odingStyle="http://schemas.xmlsoap.org/soap/encoding/"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space="urn:myDirectory" use="encoded"/&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input&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utput&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oap:bod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odingStyle="http://schemas.xmlsoap.org/soap/encoding/"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space="urn:myDirectory" use="encoded"/&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utpu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Overview of the Web Services Framework</a:t>
            </a:r>
            <a:endParaRPr b="1" lang="en-US" sz="2800" spc="-1" strike="noStrike">
              <a:solidFill>
                <a:srgbClr val="ff3300"/>
              </a:solidFill>
              <a:latin typeface="AvantGarde"/>
            </a:endParaRPr>
          </a:p>
        </p:txBody>
      </p:sp>
      <p:sp>
        <p:nvSpPr>
          <p:cNvPr id="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 is a new paradigm to deliver application services on Web and enables a programmable Web  not just an interactive Web .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 is the third generation in the Web evolution after static HTML and interactive Web development such as PERL, ASP, JSP, and oth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b services are  typical black box reusable building block components in the distributed comput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wsdl:operation&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binding&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ervice name="ConvertServic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ort binding="intf:ConvertSoapBinding" name="Conver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oap:addres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tion="http://localhost:8080/axis/services/Conver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or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ervic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wsdl:definitions&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4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 of the Web service   “ConvertService” is specified in a service element which is listed at the end of above WSDL fi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rt element of the service element  specifies  an  URL  address of the Web  service and access point of this Web  service for a unique binding.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nding “ConvertSoapBinding” is defined in a binding element which is referenced in binding attribute of port sub-element of service element in WSDL definition element.  There may be multiple ports in one Web  serv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essage elements at beginning of definition el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describes the argument type of Web service’s remote method and the other is the return type of the same metho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 sub-element specifies the name and data type of the message exchang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rtType element describes an operation provided by the Web  servi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operation is a method which a client must know about the input parameters and return data typ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messages defined for Web service request and response are specified in the operation el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on element  describes  that the name of the method in Web  service is toFahrenhei</a:t>
            </a:r>
            <a:r>
              <a:rPr b="0" i="1" lang="en-US" sz="2800" spc="-1" strike="noStrike">
                <a:solidFill>
                  <a:srgbClr val="000000"/>
                </a:solidFill>
                <a:latin typeface="Times New Roman"/>
              </a:rPr>
              <a:t>t</a:t>
            </a:r>
            <a:r>
              <a:rPr b="0" lang="en-US" sz="2800" spc="-1" strike="noStrike">
                <a:solidFill>
                  <a:srgbClr val="000000"/>
                </a:solidFill>
                <a:latin typeface="Times New Roman"/>
              </a:rPr>
              <a:t>.  A portType is a collection of oper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SDL (cont.)</a:t>
            </a:r>
            <a:endParaRPr b="1" lang="en-US" sz="2800" spc="-1" strike="noStrike">
              <a:solidFill>
                <a:srgbClr val="ff3300"/>
              </a:solidFill>
              <a:latin typeface="AvantGarde"/>
            </a:endParaRPr>
          </a:p>
        </p:txBody>
      </p:sp>
      <p:sp>
        <p:nvSpPr>
          <p:cNvPr id="15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nding elements inside definition element specify how a client and Web service should exchange message each oth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nding sub-element of the binding element specifies SOAP as the protocol  and input request and output response must be in a SOAP format. It also tells that this is a request/response  two ways operation by the attribute style “rp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ther style option may be “document”. There are four type operations in term of patterns of inputs and outputs: input only, output only, input/output, output/input. These will be discussed in detail in the Web service connection s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UDDI</a:t>
            </a:r>
            <a:endParaRPr b="1" lang="en-US" sz="2800" spc="-1" strike="noStrike">
              <a:solidFill>
                <a:srgbClr val="ff3300"/>
              </a:solidFill>
              <a:latin typeface="AvantGarde"/>
            </a:endParaRPr>
          </a:p>
        </p:txBody>
      </p:sp>
      <p:sp>
        <p:nvSpPr>
          <p:cNvPr id="15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DDI is a technical specification for building a distributed directory for business and Web  services which enables business companies to publish and find Web  servic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publish a Web  service globally and how to discover a desired Web  service to reuse it as part of new Web  service or as part of client application is a challenge for Web  service to be widely u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client of a Web  service knows in advance about the location of the Web  service and the way to invoke the operations provided by the Web  service there will not be a need of Web  service regist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UDDI (cont.)</a:t>
            </a:r>
            <a:endParaRPr b="1" lang="en-US" sz="2800" spc="-1" strike="noStrike">
              <a:solidFill>
                <a:srgbClr val="ff3300"/>
              </a:solidFill>
              <a:latin typeface="AvantGarde"/>
            </a:endParaRPr>
          </a:p>
        </p:txBody>
      </p:sp>
      <p:sp>
        <p:nvSpPr>
          <p:cNvPr id="1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DDI acts like a naming service in the distributed computing, or phone directory for phone service, or Google search engine for Internet ser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DDI consists of an XML schema that defines UDDI's four core data structures - business, service, binding and tModel programmatic interface and a set of APIs that provide publishing and inquiry operations on those structur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UDDI (cont.)</a:t>
            </a:r>
            <a:endParaRPr b="1" lang="en-US" sz="2800" spc="-1" strike="noStrike">
              <a:solidFill>
                <a:srgbClr val="ff3300"/>
              </a:solidFill>
              <a:latin typeface="AvantGarde"/>
            </a:endParaRPr>
          </a:p>
        </p:txBody>
      </p:sp>
      <p:sp>
        <p:nvSpPr>
          <p:cNvPr id="1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eb  service requester searches the service registry and finds the desired service description. Through the information the requester finds in the registry, the requester connects to the Web  service provider and invokes the servi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DDI is a group of specifications that lets Web  service providers publish information about their Web  services and lets Web  service requesters search that information to find a Web  service and run 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UDDI (cont.)</a:t>
            </a:r>
            <a:endParaRPr b="1" lang="en-US" sz="2800" spc="-1" strike="noStrike">
              <a:solidFill>
                <a:srgbClr val="ff3300"/>
              </a:solidFill>
              <a:latin typeface="AvantGarde"/>
            </a:endParaRPr>
          </a:p>
        </p:txBody>
      </p:sp>
      <p:sp>
        <p:nvSpPr>
          <p:cNvPr id="15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eb  service listing is created using WSDL and then sent to a UDDI registry which is mapped to a UDDI XML format docum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ing is comprised of three elements. At the highest level there are </a:t>
            </a:r>
            <a:r>
              <a:rPr b="0" i="1" lang="en-US" sz="2800" spc="-1" strike="noStrike">
                <a:solidFill>
                  <a:srgbClr val="000000"/>
                </a:solidFill>
                <a:latin typeface="Times New Roman"/>
              </a:rPr>
              <a:t>White</a:t>
            </a:r>
            <a:r>
              <a:rPr b="0" lang="en-US" sz="2800" spc="-1" strike="noStrike">
                <a:solidFill>
                  <a:srgbClr val="000000"/>
                </a:solidFill>
                <a:latin typeface="Times New Roman"/>
              </a:rPr>
              <a:t> Pages, which contain basic information about the business including business name, descriptions, contact info (name, address, phone, fax, Web site, … ), business identifier that a business may be known b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are </a:t>
            </a:r>
            <a:r>
              <a:rPr b="0" i="1" lang="en-US" sz="2800" spc="-1" strike="noStrike">
                <a:solidFill>
                  <a:srgbClr val="000000"/>
                </a:solidFill>
                <a:latin typeface="Times New Roman"/>
              </a:rPr>
              <a:t>Yellow</a:t>
            </a:r>
            <a:r>
              <a:rPr b="0" lang="en-US" sz="2800" spc="-1" strike="noStrike">
                <a:solidFill>
                  <a:srgbClr val="000000"/>
                </a:solidFill>
                <a:latin typeface="Times New Roman"/>
              </a:rPr>
              <a:t> Pages, which organize services by industry codes, service type/business categories in product/services or geographical location taxonom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UDDI (cont.)</a:t>
            </a:r>
            <a:endParaRPr b="1" lang="en-US" sz="2800" spc="-1" strike="noStrike">
              <a:solidFill>
                <a:srgbClr val="ff3300"/>
              </a:solidFill>
              <a:latin typeface="AvantGarde"/>
            </a:endParaRPr>
          </a:p>
        </p:txBody>
      </p:sp>
      <p:sp>
        <p:nvSpPr>
          <p:cNvPr id="16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ly there are </a:t>
            </a:r>
            <a:r>
              <a:rPr b="0" i="1" lang="en-US" sz="2800" spc="-1" strike="noStrike">
                <a:solidFill>
                  <a:srgbClr val="000000"/>
                </a:solidFill>
                <a:latin typeface="Times New Roman"/>
              </a:rPr>
              <a:t>Green </a:t>
            </a:r>
            <a:r>
              <a:rPr b="0" lang="en-US" sz="2800" spc="-1" strike="noStrike">
                <a:solidFill>
                  <a:srgbClr val="000000"/>
                </a:solidFill>
                <a:latin typeface="Times New Roman"/>
              </a:rPr>
              <a:t>Pages, which specify how to bind to a service provider. It includes the technical information (such as interfaces and URL locations) about how to find and execute a Web servi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plication requesting a service will use WSDL to programmatically interact with the Green Pages section of that service's list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ting in short, UDDI is organized in a three level nested structure model with business information, service information, and biding informatio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Overview of the Web Services Framework (cont.)</a:t>
            </a:r>
            <a:endParaRPr b="1" lang="en-US" sz="2400" spc="-1" strike="noStrike">
              <a:solidFill>
                <a:srgbClr val="ff3300"/>
              </a:solidFill>
              <a:latin typeface="AvantGarde"/>
            </a:endParaRPr>
          </a:p>
        </p:txBody>
      </p:sp>
      <p:sp>
        <p:nvSpPr>
          <p:cNvPr id="8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 works on a protocol stack consisting of SOAP/XML/HTTP/TCP/IP, which makes Web  services so widely acceptable as long as clients of Web  services have supports from these protoco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b service revolutionizes the distributed computing and signals a new era of lightweight distributed application development in the advantage of loosely coupled features of  Web  service compon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very easy to deploy, publish, discover, and invoke a Web service on Interne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UDDI (cont.)</a:t>
            </a:r>
            <a:endParaRPr b="1" lang="en-US" sz="2800" spc="-1" strike="noStrike">
              <a:solidFill>
                <a:srgbClr val="ff3300"/>
              </a:solidFill>
              <a:latin typeface="AvantGarde"/>
            </a:endParaRPr>
          </a:p>
        </p:txBody>
      </p:sp>
      <p:graphicFrame>
        <p:nvGraphicFramePr>
          <p:cNvPr id="163" name=""/>
          <p:cNvGraphicFramePr/>
          <p:nvPr/>
        </p:nvGraphicFramePr>
        <p:xfrm>
          <a:off x="1676520" y="838080"/>
          <a:ext cx="5694120" cy="5639040"/>
        </p:xfrm>
        <a:graphic>
          <a:graphicData uri="http://schemas.openxmlformats.org/presentationml/2006/ole">
            <p:oleObj r:id="rId1" spid="">
              <p:embed/>
              <p:pic>
                <p:nvPicPr>
                  <p:cNvPr id="164" name="" descr=""/>
                  <p:cNvPicPr/>
                  <p:nvPr/>
                </p:nvPicPr>
                <p:blipFill>
                  <a:blip r:embed="rId2"/>
                  <a:stretch/>
                </p:blipFill>
                <p:spPr>
                  <a:xfrm>
                    <a:off x="1676520" y="838080"/>
                    <a:ext cx="569412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a:t>
            </a:r>
            <a:endParaRPr b="1" lang="en-US" sz="2800" spc="-1" strike="noStrike">
              <a:solidFill>
                <a:srgbClr val="ff3300"/>
              </a:solidFill>
              <a:latin typeface="AvantGarde"/>
            </a:endParaRPr>
          </a:p>
        </p:txBody>
      </p:sp>
      <p:sp>
        <p:nvSpPr>
          <p:cNvPr id="1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face and implementation of Web  service component</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b  service is a typical software component available on-line. There is also a Web service interface just like other components but Web service interface is specified in a WSDL XML format file instead of  an IDL file in CORBA.  We can have a single wsdl interface specification including all necessary information for a Web  service client to access 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75960"/>
            <a:ext cx="8077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Service.wsd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definition  …&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types  … &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message …&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portType … &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binding … &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service …  &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port … &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service&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definition&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four elements constitute a reusable Web service interface definition. The type element describes the XSD type and user defined types which may be used in message elemen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ssage element describes the request and response message specifications used in a portType element. The portType element specifies a collection of operations (methods) exposed by Web service. PortType plays a very similar role of class</a:t>
            </a:r>
            <a:r>
              <a:rPr b="1" lang="en-US" sz="2400" spc="-1" strike="noStrike">
                <a:solidFill>
                  <a:srgbClr val="000000"/>
                </a:solidFill>
                <a:latin typeface="Times New Roman"/>
              </a:rPr>
              <a:t> </a:t>
            </a:r>
            <a:r>
              <a:rPr b="0" lang="en-US" sz="2400" spc="-1" strike="noStrike">
                <a:solidFill>
                  <a:srgbClr val="000000"/>
                </a:solidFill>
                <a:latin typeface="Times New Roman"/>
              </a:rPr>
              <a:t>in Jav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nding element binds and maps operations defined in portType element to a transport protocol. The service element plays a role of implementation of above Web service definition by specifying the binding defined and physical endpoint address of the Web service where it resi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have two or multiple WSDL specifications working together that one WSDL can import definitions from other WSDL.  For example we can separate myService.wsdl into two WSDL specifications, service implementation WSDL myServiceImpl.wsdl and service interface WSDL myServiceIntf.wsd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ice interface gives a reusable definition of a Web service and corresponds to a tModel in UDDI. The service implementation is an implementation of the servic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SDL XML specification can be generated from an implementation java source file or even from a java interface source file by Web service development tools. For example java2wsdl utility command line can be used to generated or by making an internet URL request a [web service nam].jws?wsdl to get and save it in a fi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document myServiceIntf.wsd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definition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types  …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message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ortType …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binding …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definition&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mplementation document myServiceImpl.wsd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definition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import namespace= … location=”…/myServiceIntf.wsdl&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service …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t;port … &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ervic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definition&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75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7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ServeImpl.wsdl  the import element  has a location attribute which references to the service interface document , and a namespace attribute which matches the targetNamespace in the service interface docu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ice element specifies the actual location (URL) of Web service on the server, and port element is the endpoint of Web  service specifying the address for particular bi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7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SDL specification can be generated from an existing Web service implementation  such as a java source file or generated from a java interface fil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pular third generation Web service - Apache eXtensible Interaction System (AXI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design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esign and development starts up with a Java interface file or WSDL XML file to generate Web service skeleton and stub first without existing Web service implement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ext, develop implementation of Web service on server site and deploy the Web service on Web service server. Finally, develop Web service client based on the Web service stub generated in first step to access the Web service deployed.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we start off  a Web  service design  with a new WSDL, which is called “green field” design,  a Java interface will be generated from the WSDL and rest of development procedure will be sam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75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tom-Up desig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esign and development of the Web service starts off with an existing Web  service such as a Java source file first. Next, generate and deploy Web service with different deployment option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ally, develop the Web service client to get service from the deployed Web  service.</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Overview of the Web Services Framework (cont.)</a:t>
            </a:r>
            <a:endParaRPr b="1" lang="en-US" sz="2400" spc="-1" strike="noStrike">
              <a:solidFill>
                <a:srgbClr val="ff3300"/>
              </a:solidFill>
              <a:latin typeface="AvantGarde"/>
            </a:endParaRPr>
          </a:p>
        </p:txBody>
      </p:sp>
      <p:sp>
        <p:nvSpPr>
          <p:cNvPr id="9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s is a self-descriptive on-line distributed component which exposes its services and functionality via its interface on-line and can be published, located, and invoked programmatically over Internet. A key point of the importance of  Web services is its ability to support programmatic end point for any application to get services provided by any Web  services on 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graphicFrame>
        <p:nvGraphicFramePr>
          <p:cNvPr id="184" name=""/>
          <p:cNvGraphicFramePr/>
          <p:nvPr/>
        </p:nvGraphicFramePr>
        <p:xfrm>
          <a:off x="1066680" y="1523880"/>
          <a:ext cx="6705720" cy="4697640"/>
        </p:xfrm>
        <a:graphic>
          <a:graphicData uri="http://schemas.openxmlformats.org/presentationml/2006/ole">
            <p:oleObj r:id="rId1" spid="">
              <p:embed/>
              <p:pic>
                <p:nvPicPr>
                  <p:cNvPr id="185" name="" descr=""/>
                  <p:cNvPicPr/>
                  <p:nvPr/>
                </p:nvPicPr>
                <p:blipFill>
                  <a:blip r:embed="rId2"/>
                  <a:stretch/>
                </p:blipFill>
                <p:spPr>
                  <a:xfrm>
                    <a:off x="1066680" y="1523880"/>
                    <a:ext cx="670572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Web service development based on an existing Web  service source code</a:t>
            </a:r>
            <a:br>
              <a:rPr sz="2400"/>
            </a:br>
            <a:endParaRPr b="1" lang="en-US" sz="2400" spc="-1" strike="noStrike">
              <a:solidFill>
                <a:srgbClr val="ff3300"/>
              </a:solidFill>
              <a:latin typeface="AvantGarde"/>
            </a:endParaRPr>
          </a:p>
        </p:txBody>
      </p:sp>
      <p:sp>
        <p:nvSpPr>
          <p:cNvPr id="1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temperature conversion example to demonstrate how to develop a Web service in Bottom-Up mode. Drop-in simple detail deployment options.</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vert Web service has a single method called toFarenheit taking a Celsius temperature degree as an argument and converting it to a Fahrenheit degree.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demonstrates how easy it is to create a Web service, deploy a Web service be ready programmatically, and develop a Web service client to access this Web  ser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8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Get a Web service implementation Java source fi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jav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class Conver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Convert()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ring toFahrenheit(String pCentigrad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ouble pCen = Double.parseDouble(pCentigra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ouble fah = 32 + pCen*9/5;</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turn "" + fa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9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Deploy the Web service by an easy drop-in deploy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ploy this Web service, just copy and paste the Convert.java file into the Web apps directory under TOMCAT_HOME directory and change its extension from .Java to .jws. That is all. The Web service is ready to use. The Web service AXIS run time engine will compile it automatically for the client when client invokes this Web service.  But this type of deployment only works with an available Java source file but not for the bytecode Java class fi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time for us to check the WSDL definition generated AXIS Web service engine by typing </a:t>
            </a:r>
            <a:r>
              <a:rPr b="0" lang="en-US" sz="2400" spc="-1" strike="noStrike" u="sng">
                <a:solidFill>
                  <a:srgbClr val="0000ff"/>
                </a:solidFill>
                <a:uFillTx/>
                <a:latin typeface="Times New Roman"/>
                <a:hlinkClick r:id="rId1"/>
              </a:rPr>
              <a:t>http://localhost:8080/axis/Convert.jws?wsdl</a:t>
            </a:r>
            <a:r>
              <a:rPr b="0" lang="en-US" sz="2400" spc="-1" strike="noStrike">
                <a:solidFill>
                  <a:srgbClr val="000000"/>
                </a:solidFill>
                <a:latin typeface="Times New Roman"/>
              </a:rPr>
              <a:t> in the address block of an Internet Explorer. The WSDL definition is shown as foll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75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xml version="1.0" encoding="UTF-8"?&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wsdl:definitions targetNamespace="urn:myDirectory" xmlns="http://schemas.xmlsoap.org/wsdl/" xmlns:SOAP-ENC="http://schemas.xmlsoap.org/soap/encoding/" xmlns:impl="urn:myDirectory-impl" xmlns:intf="urn:myDirectory" xmlns:wsdl="http://schemas.xmlsoap.org/wsdl/" xmlns:wsdlsoap="http://schemas.xmlsoap.org/wsdl/soap/" xmlns:xsd="http://www.w3.org/2001/XMLSchema"&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759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wsdl:message name="toFahrenheitRespons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art name="return" type="SOAP-ENC:string"/&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messag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message name="toFahrenheitReques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art name="in0" type="SOAP-ENC:string"/&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messag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portType name="Conver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peration name="toFahrenheit" parameterOrder="in0"&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input message="intf:toFahrenheitReques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utput message="intf:toFahrenheitRespons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peration&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9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wsdl:portType&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binding name="ConvertSoapBinding" type="intf:Conver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oap:binding style="rpc"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port="http://schemas.xmlsoap.org/soap/http"/&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operation name="toFahrenhei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oap:operation soapAction=""/&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inpu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soap:body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odingStyle="http://schemas.xmlsoap.org/soap/encodin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space="urn:myDirectory" use="encoded"/&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wsdl:inpu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1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wsdl:output&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soap:bod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codingStyle="http://schemas.xmlsoap.org/soap/encod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amespace="urn:myDirectory" use="encoded"/&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output&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operation&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binding&g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service name="ConvertService"&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20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port binding="intf:ConvertSoapBinding" name="Conver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soap:addres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cation="http://localhost:8080/axis/services/Conver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port&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t;/wsdl:service&g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wsdl:definitions&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20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3. Develop a Java client for this Web  service compon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Client.jav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 myDirector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java.net.UR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org.apache.axis.client.Servi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org.apache.axis.client.C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org.apache.axis.encoding.XMLTyp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 javax.xml.rpc.ParameterM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Overview of the Web Services Framework (cont.)</a:t>
            </a:r>
            <a:endParaRPr b="1" lang="en-US" sz="2400" spc="-1" strike="noStrike">
              <a:solidFill>
                <a:srgbClr val="ff3300"/>
              </a:solidFill>
              <a:latin typeface="AvantGarde"/>
            </a:endParaRPr>
          </a:p>
        </p:txBody>
      </p:sp>
      <p:sp>
        <p:nvSpPr>
          <p:cNvPr id="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philosophy behind Web services is to shift distributed software development from programming to composition, from coding ground up to building new application from existing component either by purchasing or by reusing the existing compon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main goal of Web services is not only to provide services on Web  but also to provide a mechanism to share its services as a building block to be part of other Web  services or application programs via its programmatic Web  service end poi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20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ConvertClien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ConvertClien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atic void main (String arg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y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EndPoint URL for the convert Web  servi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endpointURL =  "http://localhost:8080/axis/Convert.jw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methodName = "toFahrenhei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rvice service = new Servi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reate Web  service object of Call available in client packag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f AP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ll call = (Call) service.createCal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3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20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the endPoint UR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l.setTargetEndpointAddress(new java.net.URL(endpointUR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t the methodname to invoke --- toFahrenhei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l.setOperationName(methodNam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three parameters: a user-defined name of the parameter, th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meter data type, and kind of parameter – input only, outpu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y, input/outpu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l.addParameter("celsius", XMLType.XSD_STR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meterMode.PARAM_MODE_I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t return type of the metho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ll.setReturnType(XMLType.XSD_STR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20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up the command line argument to be passed as inpu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ameter to the convert Web  servic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ing result = (String) call.invoke( new Object[] { args[0]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 out the resul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resul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ch (Exception 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err.println(e.toStr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21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4. Test the Web ser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ile the ConvertClient.java file into a class file and run the client class file with a command line argument of Celsius degree 15 and expected converted Fahrenheit degree is 59 as shown bel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pps&gt;java myDirectory.ConvertClient 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75960"/>
            <a:ext cx="7924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mponent Model of Web Service (cont.)</a:t>
            </a:r>
            <a:endParaRPr b="1" lang="en-US" sz="2800" spc="-1" strike="noStrike">
              <a:solidFill>
                <a:srgbClr val="ff3300"/>
              </a:solidFill>
              <a:latin typeface="AvantGarde"/>
            </a:endParaRPr>
          </a:p>
        </p:txBody>
      </p:sp>
      <p:sp>
        <p:nvSpPr>
          <p:cNvPr id="21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Java Web  service implementation and its client is also programmed in Java. We can also have a Web service implemented in Java and Client in .NET or Web service in .NET and client in Java. The interoperability examples will be shown in the section of practice labs.</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838080" y="1676520"/>
            <a:ext cx="7467840" cy="1555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a:t>
            </a:r>
            <a:br>
              <a:rPr sz="2800"/>
            </a:br>
            <a:endParaRPr b="1" lang="en-US" sz="2800" spc="-1" strike="noStrike">
              <a:solidFill>
                <a:srgbClr val="ff3300"/>
              </a:solidFill>
              <a:latin typeface="AvantGarde"/>
            </a:endParaRPr>
          </a:p>
        </p:txBody>
      </p:sp>
      <p:sp>
        <p:nvSpPr>
          <p:cNvPr id="21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 definition specifies a package and an interface with its method declaration without any detail implementation</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1: Provide a Java interface in  Convert.java</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 conver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interface Conver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String toFahrenheit(String pCentigrade);</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Create a WSDL interface from this Java interface by  Java2WSD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pps\myDirectory&gt;java org.apache.axis.wsdl.Java2WSDL –o convert.wsdl –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u="sng">
                <a:solidFill>
                  <a:srgbClr val="0000ff"/>
                </a:solidFill>
                <a:uFillTx/>
                <a:latin typeface="Times New Roman"/>
                <a:hlinkClick r:id="rId1"/>
              </a:rPr>
              <a:t>http://localhost:8080/axis/services/Convert</a:t>
            </a:r>
            <a:r>
              <a:rPr b="1" lang="en-US" sz="2400" spc="-1" strike="noStrike">
                <a:solidFill>
                  <a:srgbClr val="000000"/>
                </a:solidFill>
                <a:latin typeface="Times New Roman"/>
              </a:rPr>
              <a:t>” –n “urn:myDirectory” –p”convert” “urn:myDirectory” convert.Conve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  -o tells output for WSDL filename, -l specify Web  service location URL,  -n specify the target namespace,  and –p provides a mapping from Java package to namespace to ensure that all classes in specified package will be mapped to the namespace. The convert.wsdl is generated now which is shown in previous s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2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 Create Bindings using WSDL2Jav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pps\myDirectory&gt;java org.apache.axis.wsdl.WSDL2Java –o. –d session –s –Nurn:myDirectory convert convert.wsd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SDL2Java takes a number of options.  –o specify the output directory such as current working directory “.” in this example. –d specify the deployment scope such as request, session, and application.  –N specifies the mapping from namespace to package.  –s option will generate all server side skeleton and binding, and a WSDL XML file deploys .wsdd and undeploy.wsdd.  WSDL2Java  also generates client side stub prox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2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files generated by WSDL2Jav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WSDL2Java generate &lt;typename&gt;.java for each &lt;type&gt; definition in WSDL XML documen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WSDL2Java generate an interface java file &lt;portTypename&gt;.java for each &lt;portType&gt; in WSDL. The file Convert.java is generated  corresponding to the portType “Convert”. This file plays a role of a interface in Jav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the list of this fil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nvert.jav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is file was auto-generated from WSD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y the Apache Axis Wsdl2java emitte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2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 conve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interface Convert extends java.rmi.Remo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blic java.lang.String toFahrenheit(java.lang.String in0) throws java.rmi.RemoteExcep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vantGarde"/>
              </a:rPr>
              <a:t>Overview of the Web Services Framework (cont.)</a:t>
            </a:r>
            <a:endParaRPr b="1" lang="en-US" sz="2400" spc="-1" strike="noStrike">
              <a:solidFill>
                <a:srgbClr val="ff3300"/>
              </a:solidFill>
              <a:latin typeface="AvantGarde"/>
            </a:endParaRPr>
          </a:p>
        </p:txBody>
      </p:sp>
      <p:sp>
        <p:nvSpPr>
          <p:cNvPr id="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racteristics and features of the Web service technology a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ncreases the portability and interoperability of distributed comput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ncreases the reusability and scalability of distributed compone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reduces the complexity of component composition and deploy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reduces the cost and time-in-market for distributed component software developmen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ignificantly enhances the B2B and Electronic Data Interchange (ED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implifies the distributed system administr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very easy to wrap an existing proprietary application to be Web  service compatib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operates on an open standard protocol stack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third generation Internet solution for distributed computing.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2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SDL2Java  also generates a &lt;portName&gt;SOAPBindingStub.java for each &lt;binding&gt; in WSDL specification.  This file implements SDI and is used at client side as a stub. The following is the list of this stub template.  ConvertSoapbinding is the name of binding in WSD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2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WSDL2Java also generates a server side implementation skeleton java file corresponding to this ConvertSoapBinding binding specification in the WSDL.  For each &lt;service&gt; specification WSDL2Java also generates a &lt;service&gt;Service.java and &lt;service&gt;ServiceLocator.java fil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a:t>
            </a:r>
            <a:r>
              <a:rPr b="0" i="1" lang="en-US" sz="2800" spc="-1" strike="noStrike">
                <a:solidFill>
                  <a:srgbClr val="000000"/>
                </a:solidFill>
                <a:latin typeface="Times New Roman"/>
              </a:rPr>
              <a:t>ConvertService.java</a:t>
            </a:r>
            <a:r>
              <a:rPr b="0" lang="en-US" sz="2800" spc="-1" strike="noStrike">
                <a:solidFill>
                  <a:srgbClr val="000000"/>
                </a:solidFill>
                <a:latin typeface="Times New Roman"/>
              </a:rPr>
              <a:t> is generated  corresponding to the Conver</a:t>
            </a:r>
            <a:r>
              <a:rPr b="0" i="1" lang="en-US" sz="2800" spc="-1" strike="noStrike">
                <a:solidFill>
                  <a:srgbClr val="000000"/>
                </a:solidFill>
                <a:latin typeface="Times New Roman"/>
              </a:rPr>
              <a:t>t</a:t>
            </a:r>
            <a:r>
              <a:rPr b="0" lang="en-US" sz="2800" spc="-1" strike="noStrike">
                <a:solidFill>
                  <a:srgbClr val="000000"/>
                </a:solidFill>
                <a:latin typeface="Times New Roman"/>
              </a:rPr>
              <a:t> name in port element of service</a:t>
            </a:r>
            <a:r>
              <a:rPr b="0" i="1" lang="en-US" sz="2800" spc="-1" strike="noStrike">
                <a:solidFill>
                  <a:srgbClr val="000000"/>
                </a:solidFill>
                <a:latin typeface="Times New Roman"/>
              </a:rPr>
              <a:t> </a:t>
            </a:r>
            <a:r>
              <a:rPr b="0" lang="en-US" sz="2800" spc="-1" strike="noStrike">
                <a:solidFill>
                  <a:srgbClr val="000000"/>
                </a:solidFill>
                <a:latin typeface="Times New Roman"/>
              </a:rPr>
              <a:t>element. It is a Java interface declaring get method for each port defined in the serv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3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vertServiceLocator.java file is generated,  which implements above interface. It is used to locate an implementation of the service and creates and returns an instance of the stu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4.  Customize the skeleton template ConvertSoapBindingImpl.java generated in step 3 to fill in the implementation cod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onvertSoapBindingImpl.jav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is file was auto-generated from WSD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by the Apache Axis Wsdl2java emitt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34" name="PlaceHolder 2"/>
          <p:cNvSpPr>
            <a:spLocks noGrp="1"/>
          </p:cNvSpPr>
          <p:nvPr>
            <p:ph/>
          </p:nvPr>
        </p:nvSpPr>
        <p:spPr>
          <a:xfrm>
            <a:off x="685440" y="1218960"/>
            <a:ext cx="807732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 conve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class ConvertSoapBindingImpl implements convert.Conver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java.lang.String toFahrenheit(java.lang.String in0) throws java.rmi.RemoteExcep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ouble pCen = Double.parseDouble(in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double fah = 32 + pCen*9/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eturn "" + fa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3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5. Compile the Java files gener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pps\myDirectory&gt;javac convert/*.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6. Make a jar file to be deploy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pps\myDirectory&gt;jar cvf  conv.jar convert/*.cl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3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5. Compile the Java files gener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pps\myDirectory&gt;javac convert/*.ja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6. Make a jar file to be deploy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pps\myDirectory&gt;jar cvf  conv.jar convert/*.cla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7. Copy the jar file to a proper directory; set CLASSPATH to include that directo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pps\myDirectory&gt;copy conv.jar D:\apps\jakarta-tomcat-4.0.6\webapps\axis\WEB-INF\li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8. Deploy Web service with WSDD. The detail contents of WSDD and AdminClient</a:t>
            </a:r>
            <a:r>
              <a:rPr b="0" i="1" lang="en-US" sz="2400" spc="-1" strike="noStrike">
                <a:solidFill>
                  <a:srgbClr val="000000"/>
                </a:solidFill>
                <a:latin typeface="Times New Roman"/>
              </a:rPr>
              <a:t> </a:t>
            </a:r>
            <a:r>
              <a:rPr b="0" lang="en-US" sz="2400" spc="-1" strike="noStrike">
                <a:solidFill>
                  <a:srgbClr val="000000"/>
                </a:solidFill>
                <a:latin typeface="Times New Roman"/>
              </a:rPr>
              <a:t>utility are discussed in Web service deployment se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pps\myDirectory\convert&gt;java org.apache.axis.client.AdminClient deploy.wsd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development without </a:t>
            </a:r>
            <a:br>
              <a:rPr sz="2800"/>
            </a:br>
            <a:r>
              <a:rPr b="1" lang="en-US" sz="2800" spc="-1" strike="noStrike">
                <a:solidFill>
                  <a:srgbClr val="ff3300"/>
                </a:solidFill>
                <a:latin typeface="AvantGarde"/>
              </a:rPr>
              <a:t>prior application (cont.)</a:t>
            </a:r>
            <a:endParaRPr b="1" lang="en-US" sz="2800" spc="-1" strike="noStrike">
              <a:solidFill>
                <a:srgbClr val="ff3300"/>
              </a:solidFill>
              <a:latin typeface="AvantGarde"/>
            </a:endParaRPr>
          </a:p>
        </p:txBody>
      </p:sp>
      <p:sp>
        <p:nvSpPr>
          <p:cNvPr id="24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9. Develop a Web service client testing program ConvertTest.java, and compile and run it  for test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nvertTest.jav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 conver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ass ConvertTe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static void main(String args[]) throws Excep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vert.ConvertService service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w convert.ConvertServiceLocat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vert.Convert conve = service.getConver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ystem.out.println("The result is "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toFahrenheit(args[0]));</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pps\myDirectory&gt;javac convert/ConvertTest.jav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pps\myDirectory&gt;java convert.ConvertTest 1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Connection Model of Web  Service</a:t>
            </a:r>
            <a:br>
              <a:rPr sz="2800"/>
            </a:br>
            <a:endParaRPr b="1" lang="en-US" sz="2800" spc="-1" strike="noStrike">
              <a:solidFill>
                <a:srgbClr val="ff3300"/>
              </a:solidFill>
              <a:latin typeface="AvantGarde"/>
            </a:endParaRPr>
          </a:p>
        </p:txBody>
      </p:sp>
      <p:sp>
        <p:nvSpPr>
          <p:cNvPr id="24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s between Web Services</a:t>
            </a:r>
            <a:endParaRPr b="0" lang="en-US" sz="2800" spc="-1" strike="noStrike">
              <a:solidFill>
                <a:srgbClr val="000000"/>
              </a:solidFill>
              <a:latin typeface="Times New Roman"/>
            </a:endParaRPr>
          </a:p>
          <a:p>
            <a:pPr lvl="1" marL="876240" indent="-4190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ynchronous Interaction versus Asynchronous Interactions</a:t>
            </a:r>
            <a:endParaRPr b="0" lang="en-US" sz="22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Web service invocation is either synchronous or asynchronous. In synchronous interaction, a client sends a Web service request and halts its operation while waiting for a response.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service takes a tremendous computation time to complete an asynchronous interaction must be used instead. The synchronous interaction is default interaction in Web service operations. </a:t>
            </a:r>
            <a:endParaRPr b="0" lang="en-US" sz="2000" spc="-1" strike="noStrike">
              <a:solidFill>
                <a:srgbClr val="000000"/>
              </a:solidFill>
              <a:latin typeface="Times New Roman"/>
            </a:endParaRPr>
          </a:p>
          <a:p>
            <a:pPr lvl="2" marL="12952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other reason is in some cases there is no backward channel available for the response to come back synchronously such as e-mail response to a HTTP requ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sp>
        <p:nvSpPr>
          <p:cNvPr id="2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four portType of operations in WSDL interface definitions. They can be divided into two groups: Asynchronous message-based operations and synchronous RPC-based oper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message-based operation is a single message passing operation, which can be one-way incoming notification and one-way outgoing notification.  One-way message passing operation never expects any response right awa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a:t>
            </a:r>
            <a:br>
              <a:rPr sz="2800"/>
            </a:br>
            <a:endParaRPr b="1" lang="en-US" sz="2800" spc="-1" strike="noStrike">
              <a:solidFill>
                <a:srgbClr val="ff3300"/>
              </a:solidFill>
              <a:latin typeface="AvantGarde"/>
            </a:endParaRPr>
          </a:p>
        </p:txBody>
      </p:sp>
      <p:sp>
        <p:nvSpPr>
          <p:cNvPr id="9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le Markup Language (XML) is a super set of HTML. A user can define his /her own tags in XM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XML documents must conform their metadata such as Document Type Definition (DTD) or Schema which specifies  complex data types, elements and its attributes, and its sub-elements,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XML document can be used to represent and transfer structured data in the hierarchy of element tags. A XML documents with its schema or DTD can be recognized by any programs or software easily as long as XML  API is support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XML document is a universal format document type used for data exchange and data storage. XML is also widely used for deployment descriptors and configuration specif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sp>
        <p:nvSpPr>
          <p:cNvPr id="2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ssage may be a signal, a notification, or data to be processed by the target of the message.  The two-way request/response operation is a RPC-based operation with combination of incoming and outgoing messag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urce of the message sends out an outgoing SOAP message and expect to get an incoming response SOAP message right awa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out/in mode the target of message gets incoming message and responds an outgoing message in the out/in mode.  Obviously, they are synchronous oper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sp>
        <p:nvSpPr>
          <p:cNvPr id="2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sic Web service connection is established between two endpoints of Web services. The source webservice1 has an outgoing message port which connects a same type incoming message port of target webservice2.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separate unrelated one time channels (not permanent) between webservice1 and webservice2. The webservice2 provides an outgoing message port which connects to a same type incoming message port of webservic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graphicFrame>
        <p:nvGraphicFramePr>
          <p:cNvPr id="250" name=""/>
          <p:cNvGraphicFramePr/>
          <p:nvPr/>
        </p:nvGraphicFramePr>
        <p:xfrm>
          <a:off x="1066680" y="3657600"/>
          <a:ext cx="6096240" cy="1463760"/>
        </p:xfrm>
        <a:graphic>
          <a:graphicData uri="http://schemas.openxmlformats.org/presentationml/2006/ole">
            <p:oleObj r:id="rId1" spid="">
              <p:embed/>
              <p:pic>
                <p:nvPicPr>
                  <p:cNvPr id="251" name="" descr=""/>
                  <p:cNvPicPr/>
                  <p:nvPr/>
                </p:nvPicPr>
                <p:blipFill>
                  <a:blip r:embed="rId2"/>
                  <a:stretch/>
                </p:blipFill>
                <p:spPr>
                  <a:xfrm>
                    <a:off x="1066680" y="3657600"/>
                    <a:ext cx="6096240" cy="1463760"/>
                  </a:xfrm>
                  <a:prstGeom prst="rect">
                    <a:avLst/>
                  </a:prstGeom>
                  <a:ln w="0">
                    <a:noFill/>
                  </a:ln>
                </p:spPr>
              </p:pic>
            </p:oleObj>
          </a:graphicData>
        </a:graphic>
      </p:graphicFrame>
      <p:graphicFrame>
        <p:nvGraphicFramePr>
          <p:cNvPr id="252" name=""/>
          <p:cNvGraphicFramePr/>
          <p:nvPr/>
        </p:nvGraphicFramePr>
        <p:xfrm>
          <a:off x="1143000" y="1905120"/>
          <a:ext cx="5562720" cy="1184040"/>
        </p:xfrm>
        <a:graphic>
          <a:graphicData uri="http://schemas.openxmlformats.org/presentationml/2006/ole">
            <p:oleObj r:id="rId3" spid="">
              <p:embed/>
              <p:pic>
                <p:nvPicPr>
                  <p:cNvPr id="253" name="" descr=""/>
                  <p:cNvPicPr/>
                  <p:nvPr/>
                </p:nvPicPr>
                <p:blipFill>
                  <a:blip r:embed="rId4"/>
                  <a:stretch/>
                </p:blipFill>
                <p:spPr>
                  <a:xfrm>
                    <a:off x="1143000" y="1905120"/>
                    <a:ext cx="5562720" cy="118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sp>
        <p:nvSpPr>
          <p:cNvPr id="2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ebservice2 may process data according to the message got from webservice1 or process the message itself and then forward it to third Web servi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essage-based operation is typical asynchronous communication style that a client of such Web service does not need to wait any reply back from the Web service it requests and just simply continue its own control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sp>
        <p:nvSpPr>
          <p:cNvPr id="2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C-based request/response message exchange takes place between two endpoints of Web services where webservice1 has a out/in port and webservice2 has a in/out port so that webservice1 can send a SOAP request  to the in port of webservice2 and webservice2 responds a SOAP message via its out port to the in port of webservice1.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quence of incoming message before outgoing messages in the definition of portType in WSDL specifies an in/out portType operation which is a service provider oper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sp>
        <p:nvSpPr>
          <p:cNvPr id="25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quence of outgoing message before incoming messages in the definition of portType in WSDL specifies an out/in portType operation which is a service request operatio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C-based style service is a typical synchronous communication style service that a client must wait till the result of invoked method of Web service is receiv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ynchronous Interaction versus Asynchronous Interactions (cont.)</a:t>
            </a:r>
            <a:endParaRPr b="1" lang="en-US" sz="2800" spc="-1" strike="noStrike">
              <a:solidFill>
                <a:srgbClr val="ff3300"/>
              </a:solidFill>
              <a:latin typeface="AvantGarde"/>
            </a:endParaRPr>
          </a:p>
        </p:txBody>
      </p:sp>
      <p:graphicFrame>
        <p:nvGraphicFramePr>
          <p:cNvPr id="261" name=""/>
          <p:cNvGraphicFramePr/>
          <p:nvPr/>
        </p:nvGraphicFramePr>
        <p:xfrm>
          <a:off x="838080" y="2438280"/>
          <a:ext cx="7510680" cy="2603520"/>
        </p:xfrm>
        <a:graphic>
          <a:graphicData uri="http://schemas.openxmlformats.org/presentationml/2006/ole">
            <p:oleObj r:id="rId1" spid="">
              <p:embed/>
              <p:pic>
                <p:nvPicPr>
                  <p:cNvPr id="262" name="" descr=""/>
                  <p:cNvPicPr/>
                  <p:nvPr/>
                </p:nvPicPr>
                <p:blipFill>
                  <a:blip r:embed="rId2"/>
                  <a:stretch/>
                </p:blipFill>
                <p:spPr>
                  <a:xfrm>
                    <a:off x="838080" y="2438280"/>
                    <a:ext cx="7510680" cy="26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atic Invocation versus Dynamic Invocation</a:t>
            </a:r>
            <a:endParaRPr b="1" lang="en-US" sz="2800" spc="-1" strike="noStrike">
              <a:solidFill>
                <a:srgbClr val="ff3300"/>
              </a:solidFill>
              <a:latin typeface="AvantGarde"/>
            </a:endParaRPr>
          </a:p>
        </p:txBody>
      </p:sp>
      <p:sp>
        <p:nvSpPr>
          <p:cNvPr id="2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lvl="3" marL="1752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different ways for a Web service client to invoke a method provided by a Web service, static invocation and dynamic invocation.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tic invocation mode, the client generates a proxy stub during the development time or compilation time.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SDL of the Web service must be available at that time since this WSDL describes the signatures and all necessary information for the method invoc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atic Invocation versus </a:t>
            </a:r>
            <a:br>
              <a:rPr sz="2800"/>
            </a:br>
            <a:r>
              <a:rPr b="1" lang="en-US" sz="2800" spc="-1" strike="noStrike">
                <a:solidFill>
                  <a:srgbClr val="ff3300"/>
                </a:solidFill>
                <a:latin typeface="AvantGarde"/>
              </a:rPr>
              <a:t>Dynamic Invocation (cont.)</a:t>
            </a:r>
            <a:endParaRPr b="1" lang="en-US" sz="2800" spc="-1" strike="noStrike">
              <a:solidFill>
                <a:srgbClr val="ff3300"/>
              </a:solidFill>
              <a:latin typeface="AvantGarde"/>
            </a:endParaRPr>
          </a:p>
        </p:txBody>
      </p:sp>
      <p:sp>
        <p:nvSpPr>
          <p:cNvPr id="2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ent will invoke the remote method provided by the Web service via invocation of the method in prox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ent does not need to parse the WSDL when the method is invoked.  So the method invocation is very effici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wnside of it is that the WSDL must be unchanged otherwise the proxy must be generated again, which is different from dynamic invoc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Static Invocation versus </a:t>
            </a:r>
            <a:br>
              <a:rPr sz="2800"/>
            </a:br>
            <a:r>
              <a:rPr b="1" lang="en-US" sz="2800" spc="-1" strike="noStrike">
                <a:solidFill>
                  <a:srgbClr val="ff3300"/>
                </a:solidFill>
                <a:latin typeface="AvantGarde"/>
              </a:rPr>
              <a:t>Dynamic Invocation (cont.)</a:t>
            </a:r>
            <a:endParaRPr b="1" lang="en-US" sz="2800" spc="-1" strike="noStrike">
              <a:solidFill>
                <a:srgbClr val="ff3300"/>
              </a:solidFill>
              <a:latin typeface="AvantGarde"/>
            </a:endParaRPr>
          </a:p>
        </p:txBody>
      </p:sp>
      <p:sp>
        <p:nvSpPr>
          <p:cNvPr id="2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dynamic invocation mode, the client does not need any static proxy stub. The proxy stub is dynamically generated at run time using dynamic invocation API’s instead of development ti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vantage is that any WSDL changes after the client development will not affect the Web service invoca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ent will retrieve and interpret the WSDL at run time and dynamically construct a call.  Although it will not be as efficient as static invocation in term of method invocation but it is much more flex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The XML Basics (cont.)</a:t>
            </a:r>
            <a:endParaRPr b="1" lang="en-US" sz="2800" spc="-1" strike="noStrike">
              <a:solidFill>
                <a:srgbClr val="ff3300"/>
              </a:solidFill>
              <a:latin typeface="AvantGarde"/>
            </a:endParaRPr>
          </a:p>
        </p:txBody>
      </p:sp>
      <p:sp>
        <p:nvSpPr>
          <p:cNvPr id="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XML document about </a:t>
            </a:r>
            <a:r>
              <a:rPr b="0" i="1" lang="en-US" sz="2400" spc="-1" strike="noStrike">
                <a:solidFill>
                  <a:srgbClr val="000000"/>
                </a:solidFill>
                <a:latin typeface="Times New Roman"/>
              </a:rPr>
              <a:t>student</a:t>
            </a:r>
            <a:r>
              <a:rPr b="0" lang="en-US" sz="2400" spc="-1" strike="noStrike">
                <a:solidFill>
                  <a:srgbClr val="000000"/>
                </a:solidFill>
                <a:latin typeface="Times New Roman"/>
              </a:rPr>
              <a:t> GPA recor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ml version = “1.0”?&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students&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student id=1234&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name&gt;John Smith&lt;/name&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lt;gpa&gt;3.5&lt;/gpa&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	</a:t>
            </a:r>
            <a:r>
              <a:rPr b="0" lang="sv-SE" sz="2400" spc="-1" strike="noStrike">
                <a:solidFill>
                  <a:srgbClr val="000000"/>
                </a:solidFill>
                <a:latin typeface="Times New Roman"/>
              </a:rPr>
              <a:t>	</a:t>
            </a:r>
            <a:r>
              <a:rPr b="0" lang="sv-SE" sz="2400" spc="-1" strike="noStrike">
                <a:solidFill>
                  <a:srgbClr val="000000"/>
                </a:solidFill>
                <a:latin typeface="Times New Roman"/>
              </a:rPr>
              <a:t>&lt;/student&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	</a:t>
            </a:r>
            <a:r>
              <a:rPr b="0" lang="sv-SE" sz="2400" spc="-1" strike="noStrike">
                <a:solidFill>
                  <a:srgbClr val="000000"/>
                </a:solidFill>
                <a:latin typeface="Times New Roman"/>
              </a:rPr>
              <a:t>	</a:t>
            </a:r>
            <a:r>
              <a:rPr b="0" lang="sv-SE" sz="2400" spc="-1" strike="noStrike">
                <a:solidFill>
                  <a:srgbClr val="000000"/>
                </a:solidFill>
                <a:latin typeface="Times New Roman"/>
              </a:rPr>
              <a:t>&lt;student id=2345&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	</a:t>
            </a:r>
            <a:r>
              <a:rPr b="0" lang="sv-SE" sz="2400" spc="-1" strike="noStrike">
                <a:solidFill>
                  <a:srgbClr val="000000"/>
                </a:solidFill>
                <a:latin typeface="Times New Roman"/>
              </a:rPr>
              <a:t>	</a:t>
            </a:r>
            <a:r>
              <a:rPr b="0" lang="sv-SE" sz="2400" spc="-1" strike="noStrike">
                <a:solidFill>
                  <a:srgbClr val="000000"/>
                </a:solidFill>
                <a:latin typeface="Times New Roman"/>
              </a:rPr>
              <a:t>	</a:t>
            </a:r>
            <a:r>
              <a:rPr b="0" lang="en-US" sz="2400" spc="-1" strike="noStrike">
                <a:solidFill>
                  <a:srgbClr val="000000"/>
                </a:solidFill>
                <a:latin typeface="Times New Roman"/>
              </a:rPr>
              <a:t>&lt;name&gt;Scott Tiger&lt;/name&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gpa&gt;4.0&lt;/gpa&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t;/student&g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tudents&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 Composition versus Web  Service Conversation</a:t>
            </a:r>
            <a:endParaRPr b="1" lang="en-US" sz="2800" spc="-1" strike="noStrike">
              <a:solidFill>
                <a:srgbClr val="ff3300"/>
              </a:solidFill>
              <a:latin typeface="AvantGarde"/>
            </a:endParaRPr>
          </a:p>
        </p:txBody>
      </p:sp>
      <p:sp>
        <p:nvSpPr>
          <p:cNvPr id="2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eb service composition can be implemented by a containment construction, in which the outer Web  service holds a reference to one or many inner Web  services and outer Web  service forwards a Web  service request to a inner Web  servi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dPoint of inner Web  service is behind the scen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eb service composition can also be implemented by an aggregation construction, in which an inner Web service endPoint reference is handed out directly to the outer Web service cli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s Component Deployment </a:t>
            </a:r>
            <a:endParaRPr b="1" lang="en-US" sz="2800" spc="-1" strike="noStrike">
              <a:solidFill>
                <a:srgbClr val="ff3300"/>
              </a:solidFill>
              <a:latin typeface="AvantGarde"/>
            </a:endParaRPr>
          </a:p>
        </p:txBody>
      </p:sp>
      <p:sp>
        <p:nvSpPr>
          <p:cNvPr id="2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 custom deployment which is much more flexible than drop-in deploym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ype deployment requires a Web Service Deployment Descriptor (WSDD) XML document to deploy a Web service on-lin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we only have Web service class files on hand. There are two ways to generate WSDD XML files. One way is to create (write) WSDD from scratch and the other way is to generate a WSDD by AXIS tools which generate WSDL from class files and then generate WSDD from WSD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SDD XML document deploy.wsdd for our temperature conversion Web service which is generated by the to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s </a:t>
            </a:r>
            <a:br>
              <a:rPr sz="2800"/>
            </a:br>
            <a:r>
              <a:rPr b="1" lang="en-US" sz="2800" spc="-1" strike="noStrike">
                <a:solidFill>
                  <a:srgbClr val="ff3300"/>
                </a:solidFill>
                <a:latin typeface="AvantGarde"/>
              </a:rPr>
              <a:t>Component Deployment (cont.)</a:t>
            </a:r>
            <a:endParaRPr b="1" lang="en-US" sz="2800" spc="-1" strike="noStrike">
              <a:solidFill>
                <a:srgbClr val="ff3300"/>
              </a:solidFill>
              <a:latin typeface="AvantGarde"/>
            </a:endParaRPr>
          </a:p>
        </p:txBody>
      </p:sp>
      <p:sp>
        <p:nvSpPr>
          <p:cNvPr id="274" name="PlaceHolder 2"/>
          <p:cNvSpPr>
            <a:spLocks noGrp="1"/>
          </p:cNvSpPr>
          <p:nvPr>
            <p:ph/>
          </p:nvPr>
        </p:nvSpPr>
        <p:spPr>
          <a:xfrm>
            <a:off x="304560" y="1218960"/>
            <a:ext cx="88390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Use this file to deploy some handlers/chains and services   --&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Two ways to do thi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java org.apache.axis.utils.Admin deploy.wsdd                   --&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from the same directory that the Axis engine runs           --&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or                                                                                            --&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java org.apache.axis.client.AdminClient deploy.wsdd        --&g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fter the axis server is runn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s </a:t>
            </a:r>
            <a:br>
              <a:rPr sz="2800"/>
            </a:br>
            <a:r>
              <a:rPr b="1" lang="en-US" sz="2800" spc="-1" strike="noStrike">
                <a:solidFill>
                  <a:srgbClr val="ff3300"/>
                </a:solidFill>
                <a:latin typeface="AvantGarde"/>
              </a:rPr>
              <a:t>Component Deployment (cont.)</a:t>
            </a:r>
            <a:endParaRPr b="1" lang="en-US" sz="2800" spc="-1" strike="noStrike">
              <a:solidFill>
                <a:srgbClr val="ff3300"/>
              </a:solidFill>
              <a:latin typeface="AvantGarde"/>
            </a:endParaRPr>
          </a:p>
        </p:txBody>
      </p:sp>
      <p:sp>
        <p:nvSpPr>
          <p:cNvPr id="276" name="PlaceHolder 2"/>
          <p:cNvSpPr>
            <a:spLocks noGrp="1"/>
          </p:cNvSpPr>
          <p:nvPr>
            <p:ph/>
          </p:nvPr>
        </p:nvSpPr>
        <p:spPr>
          <a:xfrm>
            <a:off x="685800" y="1218960"/>
            <a:ext cx="8229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eploy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http://xml.apache.org/axis/wsd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mlns:java="http://xml.apache.org/axis/wsdd/providers/java"&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 Services from ConvertService WSDL service --&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ervice name="Convert" provider="java:RPC"&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rameter name="classNam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ue="convert.ConvertSoapBindingSkeleton"/&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parameter name="allowedMethods" value="toFahrenheit"/&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service&g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eploymen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s </a:t>
            </a:r>
            <a:br>
              <a:rPr sz="2800"/>
            </a:br>
            <a:r>
              <a:rPr b="1" lang="en-US" sz="2800" spc="-1" strike="noStrike">
                <a:solidFill>
                  <a:srgbClr val="ff3300"/>
                </a:solidFill>
                <a:latin typeface="AvantGarde"/>
              </a:rPr>
              <a:t>Component Deployment (cont.)</a:t>
            </a:r>
            <a:endParaRPr b="1" lang="en-US" sz="2800" spc="-1" strike="noStrike">
              <a:solidFill>
                <a:srgbClr val="ff3300"/>
              </a:solidFill>
              <a:latin typeface="AvantGarde"/>
            </a:endParaRPr>
          </a:p>
        </p:txBody>
      </p:sp>
      <p:sp>
        <p:nvSpPr>
          <p:cNvPr id="27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ot element in this WSDD is a deployment element which has a sub-element </a:t>
            </a:r>
            <a:r>
              <a:rPr b="0" i="1" lang="en-US" sz="2800" spc="-1" strike="noStrike">
                <a:solidFill>
                  <a:srgbClr val="000000"/>
                </a:solidFill>
                <a:latin typeface="Times New Roman"/>
              </a:rPr>
              <a:t>servi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ot element defines a default namespace of WSDD, a namespace for Java provider, and a XML Schema instance namesp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service</a:t>
            </a:r>
            <a:r>
              <a:rPr b="0" lang="en-US" sz="2800" spc="-1" strike="noStrike">
                <a:solidFill>
                  <a:srgbClr val="000000"/>
                </a:solidFill>
                <a:latin typeface="Times New Roman"/>
              </a:rPr>
              <a:t> element defines the name of the Web service used to provide an unique name for the Web service and type of provid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 types of provider may be RPC-based type or document-based typ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s </a:t>
            </a:r>
            <a:br>
              <a:rPr sz="2800"/>
            </a:br>
            <a:r>
              <a:rPr b="1" lang="en-US" sz="2800" spc="-1" strike="noStrike">
                <a:solidFill>
                  <a:srgbClr val="ff3300"/>
                </a:solidFill>
                <a:latin typeface="AvantGarde"/>
              </a:rPr>
              <a:t>Component Deployment (cont.)</a:t>
            </a:r>
            <a:endParaRPr b="1" lang="en-US" sz="2800" spc="-1" strike="noStrike">
              <a:solidFill>
                <a:srgbClr val="ff3300"/>
              </a:solidFill>
              <a:latin typeface="AvantGarde"/>
            </a:endParaRPr>
          </a:p>
        </p:txBody>
      </p:sp>
      <p:sp>
        <p:nvSpPr>
          <p:cNvPr id="2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C type works for request/response synchronous communication and document type works for message passing asynchronous communic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XIS also supports EJB-based type provider and COM provider depending on the kind the Web servi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ld elements, which are both </a:t>
            </a:r>
            <a:r>
              <a:rPr b="0" i="1" lang="en-US" sz="2800" spc="-1" strike="noStrike">
                <a:solidFill>
                  <a:srgbClr val="000000"/>
                </a:solidFill>
                <a:latin typeface="Times New Roman"/>
              </a:rPr>
              <a:t>parameter</a:t>
            </a:r>
            <a:r>
              <a:rPr b="0" lang="en-US" sz="2800" spc="-1" strike="noStrike">
                <a:solidFill>
                  <a:srgbClr val="000000"/>
                </a:solidFill>
                <a:latin typeface="Times New Roman"/>
              </a:rPr>
              <a:t>, describe the class available to the service and the methods to be accesse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value pairs tell the names of the classes and the names of methods for this deployed Web servi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s </a:t>
            </a:r>
            <a:br>
              <a:rPr sz="2800"/>
            </a:br>
            <a:r>
              <a:rPr b="1" lang="en-US" sz="2800" spc="-1" strike="noStrike">
                <a:solidFill>
                  <a:srgbClr val="ff3300"/>
                </a:solidFill>
                <a:latin typeface="AvantGarde"/>
              </a:rPr>
              <a:t>Component Deployment (cont.)</a:t>
            </a:r>
            <a:endParaRPr b="1" lang="en-US" sz="2800" spc="-1" strike="noStrike">
              <a:solidFill>
                <a:srgbClr val="ff3300"/>
              </a:solidFill>
              <a:latin typeface="AvantGarde"/>
            </a:endParaRPr>
          </a:p>
        </p:txBody>
      </p:sp>
      <p:sp>
        <p:nvSpPr>
          <p:cNvPr id="2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ployment can be implemented by command line utility or by Apache-AXIS Admin utility  at http://&lt;URL&gt;:&lt;port&gt;/axis/index.html, for example, </a:t>
            </a:r>
            <a:r>
              <a:rPr b="0" lang="en-US" sz="2800" spc="-1" strike="noStrike" u="sng">
                <a:solidFill>
                  <a:srgbClr val="0000ff"/>
                </a:solidFill>
                <a:uFillTx/>
                <a:latin typeface="Times New Roman"/>
                <a:hlinkClick r:id="rId1"/>
              </a:rPr>
              <a:t>http://localhost:8080/axis/index.html</a:t>
            </a:r>
            <a:r>
              <a:rPr b="0" lang="en-US" sz="2800" spc="-1" strike="noStrike">
                <a:solidFill>
                  <a:srgbClr val="000000"/>
                </a:solidFill>
                <a:latin typeface="Times New Roman"/>
              </a:rPr>
              <a:t> to deploy or check the deployed Web  service.  We focus on the command line Web  service deployment in this s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Web  Services </a:t>
            </a:r>
            <a:br>
              <a:rPr sz="2800"/>
            </a:br>
            <a:r>
              <a:rPr b="1" lang="en-US" sz="2800" spc="-1" strike="noStrike">
                <a:solidFill>
                  <a:srgbClr val="ff3300"/>
                </a:solidFill>
                <a:latin typeface="AvantGarde"/>
              </a:rPr>
              <a:t>Component Deployment (cont.)</a:t>
            </a:r>
            <a:endParaRPr b="1" lang="en-US" sz="2800" spc="-1" strike="noStrike">
              <a:solidFill>
                <a:srgbClr val="ff3300"/>
              </a:solidFill>
              <a:latin typeface="AvantGarde"/>
            </a:endParaRPr>
          </a:p>
        </p:txBody>
      </p:sp>
      <p:sp>
        <p:nvSpPr>
          <p:cNvPr id="2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ployment command line is shown in the follow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pps\myDirectory\convert&gt;java org.apache.axis.client.AdminClient deploy.wsd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we run this command we need to make sure the Tomcat is up running and deploy.wsdd is available in this directory</a:t>
            </a:r>
            <a:r>
              <a:rPr b="0" i="1" lang="en-US" sz="2400" spc="-1" strike="noStrike">
                <a:solidFill>
                  <a:srgbClr val="000000"/>
                </a:solidFill>
                <a:latin typeface="Times New Roman"/>
              </a:rPr>
              <a:t>.  </a:t>
            </a:r>
            <a:r>
              <a:rPr b="0" lang="en-US" sz="2400" spc="-1" strike="noStrike">
                <a:solidFill>
                  <a:srgbClr val="000000"/>
                </a:solidFill>
                <a:latin typeface="Times New Roman"/>
              </a:rPr>
              <a:t>AdminClient takes a WSDD XML file as its arguments  to deploy the Web  service or takes an argument of </a:t>
            </a:r>
            <a:r>
              <a:rPr b="0" i="1" lang="en-US" sz="2400" spc="-1" strike="noStrike">
                <a:solidFill>
                  <a:srgbClr val="000000"/>
                </a:solidFill>
                <a:latin typeface="Times New Roman"/>
              </a:rPr>
              <a:t>list –l </a:t>
            </a:r>
            <a:r>
              <a:rPr b="0" lang="en-US" sz="2400" spc="-1" strike="noStrike">
                <a:solidFill>
                  <a:srgbClr val="000000"/>
                </a:solidFill>
                <a:latin typeface="Times New Roman"/>
              </a:rPr>
              <a:t>AdminServiceURL  to list all deployed Web  services in AXIS. The AdminServiceURL</a:t>
            </a:r>
            <a:r>
              <a:rPr b="0" i="1" lang="en-US" sz="2400" spc="-1" strike="noStrike">
                <a:solidFill>
                  <a:srgbClr val="000000"/>
                </a:solidFill>
                <a:latin typeface="Times New Roman"/>
              </a:rPr>
              <a:t> </a:t>
            </a:r>
            <a:r>
              <a:rPr b="0" lang="en-US" sz="2400" spc="-1" strike="noStrike">
                <a:solidFill>
                  <a:srgbClr val="000000"/>
                </a:solidFill>
                <a:latin typeface="Times New Roman"/>
              </a:rPr>
              <a:t>is the URL of AminService, typically is accessible at </a:t>
            </a:r>
            <a:r>
              <a:rPr b="0" lang="en-US" sz="2400" spc="-1" strike="noStrike" u="sng">
                <a:solidFill>
                  <a:srgbClr val="0000ff"/>
                </a:solidFill>
                <a:uFillTx/>
                <a:latin typeface="Times New Roman"/>
                <a:hlinkClick r:id="rId1"/>
              </a:rPr>
              <a:t>http://localhost:8080/axis/services/AdminServi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2:58:20Z</dcterms:created>
  <dc:creator>hamm</dc:creator>
  <dc:description/>
  <dc:language>en-US</dc:language>
  <cp:lastModifiedBy>Irving Farinas</cp:lastModifiedBy>
  <dcterms:modified xsi:type="dcterms:W3CDTF">2005-04-04T20:44:05Z</dcterms:modified>
  <cp:revision>324</cp:revision>
  <dc:subject/>
  <dc:title>Chapter 1 – Introduction to Computers, the Internet, and the Web</dc:title>
</cp:coreProperties>
</file>