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CB9-B854-4230-AFEA-C121494E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620-E1E1-4ECF-86DD-310B4B6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3E8-347F-449F-A5DC-736BA9A3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1DB-0BEB-48CC-BBC7-0233DBBC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150-A69B-401A-BE8E-DE861E54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C58-4D18-440B-A2BE-70F5F1B1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9B3-A365-493C-9A11-135BBDE7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EE5-9C08-4692-89B3-8F770578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F51-911A-4101-8279-B3138063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8B6-C4E8-4C51-AFF5-E99BCEA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532-5C66-4DE7-81E6-3D2AE2D9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018-D398-4135-931C-3AB7650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15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3520" y="6248160"/>
            <a:ext cx="579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Oriented Program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08AD-D157-4127-B3F1-E5FC90A69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2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ory of Component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158-A7BE-4CBE-BC13-EDC519048A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do we need Interface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(P, M, E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, M, E) part answers the ques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does this componen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face part “I” answers the ques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can it b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is a subse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face can be modified by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46E-1985-4F44-82E9-88F63C226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osi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kinds of compositions among device b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 (+): two device beans are added together without direct interaction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y (*): Hook up an event from a source component to a method in a target component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ifications of the interface (p+, p-, m+, m-, e+, and e-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9D3-F908-42DC-BB28-A658F82F9D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ition (+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1 = (P1, M1, E1, I1), C1 = (P2, M2, E2, I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057400"/>
            <a:ext cx="18288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419112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449568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403848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441972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3657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22860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666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2057400"/>
            <a:ext cx="18288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50292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1 + C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D3D-B0C8-48A5-9F97-4DC8E6D7E3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plication (*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1 = (P1, M1, E1, I1), C1 = (P2, M2, E2, I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057400"/>
            <a:ext cx="18288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32767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19112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49568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403848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41972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3657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22860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2666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1337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2057400"/>
            <a:ext cx="18288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0292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1 * C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200400" y="3428640"/>
            <a:ext cx="236232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71B-68C8-4021-B922-2EDF2EB490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ification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1 = (P1, M1, E1, I1),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C1) = (P2, M2, E2, I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438280"/>
            <a:ext cx="18288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457200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487692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41972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800600"/>
            <a:ext cx="304920" cy="2286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35053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886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7432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895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438280"/>
            <a:ext cx="18288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5364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B67-BFEC-4991-BC19-00816A7D49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262908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52480" y="2971800"/>
            <a:ext cx="1600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886200"/>
            <a:ext cx="1600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200400"/>
            <a:ext cx="2362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3809520"/>
            <a:ext cx="243864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9640" y="5029200"/>
            <a:ext cx="374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1 * (start)A + B2 * (stop)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8E5-4600-4A5B-A234-48328AC388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mal Semant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evice bean is represented b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onent char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an extension of statechart, and is similar to objectchart (Coleman et. a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havior of a device bean in component communication is described by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ts component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behavior can be described in terms of component t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996-5E5B-497E-98FA-D0D28BFB85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ecifying Contra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ethod in an interface of a device bean, a contract is specified us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condition – a definition of the situations under which the postcondition will app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tcondition – a description of the effects of that method on its parameters and the information mod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404-DF27-4DED-9CC3-4A9DA7530E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The Air Conditioning System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520" y="1371600"/>
          <a:ext cx="8229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229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37C-BC0C-48F3-8029-248149539C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533520"/>
          <a:ext cx="82296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306-5EED-4755-B7AE-B42F07CA65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jor Top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inciples of COP and its majo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 the infrastructures of COP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framework to unify various compon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definitions of softwa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definitions of connections for component assem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definitions of component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898-E80D-485B-BEA6-ADB9998803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495360"/>
            <a:ext cx="8534160" cy="56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304-AEDD-4A38-A7C9-88391B253F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efinition of embedded component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omponent in embedded systems, inform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omponent in embedded systems, form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mbedded systems, we define embedded components as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device be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lain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1F7-4AA0-4BD2-B9E1-CD98E3BD53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ice Driv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49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645-BAEB-49B4-A1D7-E8E6252BBA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vice beans are basic components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embedded system can be defined as a collection of devices reading, processing, and controlling physical plant and quant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n an intruder alarm system, motion sensors are devices installed near windows and doors to detect the presence of an intruder. The alarm is a device to generate audible signal. The microprocessor is also a device to collect signals from sensors and to trigger the alarm under certain condi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AD2-3A43-4D83-891C-200A977F8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ice beans are reusable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in a product line, one device is reused in several similar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or controller, for instance, can be reused in a fire alarm system, an intruder alarm system, or a home security system. A timer device, being hardware or software, can be reused in all those embedded systems requiring time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443-FEF8-4328-9341-84A73B4919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vice beans are building blocks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 systems are usually cost sensitive and require short-time to mark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le building blocks offer pre-built, thoroughly tested, and ready-to-use components for constructing a new embedded system, thus reducing cost and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2B0-47AC-4934-9FCC-042A046FDF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ice beans are executable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form of device beans are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implement device beans with any programming in princi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t will be natural to use Java or JavaBeans technology, thus the object forms of device beans are binary components (Java bytecod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prototyping is possible since they could be integrated at design time and executed at ru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885-D48D-4EDC-BB08-6A1695A14F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vice beans support visual design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design provides a convenient and intuitive method to construct a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each device bean is implemented in Java, all the visual design tools for Java could be used to design embedded systems. To name just a few of them: JBuilder, Visual Café, Visual Age, Forte for Java, etc. We are building our own IDE to support embedded system design and prototyp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A93-BDF3-4E90-AE6F-6B311FAC50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vice Beans (informal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dentifier presenting the device b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per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encapsulate states or attributes of a device bean. Each property has a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tho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describe behavior and services of a device bean. Each method has a signature : v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sibility access return-type Method-name (parameter-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v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describe actions this device bean can initiate. Each event has a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0C8-3BC4-4B69-8ED6-5C328143C6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phical Represen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75452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1954440" y="1780560"/>
            <a:ext cx="6122520" cy="3790080"/>
            <a:chOff x="1954440" y="1780560"/>
            <a:chExt cx="6122520" cy="3790080"/>
          </a:xfrm>
        </p:grpSpPr>
        <p:sp>
          <p:nvSpPr>
            <p:cNvPr id="157" name=""/>
            <p:cNvSpPr/>
            <p:nvPr/>
          </p:nvSpPr>
          <p:spPr>
            <a:xfrm>
              <a:off x="1954440" y="1780560"/>
              <a:ext cx="2332440" cy="37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6880" y="4987800"/>
              <a:ext cx="291600" cy="291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86880" y="4404240"/>
              <a:ext cx="291600" cy="2916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86880" y="3238200"/>
              <a:ext cx="291600" cy="29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86880" y="3821400"/>
              <a:ext cx="291600" cy="29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86880" y="2071800"/>
              <a:ext cx="291600" cy="29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86880" y="2655000"/>
              <a:ext cx="291600" cy="29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61320" y="2071800"/>
              <a:ext cx="291600" cy="874800"/>
            </a:xfrm>
            <a:custGeom>
              <a:avLst/>
              <a:gdLst>
                <a:gd name="textAreaLeft" fmla="*/ 0 w 291600"/>
                <a:gd name="textAreaRight" fmla="*/ 105120 w 291600"/>
                <a:gd name="textAreaTop" fmla="*/ 22680 h 874800"/>
                <a:gd name="textAreaBottom" fmla="*/ 852120 h 8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61320" y="3238200"/>
              <a:ext cx="291600" cy="874800"/>
            </a:xfrm>
            <a:custGeom>
              <a:avLst/>
              <a:gdLst>
                <a:gd name="textAreaLeft" fmla="*/ 0 w 291600"/>
                <a:gd name="textAreaRight" fmla="*/ 105120 w 291600"/>
                <a:gd name="textAreaTop" fmla="*/ 22680 h 874800"/>
                <a:gd name="textAreaBottom" fmla="*/ 852120 h 8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61320" y="4404240"/>
              <a:ext cx="291600" cy="874800"/>
            </a:xfrm>
            <a:custGeom>
              <a:avLst/>
              <a:gdLst>
                <a:gd name="textAreaLeft" fmla="*/ 0 w 291600"/>
                <a:gd name="textAreaRight" fmla="*/ 105120 w 291600"/>
                <a:gd name="textAreaTop" fmla="*/ 22680 h 874800"/>
                <a:gd name="textAreaBottom" fmla="*/ 852120 h 8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54440" y="1780560"/>
              <a:ext cx="233244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54440" y="2946960"/>
              <a:ext cx="233244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54440" y="4113000"/>
              <a:ext cx="2332440" cy="14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36480" y="1780560"/>
              <a:ext cx="204048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erty Inte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6480" y="2946960"/>
              <a:ext cx="204048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hod Inte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36480" y="4113000"/>
              <a:ext cx="204048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ent Inte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AB2-D7E2-4AE8-BA61-0727F85EB8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present decomposition and abs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ility should be achieved at various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SD increases the software depend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SD could increase the software produ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SD promotes software standard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227-BEEE-4335-AB3C-7A20C41A67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jor differences between device beans and Java beans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formal 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device beans specification with formal syntax and formal semantics, while there is no formal definition for Java beans specification y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BSL (Device Bean Specification Language) define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nnectors as operat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component algebra, while Java beans do not have formal connectors defin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onent algebra provides several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aws for component conne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semantics for each connector, while Java beans do not have formal laws to govern their design-time behavior or run-time behav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composing two Java beans we got a JAR file which is no longer a component anymore. In device beans, however, two device beans are composed with composition laws and the result is also a component. This make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incremental develop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component-based approach 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55B-58BD-46AD-92ED-77AFB63CFC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tton device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imation device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or device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or device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27A-9771-4FE1-9A8E-C3791E7270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ftware component is a piece of self-contained code with well-defined functionality and can be reused as a unit in various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nent infrastructure is the basic, underlying framework and facilities for component construction and component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nent infrastructure consists of three models: a component model, a connection model, and a deployment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beans are reusable software components for embedd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0B4-95D2-4B5B-8CE0-6B2C688879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components are associated with their component infrastru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omponent technologies have different component infrastructures, and thus have different component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015-A7C1-43D7-9590-8EF1017DB5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, underlying framework or features of a system o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damental facilities serving a country , a city, or area, as transportation and communication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omponent infra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C87-D589-4978-AA19-A4C513D11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onent infrastructure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definition revisit – reusable, self-contained, independently deployable software un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Infrastructure: The underlying foundation or basic framework to construct, assemble, and deploy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do not exist without infrastructur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8E3-8EE9-44B6-9FEA-C871AFD292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onent Infrastructure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= (Comp, Conn, De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 = compon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a component in the CI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 = conne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generate a new component via the existing one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 = deploy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put components into applica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AB9-63D0-4A3C-A593-EDB4F1F40F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mal Defini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nent C is a quadr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 = (P, M, E, I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= { p : T | p is a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identifi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T is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 = { (v, a, t, i (p)) | v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visibilit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acces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, t 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typ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, i 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identifi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, p 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aramet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 = { e : T | e is a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ve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, T is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typ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       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× 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× 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47920" y="4653000"/>
                <a:ext cx="342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0F1-7BA1-4D4C-ABA5-B5376FEC60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Component Char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911320" y="1295280"/>
          <a:ext cx="32608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1295280"/>
                    <a:ext cx="3260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E81-B0BC-4E6B-BB6A-7981B3309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0:39:07Z</dcterms:created>
  <dc:creator>Andy Wang</dc:creator>
  <dc:description/>
  <dc:language>en-US</dc:language>
  <cp:lastModifiedBy>wang</cp:lastModifiedBy>
  <dcterms:modified xsi:type="dcterms:W3CDTF">2005-05-15T19:45:45Z</dcterms:modified>
  <cp:revision>135</cp:revision>
  <dc:subject/>
  <dc:title>Component Oriented Programming</dc:title>
</cp:coreProperties>
</file>