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53B-4E68-4542-82D9-C72DDF65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BB6-8437-4FF2-8A53-6E978CE1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187-F421-44D3-B815-F4324EB3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B34-6244-44B6-9072-1E8FD887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A9C-5F02-4BAE-8116-08CBEEF7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F9F-C800-4DB4-B347-0F87E474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4B3-B8B8-4DF0-9CB6-D8B71B9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316-9D7A-4765-B8C7-1BD5EEA7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0BE-2E81-40EE-81D4-CC9C5640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092-8581-4C67-B4C9-DF496AA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F44-BA88-404A-BA54-719B11D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30C-AE58-452F-9773-3B55D0C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152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3520" y="6248160"/>
            <a:ext cx="579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Oriented Program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61E9-4FF9-4CF4-89B0-31421D7D0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rosyst.com/solutions_html/smarthome_edition.html" TargetMode="External"/><Relationship Id="rId2" Type="http://schemas.openxmlformats.org/officeDocument/2006/relationships/hyperlink" Target="http://www.prosyst.com/solutions_html/info_edition.html" TargetMode="External"/><Relationship Id="rId3" Type="http://schemas.openxmlformats.org/officeDocument/2006/relationships/hyperlink" Target="http://www.prosyst.com/solutions_html/info_edition.html" TargetMode="External"/><Relationship Id="rId4" Type="http://schemas.openxmlformats.org/officeDocument/2006/relationships/hyperlink" Target="http://www.prosyst.com/solutions_html/mobile_edition.html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7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P with OSGi Component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B7F-9F48-4BB9-87A7-3558D47523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F3.0 from IB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066680"/>
            <a:ext cx="73915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Management Framework (SM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3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Gi 2.0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dditional capabilities over base-level OSGi frame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of run-in-place bundles that execute directly out of 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mall memory foot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mbedded.oti.com/download/technologies/wes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C3C-8BBF-42D1-827E-6ED312A9C3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26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SPservlet from PageBox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75248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JES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port on other OSGi servic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lo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DFD-78D4-4022-AF38-A5898A1F56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526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SCAR from R Hall, et. al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75248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AR: Open Service Contain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 shell that act as a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version has 15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100% in compliance with JES2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Java secur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AC0-95F1-4E1D-BC86-FC71E01E5D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526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Bedded Server 5.1 from ProSys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75248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, scalable and modular service plat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UI: Java Graphical User Interface library for embedded de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editions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mart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utomotive Infotainment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Telema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Mobi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control, maintenance, diagnostics, data readout and dynamic software updat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1E1-D904-4C1A-89D9-EA539BFF1D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980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penRG from Jungo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14300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 DHCP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band internet sha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address translation (N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management and 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ing voic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 interfaces: DSL, Cable modems, Ethernet, Satellite and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 interfaces: Ethernet, Wireless LAN-802.11b, Bluetooth, HPNA, HomeRF, A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A14-B284-476C-B909-83BDCF2EDC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mart home based on OSGi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D85-178D-4F10-AE70-530073A8A2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OSGi Computing Environment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1920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47680" y="1488240"/>
            <a:ext cx="8381880" cy="4033440"/>
            <a:chOff x="247680" y="1488240"/>
            <a:chExt cx="8381880" cy="4033440"/>
          </a:xfrm>
        </p:grpSpPr>
        <p:sp>
          <p:nvSpPr>
            <p:cNvPr id="114" name=""/>
            <p:cNvSpPr/>
            <p:nvPr/>
          </p:nvSpPr>
          <p:spPr>
            <a:xfrm>
              <a:off x="247680" y="1488240"/>
              <a:ext cx="1676160" cy="806400"/>
            </a:xfrm>
            <a:prstGeom prst="rect">
              <a:avLst/>
            </a:prstGeom>
            <a:solidFill>
              <a:srgbClr val="f4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und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7680" y="2295000"/>
              <a:ext cx="8381880" cy="806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SGi Framewor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3840" y="1488240"/>
              <a:ext cx="1676160" cy="807840"/>
            </a:xfrm>
            <a:prstGeom prst="rect">
              <a:avLst/>
            </a:prstGeom>
            <a:solidFill>
              <a:srgbClr val="f4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und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0360" y="1488240"/>
              <a:ext cx="1676160" cy="806400"/>
            </a:xfrm>
            <a:prstGeom prst="rect">
              <a:avLst/>
            </a:prstGeom>
            <a:solidFill>
              <a:srgbClr val="f4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und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6880" y="1488240"/>
              <a:ext cx="1676160" cy="806400"/>
            </a:xfrm>
            <a:prstGeom prst="rect">
              <a:avLst/>
            </a:prstGeom>
            <a:solidFill>
              <a:srgbClr val="f4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und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3040" y="1488240"/>
              <a:ext cx="1676160" cy="805320"/>
            </a:xfrm>
            <a:prstGeom prst="rect">
              <a:avLst/>
            </a:prstGeom>
            <a:solidFill>
              <a:srgbClr val="f4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und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3101760"/>
              <a:ext cx="8381880" cy="80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Java Runtime Environment (JRE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680" y="3908520"/>
              <a:ext cx="8381880" cy="80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perating System (O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7680" y="4715280"/>
              <a:ext cx="8381880" cy="80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FB2-F3FE-4ACA-8140-6377FB9038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ndles as Compon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dle is a JAR file that contains class files and resources such as images, HTML pages, and other dat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ndle = interface + implementation + resour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face: what the service do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ation: how the service is to perform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re delivered as bu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F55-09E4-493E-8929-26E9CE43CA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of a Bund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rn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TA-INF/MANIFEST.M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yer/service/DigitalPlayer.cl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yer/impl/mp3/Activator.cl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yer/impl/mp3/MP3Player.cla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yer/skin/regular.htm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yer/media/mp3/sample.mp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ckage player.servic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im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 interface DigitalPlay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 void play(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putStram musicStream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 class MP3Player implements DigitalPlay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{  public void play (InputStream inStream) 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… …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BB6-5E22-4538-9D82-02CD5761C0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nec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s are insulated from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in one bundle cannot refer to classes inside another bundle, nor instantiate them or invoke thei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dle connects to other bundles through the framework and its Export-Package and Import-Package declarations in its manifes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D48-5C45-4734-99B2-A78AB19426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jor Top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OSGi compon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nfrastructures of OSGi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of software components in OS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of connectors for component assembling in OS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of deployment model in OS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5E1-FB42-45A4-A70C-13D05A6AD9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 Example of Manifes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-Name: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-Description: The Clock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-Vendor: Sun Microsystem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-Version: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-DocURL: http://java.sun.com/products/embedded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-ContactAddress: jes-comments@su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-Activator: clock.ClockServiceIm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-Package: org.osgi.service.htt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x.servl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x.servlet.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-Package: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-Service: clock.Clock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6FE-626A-40E1-805A-AF1DBE41A3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phical No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429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le-Activator: player.impl.Ac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-Package: player.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-Package: http.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2057400"/>
            <a:ext cx="2133360" cy="34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743200"/>
            <a:ext cx="228600" cy="228600"/>
          </a:xfrm>
          <a:prstGeom prst="ellipse">
            <a:avLst/>
          </a:prstGeom>
          <a:solidFill>
            <a:srgbClr val="e2f21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28954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895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2743200"/>
            <a:ext cx="22860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0520" y="3200400"/>
            <a:ext cx="19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02160" y="3124080"/>
            <a:ext cx="15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BAF-905C-4021-9594-94470DF36E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ckage depende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90720" y="2112120"/>
            <a:ext cx="6940080" cy="3071880"/>
            <a:chOff x="990720" y="2112120"/>
            <a:chExt cx="6940080" cy="3071880"/>
          </a:xfrm>
        </p:grpSpPr>
        <p:sp>
          <p:nvSpPr>
            <p:cNvPr id="144" name=""/>
            <p:cNvSpPr/>
            <p:nvPr/>
          </p:nvSpPr>
          <p:spPr>
            <a:xfrm>
              <a:off x="3103200" y="2112120"/>
              <a:ext cx="2413800" cy="3071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undle 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99480" y="2880360"/>
              <a:ext cx="6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17000" y="2880360"/>
              <a:ext cx="60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0360" y="2368080"/>
              <a:ext cx="603360" cy="102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499480" y="2880360"/>
              <a:ext cx="603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90720" y="2368080"/>
              <a:ext cx="1508760" cy="10238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22040" y="2368080"/>
              <a:ext cx="1508760" cy="10238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E64-D402-4E1C-AD96-AACC6818CB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ice depende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11400" y="2118240"/>
            <a:ext cx="6240960" cy="3566160"/>
            <a:chOff x="1211400" y="2118240"/>
            <a:chExt cx="6240960" cy="3566160"/>
          </a:xfrm>
        </p:grpSpPr>
        <p:sp>
          <p:nvSpPr>
            <p:cNvPr id="154" name=""/>
            <p:cNvSpPr/>
            <p:nvPr/>
          </p:nvSpPr>
          <p:spPr>
            <a:xfrm>
              <a:off x="2994840" y="2118240"/>
              <a:ext cx="2377440" cy="3566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undle 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00120" y="3009960"/>
              <a:ext cx="59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1400" y="2415240"/>
              <a:ext cx="118872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2280" y="300996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66280" y="2415240"/>
              <a:ext cx="594360" cy="11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63640" y="2415240"/>
              <a:ext cx="118872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99760" y="3009960"/>
              <a:ext cx="59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47B-0352-47F4-B562-8533D02A75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Framewor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mework provides a hosting environment for bundles. It’s servic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naging the life cycle of bund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olving interdependencies among bundles and making classes and resources available from a bund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aining a registry of servi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ring events and notifying listeners when a bundle’s state changes, when a service is registered or unregistered, or when the framework is launched or raises an err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34C-68E9-4BCA-936B-0648613230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P with Bund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n application using bundles as the building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operations are factored out and programmed into a set of basic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ophisticated and high-level bundles then rely on the basic modules to get their work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, export packages, regist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D3A-275F-4EFE-8BEC-03F15597E5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orting and Exporting Packag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dle expresses its intention to export packages by declaring the package with 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ort-Pack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er in its manif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dle can also declare to import packages, which indicates that the bundle needs to use the specified classes in order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work does the matchmaking –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E0D-2EA5-4A27-9776-B3226F705B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ndle, package, and cla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ou cannot export or import individual classes or interf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package is the smallest unit for this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re is no peer-to-peer export/imp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nections are made through the frame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1676520"/>
            <a:ext cx="236196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3505320"/>
            <a:ext cx="236232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105520"/>
            <a:ext cx="320040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,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2438280"/>
            <a:ext cx="228600" cy="22860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267080"/>
            <a:ext cx="228600" cy="22860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26668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44197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35560" y="2378160"/>
            <a:ext cx="1092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0" y="4170240"/>
            <a:ext cx="1092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C5E-8693-440D-B8AB-2C4B1AA890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ister and Obtain Servic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bundle contains some services, it usually registers (publishes) the services with the service registry maintained by the framework when the bundle is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service is registered, another bundle can look it up and consume th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71B-5DD3-4798-AABF-E02BD5BF41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21492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//in the HTTP bundle’s activ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blic void start(BundleContex bundleContext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ies props = new Properties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s.put(“port”, new Integer(80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Service http = new HttpServiceImp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ndleContext.registerService(“http.service.HttpService”, http, props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//in the diagnostic bundle’s activ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blic void start(BundleContext bundleContext) throws Exception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rviceReference ref = bundleContext.getServiceReference(“http.service.HttpService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Service http = (HttpServic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ndleContext.getService(ref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.post(data);   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861-FA55-4CD5-9739-5C2B3B4BCF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is OSGi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ervice Gateway Initiative (OS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cus of OSGi is: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8458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ivery of multiple servi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 wide-area networ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networks an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EAE-BB80-4226-AA99-AEAD186307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atic and Dynamic Dependency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ckage dependency is 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package dependency as expressed by importing and exporting packages is determined at bundle development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 dependency is 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ile a bundle is active, it can register or unregister its service at any time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conside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993-8D41-4FF6-A32D-0BAE4499C4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undle life cyc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8600" y="1127160"/>
          <a:ext cx="815328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7160"/>
                    <a:ext cx="815328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3F5-A06D-4F91-8F23-3F11DF4E4E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talling a Bund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the URL of the bundle’s JAR file to th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work retrieves the contents of the bundle and install it on the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installed, the bundle is assigned a unique integral ID, and its state becomes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ent is broadcast to notify the listeners that the bundle has been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71D-6E52-4FA4-B19B-F13B25020F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rting the Bund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ramework examines the manifest headers of the bundle to determ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hat packages this bundle offers to export (Export-Package header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hat packages this bundle needs to import (Import-Package header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hich class is the activator for this bundle (Bundle-Activator header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ramework creat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undleContex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bject for the bun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ramework call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thod of the bundle’s activator and passe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undleContex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the arg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ndle registers services it prov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ndle moves into the ACTIVE st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D3F-6ECA-4418-B452-031E1FF10C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orting packages and getting servic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bundle is to be started, the framework attempts to satisfy its im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ramework finds the match, then the bundle is marked as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bundle is started, it becomes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AF7-1880-4813-8E59-C7DC72768C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ndling the dynamic service dependency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the framework, events are broadcast when bundles go through their life cycle states and when services are published or with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happen if bundle A depends on bundle B and B un-registers its service at run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mework will broadcast an event of B’s intention, and A needs to do the proper cleanup to ensure it no longer calls B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’s unregistration is not completed until all interested parties have been notified and they have finished any action in response to the pending event of B being unregi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9C8-A44E-41C1-BC7E-8D6FEFB65E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opping and Uninstalling a Bundl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amework calls the bundle activator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with the following t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registers the service provided by the bundle. During this process, an event is broadcast to notify interested listeners that the service is being unregister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leases any services in use by the bund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moves any event listeners added by the bund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ves the bundle back to the RESOLVED stat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roadcasts another event to notify listeners that the bundle has been stopp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A42-E821-4E2F-901A-2DDF3C9C34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eps for Developing Bundl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the servic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bundle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the manifes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and generate a JA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D98-56B3-4A3D-AA9F-46BD001052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Developing Bundles"/>
          <p:cNvPicPr/>
          <p:nvPr/>
        </p:nvPicPr>
        <p:blipFill>
          <a:blip r:embed="rId2"/>
          <a:stretch/>
        </p:blipFill>
        <p:spPr>
          <a:xfrm>
            <a:off x="228600" y="271440"/>
            <a:ext cx="853128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02E-0410-458B-A540-65F1E1C71A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ep 1: Service Interf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ust be an interface for each service that will be included in the bund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erface represents the service to the other bundles in the ser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vice interface should be placed in a dedicated package, as it is to be exported to and accessible by other bund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le developers register and access a service in a bundle through the service interface. The service interface defines the methods that the consumers of the service can c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C0F-1162-4B14-B5A6-9D220F3CF2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SGi Service Oriented Compu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34960" y="1371600"/>
            <a:ext cx="6590520" cy="4627080"/>
            <a:chOff x="1434960" y="1371600"/>
            <a:chExt cx="6590520" cy="4627080"/>
          </a:xfrm>
        </p:grpSpPr>
        <p:sp>
          <p:nvSpPr>
            <p:cNvPr id="49" name=""/>
            <p:cNvSpPr/>
            <p:nvPr/>
          </p:nvSpPr>
          <p:spPr>
            <a:xfrm>
              <a:off x="1435320" y="1371600"/>
              <a:ext cx="168228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munication 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35320" y="2072520"/>
              <a:ext cx="168228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ertainment 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5320" y="2773800"/>
              <a:ext cx="168228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althcare 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35320" y="3474720"/>
              <a:ext cx="168228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 Automation 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5320" y="4176000"/>
              <a:ext cx="168228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ther 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78840" y="1371600"/>
              <a:ext cx="0" cy="350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39720" y="2773800"/>
              <a:ext cx="98136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d181e"/>
                  </a:solidFill>
                  <a:latin typeface="Times New Roman"/>
                </a:rPr>
                <a:t>Gatew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41920" y="1651680"/>
              <a:ext cx="11214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41920" y="2352960"/>
              <a:ext cx="11214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tertai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41920" y="2913840"/>
              <a:ext cx="11214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41920" y="3474720"/>
              <a:ext cx="11214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41920" y="4035600"/>
              <a:ext cx="11214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ther de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01520" y="1932480"/>
              <a:ext cx="0" cy="224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01520" y="4176000"/>
              <a:ext cx="1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01520" y="3615120"/>
              <a:ext cx="1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01520" y="3054240"/>
              <a:ext cx="1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1520" y="2493360"/>
              <a:ext cx="1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01520" y="1932480"/>
              <a:ext cx="1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21080" y="29138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78840" y="291384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17960" y="151164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17960" y="221256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17960" y="291384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17960" y="361512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17960" y="4316400"/>
              <a:ext cx="5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61120" y="4736880"/>
              <a:ext cx="140220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ome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63680" y="4596480"/>
              <a:ext cx="1261800" cy="56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nection and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03720" y="1511640"/>
              <a:ext cx="1121400" cy="308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wer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nWorks, CeBus, S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, HomeRF, IEEE802.11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ne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me P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ne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 Connection and protoc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98400" y="5017320"/>
              <a:ext cx="84096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15760" y="5017320"/>
              <a:ext cx="98136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75360" y="5438160"/>
              <a:ext cx="21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81040" y="5438160"/>
              <a:ext cx="2804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75360" y="5438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678840" y="5297400"/>
              <a:ext cx="140040" cy="140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1434960" y="5297400"/>
              <a:ext cx="140040" cy="140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940280" y="5297400"/>
              <a:ext cx="140040" cy="140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885440" y="5297400"/>
              <a:ext cx="140040" cy="140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76640" y="5578200"/>
              <a:ext cx="84096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62400" y="5578200"/>
              <a:ext cx="841320" cy="42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972-0CF5-41BD-8BF8-158A20752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myBundles.service.diction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DictionaryServic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ring getDefinition(String wor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ring[] getDefinitions(char alph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B99-269E-4B7C-BB55-8EE4B1E2C1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ep 2: Implement the Servi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ervice has its own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at least one class that implements the interf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myBundles.impl.dictiona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myBundles.service.dictionary.DictionaryServi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Devil implements DictionaryServic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Properties def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l() { . . . . . .} . . .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7FD-1E29-4966-B738-2E59C56E6E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ep 3: Create the bundle Activator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ndle Activator object implements the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org.osgi.framework.BundleActiv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erfa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start / st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thod of the Bundle Activator, the programmer encloses the operations that the bundle executes when started/stopped. Such operation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bundle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hen started, start is called by the Frame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gistering the services in a bundle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ferring to other services to retrieve data for the proper operation of the bundle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tarting threads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bundle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st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hen stopped, the Framework invokes stop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nregistering the services in the bundle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leasing all engaged services when resolving the bundle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erminating threads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ivator class must be specified as “public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671-173D-45CB-825E-F8B0109283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Activator implements BundleActivato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ServiceRegistration devilRe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ndleContext ctx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Service devil = new Devi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devilProps = new Propertie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lProps.put("author", "Ambrose Bierc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lProps.put("description", "The Devil's Dectionary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lReg = ctxt.registerServic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yBundles.service.dictionary.DictionaryService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l, devilProp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ndleContext ctx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devilReg !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lReg.unregist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4E6-199F-4D94-9EB4-3001359C27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ep 4: Manifest fi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ext file that contains miscellaneous properties and values of bund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undle has a Bundle Activator and the Bundle-Activator header is missing in the manifest, the bundle may not start and no error may be ind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experience problems with dynamic class loading if you have not correctly specified the Import-Package and Export-Package hea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 the Bundle-Activator header you specify a class that does not implement org.osgi.framework.BundleActivator, the framework will throw a ClassCastException at bundle start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are that you leave an empty space after a header, after a comma or a semicolon. Otherwise, the framework will not read the header information and load the necessary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062-D356-4BD9-9456-5D7134D74C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-Packag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yBundles.service.dictiona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-Activat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yBundles.impl.dictionary.Activa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-Service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ctionar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fest-Version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-Vendor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BC In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-Version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.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8F8-36D6-48E5-B664-4F2A5078201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ep 5: Generate JAR Fi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your source code with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–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com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r cmf Manifest yourJar.jar *.cla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appropriat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bundle JAR does not include the Bundle Activator specified in the manifest, the framework will throw a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lassNotFoundEx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bundle start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09A-C519-46EF-A8B9-EF0990224E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ent bundles and service bundl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ient bundle, also called the calling bundle, tries to obtain and call the registered services provided by other bu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rvice bundle, also called server bundle, provides service implementations and register its service with th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1CD-5B3D-4301-8D7F-3E1E794FFB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ll a service from another bundl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an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Import-Packag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header in the manifest of the client bundle. The value specifies the name of the package that is expected to be exported by the server bundle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ll BundleContext’s getServiceReference method, specifying the name of the service interface to obtain ServiceReference to the servic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ll BundleContext’s getService method, passing in ServiceReference obtained in step 2, to get the service object itself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CD6-7326-4EE2-92F3-61FA572C099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CallActivator implements BundleActiva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tart(BundleContext ctxt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Reference[] ref = ctxt.getServiceReferences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myBundles.service.dictionary.DictionaryService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(description=The Devil's Dictionary)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re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"The Devil's Dictionary "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rvice has not been registered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ionaryService ds = (DictionaryService) ctxt.getService(ref[0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[] aDefs = ds.getDefinitions('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Defs !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=0; i&lt;aDefs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aDefs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9DE-6114-46EE-92EC-6A620531A5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526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SGi Spec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75248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Gi Specification 1.0, Ma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Gi Specification 2.0, October 200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2 pages, book pu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OSGi World Congress, 9/24-27/0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775-D3D9-4E3D-AE48-8E8ABDACF6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Gi is about delivering services over WAN to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dle is a packaging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dle is a functional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ndle can be installed, started, updated, stopped, and un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depend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 with bu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328-C045-4032-882F-27EA6FCCA70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mmary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steps to create a bund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ign the service interf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 the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ate the bundle activa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dit the manifest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ile and generate a JAR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teps to call a service from a client bu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9DF-3C65-4F55-96C9-B5EF2C92D73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26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SGi Implement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75248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2.0, Sun Micr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Box, Erics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F3.0,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AR,  R.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SPservlet, Page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Bserver5.1, ProS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RG, Jun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909-0CD2-4DB7-82B4-936DD7A90B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ES2.0 from Sun Micro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28640"/>
            <a:ext cx="85345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delivery of network services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– unified messaging and cal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 and video on demand – view and control programs at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ing – centrally or remotely manage app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– share Internet access and periph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– personalized commerce, news, and re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D37-42EC-4F8F-8645-4B8785E554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-Box from Ericss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1066680"/>
            <a:ext cx="586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MHz 486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MB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MB of flash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 BaseT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al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-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energy control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3C2-F768-4FE6-9760-F60D73BAB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26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CT5000 from Motorol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752480"/>
            <a:ext cx="58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MHz MIPS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MB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grated cabl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 BaseT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B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1394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ed Interne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E6A-3D86-4A23-9C2A-83C364968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0:39:07Z</dcterms:created>
  <dc:creator>Andy Wang</dc:creator>
  <dc:description/>
  <dc:language>en-US</dc:language>
  <cp:lastModifiedBy>wang</cp:lastModifiedBy>
  <dcterms:modified xsi:type="dcterms:W3CDTF">2005-05-15T21:38:55Z</dcterms:modified>
  <cp:revision>140</cp:revision>
  <dc:subject/>
  <dc:title>Component Oriented Programming</dc:title>
</cp:coreProperties>
</file>