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E8DE5-C194-4BDF-8FE0-6C3E66A20E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5"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B4BC78C5-E454-443A-AC12-E0C75FD6C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EB6AA861-3733-4B8B-A6F4-2F5DFDB31D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3"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AF836887-0DC4-4963-8073-B9A3DE2649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BB925E-C538-4C1A-85DE-35A05C7342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8"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2FFD3A1-07B3-43BB-8337-A21E25A5D0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F13BC1-9119-4FD5-80AB-B5FA7E85C1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2"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68F419B8-C28C-473B-96C8-B2C8B06628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28CADB21-A69F-47AE-AB04-BB190D7165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EA11A09-BAF8-4039-BEC0-A909720FB7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7"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E13CD970-6139-495E-A84C-B16BB08C0D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F46FC70-7C5E-4FE0-8FF5-D394A573CA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7C8065A6-6EF2-47AE-9FAC-74809BB417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7EB73047-CE11-48FF-ADA9-94B97E83DE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9C5A6D92-2F1D-4E1E-A903-21D739EB0A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2"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C6DC05C4-98B5-498B-A02A-8D4FE618ED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7"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89D22676-95F1-4C10-BD45-B1598651BE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218AA99-6E39-4ABE-826E-54CDD52A18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42299B68-B993-4B3C-B42D-BC5FA09912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D24A1C82-9120-4C15-8A38-0210EE4DB3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8D372BE-9A50-4E18-A277-78841851A1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3"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FCBA6BF-FF71-4631-A1EB-668901AC88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7"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59292CBA-A730-4D9B-9A81-A32677F4AA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B02E3FE-DDB5-4B40-80BA-31210B1D8D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0C43-1367-4019-B13A-6530085D513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7086600" y="6324480"/>
            <a:ext cx="1981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a:t>
            </a:r>
            <a:br>
              <a:rPr sz="1200"/>
            </a:br>
            <a:r>
              <a:rPr b="0" lang="en-US" sz="1200" spc="-1" strike="noStrike">
                <a:solidFill>
                  <a:srgbClr val="000000"/>
                </a:solidFill>
                <a:latin typeface="Times New Roman"/>
              </a:rPr>
              <a:t>All rights reserved.</a:t>
            </a:r>
            <a:endParaRPr b="0" lang="en-US" sz="1200" spc="-1" strike="noStrike">
              <a:solidFill>
                <a:srgbClr val="000000"/>
              </a:solidFill>
              <a:latin typeface="Times New Roman"/>
            </a:endParaRPr>
          </a:p>
        </p:txBody>
      </p:sp>
      <p:sp>
        <p:nvSpPr>
          <p:cNvPr id="40" name=""/>
          <p:cNvSpPr/>
          <p:nvPr/>
        </p:nvSpPr>
        <p:spPr>
          <a:xfrm>
            <a:off x="7162920" y="152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vantGarde"/>
                <a:ea typeface="Times New Roman"/>
              </a:rPr>
              <a:t>Outline</a:t>
            </a:r>
            <a:endParaRPr b="0" lang="en-US" sz="2000" spc="-1" strike="noStrike">
              <a:solidFill>
                <a:srgbClr val="000000"/>
              </a:solidFill>
              <a:latin typeface="Times New Roman"/>
            </a:endParaRPr>
          </a:p>
        </p:txBody>
      </p:sp>
      <p:grpSp>
        <p:nvGrpSpPr>
          <p:cNvPr id="41" name=""/>
          <p:cNvGrpSpPr/>
          <p:nvPr/>
        </p:nvGrpSpPr>
        <p:grpSpPr>
          <a:xfrm>
            <a:off x="7086240" y="76320"/>
            <a:ext cx="305280" cy="685800"/>
            <a:chOff x="7086240" y="76320"/>
            <a:chExt cx="305280" cy="685800"/>
          </a:xfrm>
        </p:grpSpPr>
        <p:sp>
          <p:nvSpPr>
            <p:cNvPr id="42" name="">
              <a:hlinkClick r:id="" action="ppaction://hlinkshowjump?jump=previousslide"/>
            </p:cNvPr>
            <p:cNvSpPr/>
            <p:nvPr/>
          </p:nvSpPr>
          <p:spPr>
            <a:xfrm rot="5400000">
              <a:off x="7086240" y="759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 name="">
              <a:hlinkClick r:id="" action="ppaction://hlinkshowjump?jump=nextslide"/>
            </p:cNvPr>
            <p:cNvSpPr/>
            <p:nvPr/>
          </p:nvSpPr>
          <p:spPr>
            <a:xfrm rot="16200000">
              <a:off x="7086600" y="457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4" name=""/>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sldNum" idx="2"/>
          </p:nvPr>
        </p:nvSpPr>
        <p:spPr>
          <a:xfrm>
            <a:off x="8686800" y="0"/>
            <a:ext cx="45720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2E50-79F3-43A6-BCFD-FDC1AFF272A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6" name="PlaceHolder 2"/>
          <p:cNvSpPr>
            <a:spLocks noGrp="1"/>
          </p:cNvSpPr>
          <p:nvPr>
            <p:ph type="title"/>
          </p:nvPr>
        </p:nvSpPr>
        <p:spPr>
          <a:xfrm>
            <a:off x="7086240" y="838080"/>
            <a:ext cx="2057400" cy="548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590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vantGarde"/>
              </a:rPr>
              <a:t>Chapter 6 </a:t>
            </a:r>
            <a:br>
              <a:rPr sz="4000"/>
            </a:br>
            <a:r>
              <a:rPr b="1" lang="en-US" sz="4000" spc="-1" strike="noStrike">
                <a:solidFill>
                  <a:srgbClr val="ff3300"/>
                </a:solidFill>
                <a:latin typeface="AvantGarde"/>
              </a:rPr>
              <a:t>.NET Components</a:t>
            </a:r>
            <a:endParaRPr b="1" lang="en-US" sz="4000" spc="-1" strike="noStrike">
              <a:solidFill>
                <a:srgbClr val="ff3300"/>
              </a:solidFill>
              <a:latin typeface="AvantGar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oundation of .NET framework – CLR (cont.)</a:t>
            </a:r>
            <a:endParaRPr b="1" lang="en-US" sz="2800" spc="-1" strike="noStrike">
              <a:solidFill>
                <a:srgbClr val="ff3300"/>
              </a:solidFill>
              <a:latin typeface="AvantGarde"/>
            </a:endParaRPr>
          </a:p>
        </p:txBody>
      </p:sp>
      <p:sp>
        <p:nvSpPr>
          <p:cNvPr id="10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L code is like Java byte code. Regardless of the types of source code programming languages IL codes can communicate with each other by supports of  the CLR. The IL code can be either in the format of executable (.EXE) or Dynamic Link Library (.DL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se IL codes are generated by .NET compiler, they are called  </a:t>
            </a:r>
            <a:r>
              <a:rPr b="0" i="1" lang="en-US" sz="2800" spc="-1" strike="noStrike">
                <a:solidFill>
                  <a:srgbClr val="000000"/>
                </a:solidFill>
                <a:latin typeface="Times New Roman"/>
              </a:rPr>
              <a:t>managed code</a:t>
            </a:r>
            <a:r>
              <a:rPr b="0" lang="en-US" sz="2800" spc="-1" strike="noStrike">
                <a:solidFill>
                  <a:srgbClr val="000000"/>
                </a:solidFill>
                <a:latin typeface="Times New Roman"/>
              </a:rPr>
              <a:t>. The managed code can be executed only on .NET aware platform. Some DLL or EXE generated by non .NET compilers (such as early version of VC++) are called </a:t>
            </a:r>
            <a:r>
              <a:rPr b="0" i="1" lang="en-US" sz="2800" spc="-1" strike="noStrike">
                <a:solidFill>
                  <a:srgbClr val="000000"/>
                </a:solidFill>
                <a:latin typeface="Times New Roman"/>
              </a:rPr>
              <a:t>un-managed</a:t>
            </a:r>
            <a:r>
              <a:rPr b="0" lang="en-US" sz="2800" spc="-1" strike="noStrike">
                <a:solidFill>
                  <a:srgbClr val="000000"/>
                </a:solidFill>
                <a:latin typeface="Times New Roman"/>
              </a:rPr>
              <a:t> c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oundation of .NET framework – CLR (cont.)</a:t>
            </a:r>
            <a:endParaRPr b="1" lang="en-US" sz="2800" spc="-1" strike="noStrike">
              <a:solidFill>
                <a:srgbClr val="ff3300"/>
              </a:solidFill>
              <a:latin typeface="AvantGarde"/>
            </a:endParaRPr>
          </a:p>
        </p:txBody>
      </p:sp>
      <p:graphicFrame>
        <p:nvGraphicFramePr>
          <p:cNvPr id="103" name=""/>
          <p:cNvGraphicFramePr/>
          <p:nvPr/>
        </p:nvGraphicFramePr>
        <p:xfrm>
          <a:off x="1523880" y="914400"/>
          <a:ext cx="6324840" cy="5791320"/>
        </p:xfrm>
        <a:graphic>
          <a:graphicData uri="http://schemas.openxmlformats.org/presentationml/2006/ole">
            <p:oleObj r:id="rId1" spid="">
              <p:embed/>
              <p:pic>
                <p:nvPicPr>
                  <p:cNvPr id="104" name="" descr=""/>
                  <p:cNvPicPr/>
                  <p:nvPr/>
                </p:nvPicPr>
                <p:blipFill>
                  <a:blip r:embed="rId2"/>
                  <a:stretch/>
                </p:blipFill>
                <p:spPr>
                  <a:xfrm>
                    <a:off x="1523880" y="914400"/>
                    <a:ext cx="632484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0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ummary, The CLR is a high performance execution engine. It provides a code-execution environment which manages the code targeting the .NET framework.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de management includes management of memory, thread, security, code verification and IL compi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NET Framework Class Library</a:t>
            </a:r>
            <a:br>
              <a:rPr sz="2800"/>
            </a:br>
            <a:endParaRPr b="1" lang="en-US" sz="2800" spc="-1" strike="noStrike">
              <a:solidFill>
                <a:srgbClr val="ff3300"/>
              </a:solidFill>
              <a:latin typeface="AvantGarde"/>
            </a:endParaRPr>
          </a:p>
        </p:txBody>
      </p:sp>
      <p:sp>
        <p:nvSpPr>
          <p:cNvPr id="10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 framework class library is a collection of reusable basic classes which are well organized by namespaces. The framework class library collects all classes including Windows Foundation Classes (WFC) into a unified set of class, which is a single set of class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mespace is just like a package in Java technology and the class library is just like the Java API structur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amespace consists of many classes and sub-namespaces. It is deployed as a component class library itself and is organized in a component–based hierarchy.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759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NET Framework Class Library (cont.)</a:t>
            </a:r>
            <a:endParaRPr b="1" lang="en-US" sz="2800" spc="-1" strike="noStrike">
              <a:solidFill>
                <a:srgbClr val="ff3300"/>
              </a:solidFill>
              <a:latin typeface="AvantGarde"/>
            </a:endParaRPr>
          </a:p>
        </p:txBody>
      </p:sp>
      <p:sp>
        <p:nvSpPr>
          <p:cNvPr id="11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ot namespace in the class library is System namespace, which contains many basic classes such as Object, Console, and may contain sub-Namespaces such as IO, Net, Data, Remoting,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XML is a sub-Namespace of System namespace which is deployed as System.XML.dll, ADO.NET is available in System.Data.dll which corresponds to System.Data namespace, and Form based UI classes are available in  System.Windows.Forms.dll corresponding to namespace System.Windows.For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NET Framework Class Library (cont.)</a:t>
            </a:r>
            <a:endParaRPr b="1" lang="en-US" sz="2800" spc="-1" strike="noStrike">
              <a:solidFill>
                <a:srgbClr val="ff3300"/>
              </a:solidFill>
              <a:latin typeface="AvantGarde"/>
            </a:endParaRPr>
          </a:p>
        </p:txBody>
      </p:sp>
      <p:sp>
        <p:nvSpPr>
          <p:cNvPr id="1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rs can create custom namespace and organize related classes in a custom namespace.  A namespace can be deployed as an assembly of binary components. Same name classes can be placed in different namespaces because they are referenced by different namespace pref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use classes in a namespace a directive using &lt;namespace&gt; in C# o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 &lt;namespace&gt; in VB must be included at the beginning of code.  The system built-in basic class library is deployed in mscorlib.dll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a:t>
            </a:r>
            <a:endParaRPr b="1" lang="en-US" sz="2800" spc="-1" strike="noStrike">
              <a:solidFill>
                <a:srgbClr val="ff3300"/>
              </a:solidFill>
              <a:latin typeface="AvantGarde"/>
            </a:endParaRPr>
          </a:p>
        </p:txBody>
      </p:sp>
      <p:sp>
        <p:nvSpPr>
          <p:cNvPr id="11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SIL DLL components are replacing COM Components, the MSIL Remoting Channels EXE components  are  replacing DCOM Component, and the Web Service components are new SOAP components intended to be cross-platform, and cross-language web based componen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components are much easier to develop than COM and DCOM.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the .NET component technology is unified language oriented. Any .NET component is in the format of pre-compiled MSIL, which can be binary plugged in by any other MSIL components or any other .NET compatible clie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1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 framework itself is built up in a component model, for example, System namespace System.Runtime.Remoting is available in mscolib.dll and System.XML namespace is available in System.XML.dll. A .dll file is a .NET deployed component (Assembl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amespace is just like a logical package in Java to organize related classes together. An assembly may have many namespaces and one namespace may span over multiple assembly file. The details of .NET assembly will be discussed in the following se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T component is a single pre-compiled and self described MSIL module built from one or more classes or multiple modules deployed in a DLL assembly file. An assembly consists of up to four parts:</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Manifest (table of info records): name of assembly, key info version, strong name, culture info, files that make up assembly, reference depended assemblies exported info.</a:t>
            </a:r>
            <a:endParaRPr b="0" lang="en-US" sz="22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Metadata of modules</a:t>
            </a:r>
            <a:endParaRPr b="0" lang="en-US" sz="22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IL code of module</a:t>
            </a:r>
            <a:endParaRPr b="0" lang="en-US" sz="22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Resources such as image fi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2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dule has MSIL code and its metadata but without manifest. A module is not loadable dynamically. It is used as a building block at the compile time to build up an assembly Module file. It  has a extension of .netmodule. There may be one or many classes in a modul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sembly is made up by one or many classes in a module. Each module may be coded in different languages but finally in same MSIL format. Assembly has a manifest file to self-describe the component itself.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sembly has a file extension .dll or .exe and is dynamically loadable. That is why most people say .NET component is an Assembly (We will say it is deployed in an assembly). A .dll file is not executable just like a class file is a byte code file that is not executa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vantGarde"/>
              </a:rPr>
              <a:t>Objectives of</a:t>
            </a:r>
            <a:r>
              <a:rPr b="1" lang="en-US" sz="2800" spc="-1" strike="noStrike">
                <a:solidFill>
                  <a:srgbClr val="ff3300"/>
                </a:solidFill>
                <a:latin typeface="AvantGarde"/>
              </a:rPr>
              <a:t> Chapter 6 .NET Components</a:t>
            </a:r>
            <a:br>
              <a:rPr sz="2800"/>
            </a:br>
            <a:endParaRPr b="1" lang="en-US" sz="2800" spc="-1" strike="noStrike">
              <a:solidFill>
                <a:srgbClr val="ff3300"/>
              </a:solidFill>
              <a:latin typeface="AvantGarde"/>
            </a:endParaRPr>
          </a:p>
        </p:txBody>
      </p:sp>
      <p:sp>
        <p:nvSpPr>
          <p:cNvPr id="8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NET framewor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the concepts of .NET compon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he types of .NET components, connections of components, and their deploy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 local and distributed componen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 aggregation and containment composi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 synchronous and asynchronous method invo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step by step tutorials on building, deploying, and using .NET compon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2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different types of components in the .NET framework. We can classify them into visual or non-visual component categori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isual component is a control which can be deployed in a toolbox as an icon for  “drag and drop” in a window form container. We focus on non-visual component, which is known as .NET compon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2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 component can be a local component (.dll), which can only be accessed locally (within same application domain), in same machine or a remote (distributed) component (.exe), which can be accessed remotely (across application domains) in same machine or different machin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domain is a lightweight process, which can be started or stopped independently within a process. It is just another level of the isolation in .NET. The idea is very similar to out-of-process DLL prior to .NE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component cannot directly access a component in another application domain or process because each application domain has its own memory spa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2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T DLL component can be deployed as a private component, which knows the target client or can be deployed as a shared public component, which does not know the target client. A DLL component can be plugged-in to Windows form, Web form of another DLL or applic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28" name="PlaceHolder 2"/>
          <p:cNvSpPr>
            <a:spLocks noGrp="1"/>
          </p:cNvSpPr>
          <p:nvPr>
            <p:ph/>
          </p:nvPr>
        </p:nvSpPr>
        <p:spPr>
          <a:xfrm>
            <a:off x="685440" y="1218960"/>
            <a:ext cx="7924680" cy="5257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s take a look at a very simple sample component in C#. This component provides services of converting temperature between F</a:t>
            </a:r>
            <a:r>
              <a:rPr b="0" lang="en-US" sz="2000" spc="-1" strike="noStrike">
                <a:solidFill>
                  <a:srgbClr val="000000"/>
                </a:solidFill>
                <a:latin typeface="Symbol"/>
                <a:ea typeface="Symbol"/>
              </a:rPr>
              <a:t></a:t>
            </a:r>
            <a:r>
              <a:rPr b="0" lang="en-US" sz="2000" spc="-1" strike="noStrike">
                <a:solidFill>
                  <a:srgbClr val="000000"/>
                </a:solidFill>
                <a:latin typeface="Times New Roman"/>
              </a:rPr>
              <a:t> and C</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ing of TempConvComp.CS:</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System;</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space TempConv</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ublic class TempConvComp</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ublic double cToF (double c)</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return (int) ((c*9)/5.0+32);</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ublic double fToC (double f)</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return (int) ((f-32)*5/9.0);</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3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build a module from it by the following comman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r>
              <a:rPr b="1" lang="en-US" sz="2400" spc="-1" strike="noStrike">
                <a:solidFill>
                  <a:srgbClr val="000000"/>
                </a:solidFill>
                <a:latin typeface="Times New Roman"/>
              </a:rPr>
              <a:t>csc  /t:module TempConvComp.cs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TempConvComp.netmodu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dule can be added to a component b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csc  /t:library /addmodule: TempConvComp.netmodule anotherComp.dl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we can build a DLL component by the comman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csc  /t:library TempConvComp.cs</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TempConvComp.d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are two clients of this component. One is TempConvCSClient.cs in C# and the other is TempConvCppClient.cpp in C++. Both of them reuse this TempConvComp compone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list is the C# program list of the client of TempConvComp compone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System;</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empConv;</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MainApp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static void Main()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mpConv.TempConvComp myCSTempConvComp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w TempConv.TempConvCom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uble choic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uble inpu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uble outpu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ool next = tr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3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le (nex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sole.WriteLine("Please enter your choic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 Converter from F to C,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 from C to F,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 exi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oice=Double.Parse(Console.ReadLin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choice == 1)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sole.WriteLine("Please tell me the temperature in F: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put=Double.Parse(Console.ReadLin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utput = myCSTempConvComp.fToC(inpu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sole.WriteLine(outpu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3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if (choice ==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sole.WriteLine("Please tell me the temperature in C: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put=Double.Parse (Console.ReadLin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utput = myCSTempConvComp.cToF(inpu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sole.WriteLine(outpu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xt= fal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sole.WriteLine ("See you next tim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3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empConvCSClient.cs the client loads TempConv namespace by “using TemConv” directive and instantiates an instance of the TemConvComp component and invokes fToC() and cToF() methods provided by this compon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ent application in C# can be built by the following comm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csc /t:exe /r:TempConvTemp.dll TempConvCSClient.cs</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TempConvCSClient.ex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is the managed C++ program list of the client of TempConvComp compon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is is the main project file for VC++ application projec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enerated using an Application Wiz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4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stdafx.h"</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lt;iostream&g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lt;mscorlib.dll&g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empConv.dll"</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namespace System;</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namespace std;</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his is the entry point for this application</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def _UNICODE</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wmain(void)</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se</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main(void)</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if</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 choice;</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inpu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uble outpu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ool next = true;</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empConv::TempConvComp * myCSConvComp =</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ew TempConv::TempConvComp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verview of .NET Framework</a:t>
            </a:r>
            <a:endParaRPr b="1" lang="en-US" sz="2800" spc="-1" strike="noStrike">
              <a:solidFill>
                <a:srgbClr val="ff3300"/>
              </a:solidFill>
              <a:latin typeface="AvantGarde"/>
            </a:endParaRPr>
          </a:p>
        </p:txBody>
      </p:sp>
      <p:sp>
        <p:nvSpPr>
          <p:cNvPr id="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 framework is one of the newest technologies introduced by Microsoft Corporation. Its first Beta version was released in 200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 framework is a platform for rapid and easier building, deploying, and running secured .NET software components to be integrated in applications as well as for rapid developing XML web services and applicatio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rovides a highly productive, component-based, multi-languages environment for integrating existing applications with internet to meet the challenges of new applications for deployment and operation of internet-scale ap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42"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fontScale="93000"/>
          </a:bodyPr>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hile (next) {</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Console::WriteLine(S"Please enter your choice: </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1 - Converter from F to C,</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2 - from C to F, </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3 - exi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cin&gt;&gt;choice;</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if (choice == 1) {</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Console::WriteLine(S"Please input the temperature in F: ");</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cin&gt;&gt;inpu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output = myCSConvComp-&gt;fToC(inpu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Console::WriteLine(outpu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else if (choice == 2){</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Console::WriteLine(S"Please input the temperature in C: ");</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cin&gt;&gt;inpu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output = myCSConvComp-&gt;cToF(inpu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Console::WriteLine(outpu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else {</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next= false;</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Console::WriteLine (S"See you next time.");</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return 0;</a:t>
            </a:r>
            <a:endParaRPr b="0" lang="en-US" sz="1500" spc="-1" strike="noStrike">
              <a:solidFill>
                <a:srgbClr val="000000"/>
              </a:solidFill>
              <a:latin typeface="Times New Roman"/>
            </a:endParaRPr>
          </a:p>
          <a:p>
            <a:pPr marL="318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NET (cont.)</a:t>
            </a:r>
            <a:endParaRPr b="1" lang="en-US" sz="2800" spc="-1" strike="noStrike">
              <a:solidFill>
                <a:srgbClr val="ff3300"/>
              </a:solidFill>
              <a:latin typeface="AvantGarde"/>
            </a:endParaRPr>
          </a:p>
        </p:txBody>
      </p:sp>
      <p:sp>
        <p:nvSpPr>
          <p:cNvPr id="1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46" name=""/>
          <p:cNvGraphicFramePr/>
          <p:nvPr/>
        </p:nvGraphicFramePr>
        <p:xfrm>
          <a:off x="2819520" y="1447920"/>
          <a:ext cx="3909960" cy="4838760"/>
        </p:xfrm>
        <a:graphic>
          <a:graphicData uri="http://schemas.openxmlformats.org/presentationml/2006/ole">
            <p:oleObj r:id="rId1" spid="">
              <p:embed/>
              <p:pic>
                <p:nvPicPr>
                  <p:cNvPr id="147" name="" descr=""/>
                  <p:cNvPicPr/>
                  <p:nvPr/>
                </p:nvPicPr>
                <p:blipFill>
                  <a:blip r:embed="rId2"/>
                  <a:stretch/>
                </p:blipFill>
                <p:spPr>
                  <a:xfrm>
                    <a:off x="2819520" y="1447920"/>
                    <a:ext cx="390996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nnection Model of .NET</a:t>
            </a:r>
            <a:br>
              <a:rPr sz="2800"/>
            </a:br>
            <a:endParaRPr b="1" lang="en-US" sz="2800" spc="-1" strike="noStrike">
              <a:solidFill>
                <a:srgbClr val="ff3300"/>
              </a:solidFill>
              <a:latin typeface="AvantGarde"/>
            </a:endParaRPr>
          </a:p>
        </p:txBody>
      </p:sp>
      <p:sp>
        <p:nvSpPr>
          <p:cNvPr id="14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component composition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onent compositions enable the component reuse in either aggregation compositions  or containment composition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ggregation composition model the service of inner component hands out its service directly to the client of outer component. In aggregation composition the outer component exposes the interfaces of inner component.  The innerM() method of inner component  becomes part of interface to the outer componen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NET component compositions (cont.)</a:t>
            </a:r>
            <a:endParaRPr b="1" lang="en-US" sz="2800" spc="-1" strike="noStrike">
              <a:solidFill>
                <a:srgbClr val="ff3300"/>
              </a:solidFill>
              <a:latin typeface="AvantGarde"/>
            </a:endParaRPr>
          </a:p>
        </p:txBody>
      </p:sp>
      <p:graphicFrame>
        <p:nvGraphicFramePr>
          <p:cNvPr id="151" name=""/>
          <p:cNvGraphicFramePr/>
          <p:nvPr/>
        </p:nvGraphicFramePr>
        <p:xfrm>
          <a:off x="2368440" y="3144960"/>
          <a:ext cx="4407120" cy="1406520"/>
        </p:xfrm>
        <a:graphic>
          <a:graphicData uri="http://schemas.openxmlformats.org/presentationml/2006/ole">
            <p:oleObj r:id="rId1" spid="">
              <p:embed/>
              <p:pic>
                <p:nvPicPr>
                  <p:cNvPr id="152" name="" descr=""/>
                  <p:cNvPicPr/>
                  <p:nvPr/>
                </p:nvPicPr>
                <p:blipFill>
                  <a:blip r:embed="rId2"/>
                  <a:stretch/>
                </p:blipFill>
                <p:spPr>
                  <a:xfrm>
                    <a:off x="2368440" y="3144960"/>
                    <a:ext cx="4407120" cy="14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NET component compositions (cont.)</a:t>
            </a:r>
            <a:endParaRPr b="1" lang="en-US" sz="2800" spc="-1" strike="noStrike">
              <a:solidFill>
                <a:srgbClr val="ff3300"/>
              </a:solidFill>
              <a:latin typeface="AvantGarde"/>
            </a:endParaRPr>
          </a:p>
        </p:txBody>
      </p:sp>
      <p:sp>
        <p:nvSpPr>
          <p:cNvPr id="1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containment compositions, if a request to the outer component needs helps from an inner component the request is forwarded to that inner compon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component does not expose the interface of the inner component. The containment is transparent to the client of an outer compon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lient is blind of the handler of the request. The outerM2()  delegates a request to the innerM() method of inner compon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NET component compositions (cont.)</a:t>
            </a:r>
            <a:endParaRPr b="1" lang="en-US" sz="2800" spc="-1" strike="noStrike">
              <a:solidFill>
                <a:srgbClr val="ff3300"/>
              </a:solidFill>
              <a:latin typeface="AvantGarde"/>
            </a:endParaRPr>
          </a:p>
        </p:txBody>
      </p:sp>
      <p:graphicFrame>
        <p:nvGraphicFramePr>
          <p:cNvPr id="156" name=""/>
          <p:cNvGraphicFramePr/>
          <p:nvPr/>
        </p:nvGraphicFramePr>
        <p:xfrm>
          <a:off x="2397240" y="3135240"/>
          <a:ext cx="4349520" cy="1425600"/>
        </p:xfrm>
        <a:graphic>
          <a:graphicData uri="http://schemas.openxmlformats.org/presentationml/2006/ole">
            <p:oleObj r:id="rId1" spid="">
              <p:embed/>
              <p:pic>
                <p:nvPicPr>
                  <p:cNvPr id="157" name="" descr=""/>
                  <p:cNvPicPr/>
                  <p:nvPr/>
                </p:nvPicPr>
                <p:blipFill>
                  <a:blip r:embed="rId2"/>
                  <a:stretch/>
                </p:blipFill>
                <p:spPr>
                  <a:xfrm>
                    <a:off x="2397240" y="3135240"/>
                    <a:ext cx="4349520" cy="142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NET component compositions (cont.)</a:t>
            </a:r>
            <a:endParaRPr b="1" lang="en-US" sz="2800" spc="-1" strike="noStrike">
              <a:solidFill>
                <a:srgbClr val="ff3300"/>
              </a:solidFill>
              <a:latin typeface="AvantGarde"/>
            </a:endParaRPr>
          </a:p>
        </p:txBody>
      </p:sp>
      <p:sp>
        <p:nvSpPr>
          <p:cNvPr id="15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T component can also be composed by mixed aggregations and containments in a flat structure or nested compositions in multiple levels in dept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we use an example to explain the concepts of combined containment and aggregation compos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NET component compositions (cont.)</a:t>
            </a:r>
            <a:endParaRPr b="1" lang="en-US" sz="2800" spc="-1" strike="noStrike">
              <a:solidFill>
                <a:srgbClr val="ff3300"/>
              </a:solidFill>
              <a:latin typeface="AvantGarde"/>
            </a:endParaRPr>
          </a:p>
        </p:txBody>
      </p:sp>
      <p:sp>
        <p:nvSpPr>
          <p:cNvPr id="16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yst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pace NS1</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class Inn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ublic void innerM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sole.WriteLine (“I am Inn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yst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NS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NET component compositions (cont.)</a:t>
            </a:r>
            <a:endParaRPr b="1" lang="en-US" sz="2800" spc="-1" strike="noStrike">
              <a:solidFill>
                <a:srgbClr val="ff3300"/>
              </a:solidFill>
              <a:latin typeface="AvantGarde"/>
            </a:endParaRPr>
          </a:p>
        </p:txBody>
      </p:sp>
      <p:sp>
        <p:nvSpPr>
          <p:cNvPr id="16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0000"/>
          </a:bodyPr>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ublic class Outer</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public Inner i = new Inner ();   //aggregation: Outer expose the Inner</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public void outerM1 ()</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Console.WriteLine (“I am outer.”);</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public void outerM2()            //delegation in containmen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i.innerM(); </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public static void main()</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outer o1 = new Outer();</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Inner i1 =  o1.i;</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i1.innerM();  //interface to  the aggregate</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o1.outerM();</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1.outerM2(); // interface to the containmen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sv-SE" sz="1700" spc="-1" strike="noStrike">
                <a:solidFill>
                  <a:srgbClr val="000000"/>
                </a:solidFill>
                <a:latin typeface="Times New Roman"/>
              </a:rPr>
              <a:t>Inner i2 = new Inner();</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0000"/>
                </a:solidFill>
                <a:latin typeface="Times New Roman"/>
              </a:rPr>
              <a:t>	</a:t>
            </a:r>
            <a:r>
              <a:rPr b="0" lang="sv-SE" sz="1700" spc="-1" strike="noStrike">
                <a:solidFill>
                  <a:srgbClr val="000000"/>
                </a:solidFill>
                <a:latin typeface="Times New Roman"/>
              </a:rPr>
              <a:t>	</a:t>
            </a:r>
            <a:r>
              <a:rPr b="0" lang="sv-SE" sz="1700" spc="-1" strike="noStrike">
                <a:solidFill>
                  <a:srgbClr val="000000"/>
                </a:solidFill>
                <a:latin typeface="Times New Roman"/>
              </a:rPr>
              <a:t>i2.innerM(); </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0000"/>
                </a:solidFill>
                <a:latin typeface="Times New Roman"/>
              </a:rPr>
              <a:t>	</a:t>
            </a:r>
            <a:r>
              <a:rPr b="0" lang="en-US" sz="1700" spc="-1" strike="noStrike">
                <a:solidFill>
                  <a:srgbClr val="000000"/>
                </a:solidFill>
                <a:latin typeface="Times New Roman"/>
              </a:rPr>
              <a:t>}</a:t>
            </a:r>
            <a:endParaRPr b="0" lang="en-US" sz="1700" spc="-1" strike="noStrike">
              <a:solidFill>
                <a:srgbClr val="000000"/>
              </a:solidFill>
              <a:latin typeface="Times New Roman"/>
            </a:endParaRPr>
          </a:p>
          <a:p>
            <a:pPr marL="3085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NET component compositions (cont.)</a:t>
            </a:r>
            <a:endParaRPr b="1" lang="en-US" sz="2800" spc="-1" strike="noStrike">
              <a:solidFill>
                <a:srgbClr val="ff3300"/>
              </a:solidFill>
              <a:latin typeface="AvantGarde"/>
            </a:endParaRPr>
          </a:p>
        </p:txBody>
      </p:sp>
      <p:sp>
        <p:nvSpPr>
          <p:cNvPr id="16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7" name=""/>
          <p:cNvGraphicFramePr/>
          <p:nvPr/>
        </p:nvGraphicFramePr>
        <p:xfrm>
          <a:off x="1828800" y="2971800"/>
          <a:ext cx="5105520" cy="1825560"/>
        </p:xfrm>
        <a:graphic>
          <a:graphicData uri="http://schemas.openxmlformats.org/presentationml/2006/ole">
            <p:oleObj r:id="rId1" spid="">
              <p:embed/>
              <p:pic>
                <p:nvPicPr>
                  <p:cNvPr id="168" name="" descr=""/>
                  <p:cNvPicPr/>
                  <p:nvPr/>
                </p:nvPicPr>
                <p:blipFill>
                  <a:blip r:embed="rId2"/>
                  <a:stretch/>
                </p:blipFill>
                <p:spPr>
                  <a:xfrm>
                    <a:off x="1828800" y="2971800"/>
                    <a:ext cx="5105520" cy="182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verview of .NET Framework (cont.)</a:t>
            </a:r>
            <a:endParaRPr b="1" lang="en-US" sz="2800" spc="-1" strike="noStrike">
              <a:solidFill>
                <a:srgbClr val="ff3300"/>
              </a:solidFill>
              <a:latin typeface="AvantGarde"/>
            </a:endParaRPr>
          </a:p>
        </p:txBody>
      </p:sp>
      <p:sp>
        <p:nvSpPr>
          <p:cNvPr id="8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 framework encompasses a virtual machine that provides a new platform for software development. The core of the .NET framework includes XML and Simple Object Access Protocol (SOAP) to provide web services over Intern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cept of the .NET framework is to facilitate the developments of desktop, window, and web-based application services on Windows platform and make them available and accessible not only on Windows platform but also on other platforms through common protocols such as SOAP and HTTP.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munication of Components </a:t>
            </a:r>
            <a:br>
              <a:rPr sz="2800"/>
            </a:br>
            <a:r>
              <a:rPr b="1" lang="en-US" sz="2800" spc="-1" strike="noStrike">
                <a:solidFill>
                  <a:srgbClr val="ff3300"/>
                </a:solidFill>
                <a:latin typeface="AvantGarde"/>
              </a:rPr>
              <a:t>by Event and Delegate</a:t>
            </a:r>
            <a:br>
              <a:rPr sz="2800"/>
            </a:br>
            <a:endParaRPr b="1" lang="en-US" sz="2800" spc="-1" strike="noStrike">
              <a:solidFill>
                <a:srgbClr val="ff3300"/>
              </a:solidFill>
              <a:latin typeface="AvantGarde"/>
            </a:endParaRPr>
          </a:p>
        </p:txBody>
      </p:sp>
      <p:sp>
        <p:nvSpPr>
          <p:cNvPr id="1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 Delegate is a method type (a reference to a method) which is similar to function pointer in C++, but it is type-safe and secure. A delegate will delegate a flow control to its registered event handler when the event is raised. It works in the pattern of observer which is kind of event listener in Jav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stance of a Delegate can hold a static method of a class or a method of a component or a method of object itsel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ypes of Delegates: SingleCast or MultiCa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The communication of Components </a:t>
            </a:r>
            <a:br>
              <a:rPr sz="3200"/>
            </a:br>
            <a:r>
              <a:rPr b="1" lang="en-US" sz="3200" spc="-1" strike="noStrike">
                <a:solidFill>
                  <a:srgbClr val="ff3300"/>
                </a:solidFill>
                <a:latin typeface="AvantGarde"/>
              </a:rPr>
              <a:t>by Event and Delegate (cont.)</a:t>
            </a:r>
            <a:endParaRPr b="1" lang="en-US" sz="3200" spc="-1" strike="noStrike">
              <a:solidFill>
                <a:srgbClr val="ff3300"/>
              </a:solidFill>
              <a:latin typeface="AvantGarde"/>
            </a:endParaRPr>
          </a:p>
        </p:txBody>
      </p:sp>
      <p:sp>
        <p:nvSpPr>
          <p:cNvPr id="1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ngleCast Delegate can only delegate one method  at a time seen in following exampl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gate int Mydelegat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ass MyClas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ublic int ObjMethod() {- -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c public int  StaticMethod () {- -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ass Drive { Static public void Mai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yclass c = new MyCla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Delegate dlg = new  MyDelegate(c.objMetho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l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lg = new MyDelegate (MyClass.StaticMetho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l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The communication of Components </a:t>
            </a:r>
            <a:br>
              <a:rPr sz="3200"/>
            </a:br>
            <a:r>
              <a:rPr b="1" lang="en-US" sz="3200" spc="-1" strike="noStrike">
                <a:solidFill>
                  <a:srgbClr val="ff3300"/>
                </a:solidFill>
                <a:latin typeface="AvantGarde"/>
              </a:rPr>
              <a:t>by Event and Delegate (cont.)</a:t>
            </a:r>
            <a:endParaRPr b="1" lang="en-US" sz="3200" spc="-1" strike="noStrike">
              <a:solidFill>
                <a:srgbClr val="ff3300"/>
              </a:solidFill>
              <a:latin typeface="AvantGarde"/>
            </a:endParaRPr>
          </a:p>
        </p:txBody>
      </p:sp>
      <p:sp>
        <p:nvSpPr>
          <p:cNvPr id="17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seen in this example, MyDelegate is a Delegate which references any method with int return type and without any parameter.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atures of objMethod and StaticMethod match the Delegate MyDelegat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dlg() invokes objMethod and second dlg() invokes class method StaticMeth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The communication of Components </a:t>
            </a:r>
            <a:br>
              <a:rPr sz="3200"/>
            </a:br>
            <a:r>
              <a:rPr b="1" lang="en-US" sz="3200" spc="-1" strike="noStrike">
                <a:solidFill>
                  <a:srgbClr val="ff3300"/>
                </a:solidFill>
                <a:latin typeface="AvantGarde"/>
              </a:rPr>
              <a:t>by Event and Delegate (cont.)</a:t>
            </a:r>
            <a:endParaRPr b="1" lang="en-US" sz="3200" spc="-1" strike="noStrike">
              <a:solidFill>
                <a:srgbClr val="ff3300"/>
              </a:solidFill>
              <a:latin typeface="AvantGarde"/>
            </a:endParaRPr>
          </a:p>
        </p:txBody>
      </p:sp>
      <p:sp>
        <p:nvSpPr>
          <p:cNvPr id="17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ultiCast Delegate has a void return type and can bind multiple methods and it will invoke them in the order of registratio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gate void MultiDeleg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Delegate mdlg = nu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dlg += new MultDelegate (Method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dlg += new MultiDelegate (Method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is done by += Delegate operation and unregistration is done by -= oper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egate plays a role of listener and event handler must register this listener to be able to handle the event once the event is fired off.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The communication of Components </a:t>
            </a:r>
            <a:br>
              <a:rPr sz="3200"/>
            </a:br>
            <a:r>
              <a:rPr b="1" lang="en-US" sz="3200" spc="-1" strike="noStrike">
                <a:solidFill>
                  <a:srgbClr val="ff3300"/>
                </a:solidFill>
                <a:latin typeface="AvantGarde"/>
              </a:rPr>
              <a:t>by Event and Delegate (cont.)</a:t>
            </a:r>
            <a:endParaRPr b="1" lang="en-US" sz="3200" spc="-1" strike="noStrike">
              <a:solidFill>
                <a:srgbClr val="ff3300"/>
              </a:solidFill>
              <a:latin typeface="AvantGarde"/>
            </a:endParaRPr>
          </a:p>
        </p:txBody>
      </p:sp>
      <p:sp>
        <p:nvSpPr>
          <p:cNvPr id="17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vent is a message sent by an object to invoke an action. The object that raises the event is event source and object intercepts the event and handles the event is event targ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n event-driven communication model between components or within same component. The Delegate class is the communication channel class between event source and event targe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 can be predefined event such as an event trigger by a Windows Form component. A developer can also define a custom ev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The communication of Components </a:t>
            </a:r>
            <a:br>
              <a:rPr sz="3200"/>
            </a:br>
            <a:r>
              <a:rPr b="1" lang="en-US" sz="3200" spc="-1" strike="noStrike">
                <a:solidFill>
                  <a:srgbClr val="ff3300"/>
                </a:solidFill>
                <a:latin typeface="AvantGarde"/>
              </a:rPr>
              <a:t>by Event and Delegate (cont.)</a:t>
            </a:r>
            <a:endParaRPr b="1" lang="en-US" sz="3200" spc="-1" strike="noStrike">
              <a:solidFill>
                <a:srgbClr val="ff3300"/>
              </a:solidFill>
              <a:latin typeface="AvantGarde"/>
            </a:endParaRPr>
          </a:p>
        </p:txBody>
      </p:sp>
      <p:sp>
        <p:nvSpPr>
          <p:cNvPr id="18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reate a delegate cla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delegate void DelegateStar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reate a class containing a delegate field, Class MyCla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public event Delegate Start EventStar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Define an event handl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void handleEvent(){ - -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Bind delegate event with event handler via event listener, trigger an event, invoke the event handl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static void Main() { MyClass EventObj = new MyCla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entObj.EventStart += new DelegateStart(handleEv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entObj.EventStar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_ _ _</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Remoting Connectors for .NET Distributed Components</a:t>
            </a:r>
            <a:br>
              <a:rPr sz="2400"/>
            </a:br>
            <a:endParaRPr b="1" lang="en-US" sz="2400" spc="-1" strike="noStrike">
              <a:solidFill>
                <a:srgbClr val="ff3300"/>
              </a:solidFill>
              <a:latin typeface="AvantGarde"/>
            </a:endParaRPr>
          </a:p>
        </p:txBody>
      </p:sp>
      <p:sp>
        <p:nvSpPr>
          <p:cNvPr id="1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onent or a client cannot directly access a remote component running in different application domain in same or different processes unless using Remoting channel connection. </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rshaling makes it possible to invoke a remote method of a distributed component. </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ways to marshal an object: in MBV (Marshal by Value) server passes a copy of object to client or in Marshal by Reference (MBR) client creates a proxy of a remote object. </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remote component must run at a remote site, MBR is the only cho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Remoting Connectors for .NET</a:t>
            </a:r>
            <a:br>
              <a:rPr sz="2800"/>
            </a:br>
            <a:r>
              <a:rPr b="1" lang="en-US" sz="2800" spc="-1" strike="noStrike">
                <a:solidFill>
                  <a:srgbClr val="ff3300"/>
                </a:solidFill>
                <a:latin typeface="AvantGarde"/>
              </a:rPr>
              <a:t> Distributed Components (cont.)</a:t>
            </a:r>
            <a:endParaRPr b="1" lang="en-US" sz="2800" spc="-1" strike="noStrike">
              <a:solidFill>
                <a:srgbClr val="ff3300"/>
              </a:solidFill>
              <a:latin typeface="AvantGarde"/>
            </a:endParaRPr>
          </a:p>
        </p:txBody>
      </p:sp>
      <p:sp>
        <p:nvSpPr>
          <p:cNvPr id="18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annel is the way to implement  communications between clients and remote components. We use TCP channel in our exam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hannel is similar to the socket communication in Java. Each channel must bind with a port. A client channel binds a client port and the server channel binds a port on the server.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reate TCP channel on port 4000 and register the channel with the remote class and URI name, which will be used by client to get an object of remote component. We also need to create a TCP channel and register it on the client sit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Remoting Connectors for .NET</a:t>
            </a:r>
            <a:br>
              <a:rPr sz="3200"/>
            </a:br>
            <a:r>
              <a:rPr b="1" lang="en-US" sz="3200" spc="-1" strike="noStrike">
                <a:solidFill>
                  <a:srgbClr val="ff3300"/>
                </a:solidFill>
                <a:latin typeface="AvantGarde"/>
              </a:rPr>
              <a:t> Distributed Components (cont.)</a:t>
            </a:r>
            <a:endParaRPr b="1" lang="en-US" sz="3200" spc="-1" strike="noStrike">
              <a:solidFill>
                <a:srgbClr val="ff3300"/>
              </a:solidFill>
              <a:latin typeface="AvantGarde"/>
            </a:endParaRPr>
          </a:p>
        </p:txBody>
      </p:sp>
      <p:sp>
        <p:nvSpPr>
          <p:cNvPr id="18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System;</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System.Runtime.Remoting; </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System.Runtime.Remoting.Channels; </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System.Runtime.Remoting.Channels.Tcp;</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ublic class CoTempConv : MarshalByRefObjec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ublic static void Main()</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cpChannel channel = new TcpChannel(4000);</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hannelServices.RegisterChannel(channel);</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emotingConfiguration.RegisterWellKnownServiceType (</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ypeof(CoTempConv),</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empConvCompDotNe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ellKnownObjectMode.Singleton</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ystem.Console.WriteLine("Hit &lt;enter&gt; to exi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ystem.Console.ReadLine();</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Remoting Connectors for .NET</a:t>
            </a:r>
            <a:br>
              <a:rPr sz="3200"/>
            </a:br>
            <a:r>
              <a:rPr b="1" lang="en-US" sz="3200" spc="-1" strike="noStrike">
                <a:solidFill>
                  <a:srgbClr val="ff3300"/>
                </a:solidFill>
                <a:latin typeface="AvantGarde"/>
              </a:rPr>
              <a:t> Distributed Components (cont.)</a:t>
            </a:r>
            <a:endParaRPr b="1" lang="en-US" sz="3200" spc="-1" strike="noStrike">
              <a:solidFill>
                <a:srgbClr val="ff3300"/>
              </a:solidFill>
              <a:latin typeface="AvantGarde"/>
            </a:endParaRPr>
          </a:p>
        </p:txBody>
      </p:sp>
      <p:sp>
        <p:nvSpPr>
          <p:cNvPr id="18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double cToF(double 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eturn (int)((c*9/5.0+32)*100)/10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ublic double fToC(double 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eturn (int)((f-32)*5/9.0*100)/10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verview of .NET Framework (cont.)</a:t>
            </a:r>
            <a:endParaRPr b="1" lang="en-US" sz="2800" spc="-1" strike="noStrike">
              <a:solidFill>
                <a:srgbClr val="ff3300"/>
              </a:solidFill>
              <a:latin typeface="AvantGarde"/>
            </a:endParaRPr>
          </a:p>
        </p:txBody>
      </p:sp>
      <p:sp>
        <p:nvSpPr>
          <p:cNvPr id="9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 .NET simplifies the componentization especially for Component Object Model (COM), Distributed COM (DCOM) technolog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COM components can be reused as  plug-in play software components in component software and application constructions but the development process is too complex and COM does not support versioning (side by side execution), which may cause version conflict (DLL Hell problem).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T technology supports component assembly deployment which allows multiple versions of same named components to coexist without any conflict. .NET technology simplifies the creation, and deployment of components in addition to  securing  reliable and scalable services provided by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Remoting Connectors for .NET</a:t>
            </a:r>
            <a:br>
              <a:rPr sz="3200"/>
            </a:br>
            <a:r>
              <a:rPr b="1" lang="en-US" sz="3200" spc="-1" strike="noStrike">
                <a:solidFill>
                  <a:srgbClr val="ff3300"/>
                </a:solidFill>
                <a:latin typeface="AvantGarde"/>
              </a:rPr>
              <a:t> Distributed Components (cont.)</a:t>
            </a:r>
            <a:endParaRPr b="1" lang="en-US" sz="3200" spc="-1" strike="noStrike">
              <a:solidFill>
                <a:srgbClr val="ff3300"/>
              </a:solidFill>
              <a:latin typeface="AvantGarde"/>
            </a:endParaRPr>
          </a:p>
        </p:txBody>
      </p:sp>
      <p:sp>
        <p:nvSpPr>
          <p:cNvPr id="19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lient of above component. </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System;</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System.Runtime.Remoting;</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System.Runtime.Remoting.Channels;</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System.Runtime.Remoting.Channels.Tcp;</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MainApp </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ublic static void Main() </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ry</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cpChannel channel = new TcpChannel();</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hannelServices.RegisterChannel(channel);</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TempConv myCSTempConvComp = </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TempConv)Activator.GetObjec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ypeof(CoTempConv),</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cp://127.0.0.1:4000/TempConvCompDotNe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uble choice;</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uble inpu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uble output;</a:t>
            </a:r>
            <a:endParaRPr b="0" lang="en-US" sz="1600" spc="-1" strike="noStrike">
              <a:solidFill>
                <a:srgbClr val="000000"/>
              </a:solidFill>
              <a:latin typeface="Times New Roman"/>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ool next = tr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Remoting Connectors for .NET</a:t>
            </a:r>
            <a:br>
              <a:rPr sz="3200"/>
            </a:br>
            <a:r>
              <a:rPr b="1" lang="en-US" sz="3200" spc="-1" strike="noStrike">
                <a:solidFill>
                  <a:srgbClr val="ff3300"/>
                </a:solidFill>
                <a:latin typeface="AvantGarde"/>
              </a:rPr>
              <a:t> Distributed Components (cont.)</a:t>
            </a:r>
            <a:endParaRPr b="1" lang="en-US" sz="3200" spc="-1" strike="noStrike">
              <a:solidFill>
                <a:srgbClr val="ff3300"/>
              </a:solidFill>
              <a:latin typeface="AvantGarde"/>
            </a:endParaRPr>
          </a:p>
        </p:txBody>
      </p:sp>
      <p:sp>
        <p:nvSpPr>
          <p:cNvPr id="19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next)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le.WriteLine("Please enter your choice:                                                                                 1 - Converter from F to C,                                                                                 2 - from C to F,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 exi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hoice=Double.Parse (Console.ReadLin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choice == 1)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sole.WriteLine("Input temperature in F: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put=Double.Parse(Console.ReadLin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utput = myCSTempConvComp.fToC(inpu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sole.WriteLine(outpu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Remoting Connectors for .NET</a:t>
            </a:r>
            <a:br>
              <a:rPr sz="3200"/>
            </a:br>
            <a:r>
              <a:rPr b="1" lang="en-US" sz="3200" spc="-1" strike="noStrike">
                <a:solidFill>
                  <a:srgbClr val="ff3300"/>
                </a:solidFill>
                <a:latin typeface="AvantGarde"/>
              </a:rPr>
              <a:t> Distributed Components (cont.)</a:t>
            </a:r>
            <a:endParaRPr b="1" lang="en-US" sz="3200" spc="-1" strike="noStrike">
              <a:solidFill>
                <a:srgbClr val="ff3300"/>
              </a:solidFill>
              <a:latin typeface="AvantGarde"/>
            </a:endParaRPr>
          </a:p>
        </p:txBody>
      </p:sp>
      <p:sp>
        <p:nvSpPr>
          <p:cNvPr id="19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se if (choice ==2)</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nsole.WriteLine("Input temperature in C: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nput=Double.Parse(Console.ReadLin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utput = myCSTempConvComp.cToF(inpu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nsole.WriteLine(outpu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ls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ext= fals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nsole.WriteLine ("See you next tim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atch (Exception 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nsole.WriteLine(e.ToStrin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vantGarde"/>
              </a:rPr>
              <a:t>Remoting Connectors for .NET</a:t>
            </a:r>
            <a:br>
              <a:rPr sz="3200"/>
            </a:br>
            <a:r>
              <a:rPr b="1" lang="en-US" sz="3200" spc="-1" strike="noStrike">
                <a:solidFill>
                  <a:srgbClr val="ff3300"/>
                </a:solidFill>
                <a:latin typeface="AvantGarde"/>
              </a:rPr>
              <a:t> Distributed Components (cont.)</a:t>
            </a:r>
            <a:endParaRPr b="1" lang="en-US" sz="3200" spc="-1" strike="noStrike">
              <a:solidFill>
                <a:srgbClr val="ff3300"/>
              </a:solidFill>
              <a:latin typeface="AvantGarde"/>
            </a:endParaRPr>
          </a:p>
        </p:txBody>
      </p:sp>
      <p:sp>
        <p:nvSpPr>
          <p:cNvPr id="19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eps to build the server and client.</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t;csc TempConvComp.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t;csc /r:TempConvComp.exe TempConvCSClient.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e the distributed server component and its client by running following command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t;TempconvComp.ex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t;TempConvCSClient.ex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Remoting Asynchronous Callback Invocation Between Distributed .NET Components</a:t>
            </a:r>
            <a:endParaRPr b="1" lang="en-US" sz="2400" spc="-1" strike="noStrike">
              <a:solidFill>
                <a:srgbClr val="ff3300"/>
              </a:solidFill>
              <a:latin typeface="AvantGarde"/>
            </a:endParaRPr>
          </a:p>
        </p:txBody>
      </p:sp>
      <p:sp>
        <p:nvSpPr>
          <p:cNvPr id="1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moting asynchronous callback is based on Remoting Delegate. It will not block out the client while waiting for notification from remote componen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someone wants to be notified once the stock prices reaches a specified level. Instead of pooling the stock price all the time, why not let the server notify you and you can do whatever you want to do.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ome other cases, the jobs on server will take very long to complete, why not let the server notify you when the job is do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client makes a synchronous call to remote method of remote component, it passes a callback method to server to be called back late through Remoting Delega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Remoting Asynchronous Callback Invocation Between Distributed .NET Components (cont.)</a:t>
            </a:r>
            <a:endParaRPr b="1" lang="en-US" sz="2400" spc="-1" strike="noStrike">
              <a:solidFill>
                <a:srgbClr val="ff3300"/>
              </a:solidFill>
              <a:latin typeface="AvantGarde"/>
            </a:endParaRPr>
          </a:p>
        </p:txBody>
      </p:sp>
      <p:sp>
        <p:nvSpPr>
          <p:cNvPr id="2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Delegates: one is Mydelegate pointing to the remote method “cToF” of remote component named “TempConvDotNET”. The other asynchronous Delegate is AsynchCallback which is passed to BeginInvoke method of MyDelegat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yste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ystem.Thread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ystem.Runtime.Remot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ystem.Runtime.Remoting.Messag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ystem.Runtime.Remoting.Channel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ystem.Runtime.Remoting.Channels.Tc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Remoting Asynchronous Callback Invocation Between Distributed .NET Components (cont.)</a:t>
            </a:r>
            <a:endParaRPr b="1" lang="en-US" sz="2400" spc="-1" strike="noStrike">
              <a:solidFill>
                <a:srgbClr val="ff3300"/>
              </a:solidFill>
              <a:latin typeface="AvantGarde"/>
            </a:endParaRPr>
          </a:p>
        </p:txBody>
      </p:sp>
      <p:sp>
        <p:nvSpPr>
          <p:cNvPr id="20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ass Clien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delegate double MyDelegate(double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static int main(string [] agr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Channel chan =  new TcpChanne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Services.RegisterChannel(cha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TempConv obj = (CoTempConv)Activator.GetObject(typeof(CoTempConv), “tcp://localhost:4000/TempConvCompDotNe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obj ==  null) System.Console.WriteLine(“Could not locate serv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yncCallback cb = new AsyncCallback(Client.MyCallBac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yDelegate d = new MyDelegate(obj.cToF);</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syncResult ar = d.BeginInvoke(32, cb, nul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Remoting Asynchronous Callback Invocation Between Distributed .NET Components (cont.)</a:t>
            </a:r>
            <a:endParaRPr b="1" lang="en-US" sz="2400" spc="-1" strike="noStrike">
              <a:solidFill>
                <a:srgbClr val="ff3300"/>
              </a:solidFill>
              <a:latin typeface="AvantGarde"/>
            </a:endParaRPr>
          </a:p>
        </p:txBody>
      </p:sp>
      <p:sp>
        <p:nvSpPr>
          <p:cNvPr id="20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Concole.WriteLine(“Hit &lt;enter&gt; to exit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console.ReadLi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static void MyCallBack(IAsyncResult 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yDelegate d = (MyDelegate)((AsyncResult)ar).AsyncDelega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insole.WriteLine(d.EndInvoke(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insole.WriteLine(“See you next ti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Remoting Asynchronous Callback Invocation Between Distributed .NET Components (cont.)</a:t>
            </a:r>
            <a:endParaRPr b="1" lang="en-US" sz="2400" spc="-1" strike="noStrike">
              <a:solidFill>
                <a:srgbClr val="ff3300"/>
              </a:solidFill>
              <a:latin typeface="AvantGarde"/>
            </a:endParaRPr>
          </a:p>
        </p:txBody>
      </p:sp>
      <p:sp>
        <p:nvSpPr>
          <p:cNvPr id="20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find two Delegates here. One is MyDelegate pointing to the remote method “cToF” of distributed component, the other is AsyncCallback pointing callback method “MyCallBac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parameter of BeginInvoke is a 32 degree in Celsius for “cToF” remote method and the second parameter is a callback Deleg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llback will not block client program. When the distributed component completes the conversion work  the callback method is called and IAsyncResult is returned back to cl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NET Component Deployments</a:t>
            </a:r>
            <a:br>
              <a:rPr sz="2800"/>
            </a:br>
            <a:endParaRPr b="1" lang="en-US" sz="2800" spc="-1" strike="noStrike">
              <a:solidFill>
                <a:srgbClr val="ff3300"/>
              </a:solidFill>
              <a:latin typeface="AvantGarde"/>
            </a:endParaRPr>
          </a:p>
        </p:txBody>
      </p:sp>
      <p:sp>
        <p:nvSpPr>
          <p:cNvPr id="20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T component can be deployed as private component or public shared component in an assembly file. The assembly is an atomic deployment (distribution) unit in .NET Framewor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vate component knows the component where it will be plugged-in. A public shared component does not know which component will use itsel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ust be published (registered) in a centralized repository Global Assembly Cache (GAC). A shared component supports side-by-side multiple version component execu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verview of .NET Framework (cont.)</a:t>
            </a:r>
            <a:endParaRPr b="1" lang="en-US" sz="2800" spc="-1" strike="noStrike">
              <a:solidFill>
                <a:srgbClr val="ff3300"/>
              </a:solidFill>
              <a:latin typeface="AvantGarde"/>
            </a:endParaRPr>
          </a:p>
        </p:txBody>
      </p:sp>
      <p:sp>
        <p:nvSpPr>
          <p:cNvPr id="9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ly, .NET facilitates developments of distributed components by Remoting Channel technology. .NET framework supports the interoperability between COM and .NET component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XML web service is another kind of component. A .NET component can work with any existing COM components. In other words, .NET can provide services to COM components and COM components can also be used by any .NET components. .NET is much easier to develop components than COM.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ice is a replacement of MS DCOM technology for Internet applications supported by XML, SOAP and HTTP protocols. .NET frees developer’s coding from heavy enterprise programming such as transaction management through Enterprise Servic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web service overcomes DCOM’s lack of support for firewall and makes services available across platforms via loosely coupled XML SOAP protocol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rivate Deployment</a:t>
            </a:r>
            <a:br>
              <a:rPr sz="2800"/>
            </a:br>
            <a:endParaRPr b="1" lang="en-US" sz="2800" spc="-1" strike="noStrike">
              <a:solidFill>
                <a:srgbClr val="ff3300"/>
              </a:solidFill>
              <a:latin typeface="AvantGarde"/>
            </a:endParaRPr>
          </a:p>
        </p:txBody>
      </p:sp>
      <p:sp>
        <p:nvSpPr>
          <p:cNvPr id="21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vate component must be deployed in a same directory of its client or sub-directory of where the client is. It is the simplest deployment done by copying all components to where the client i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deployment is done by simply removing all related .dll components from the directory. A private component does not support versioning control and for in-house development within a company. The following shows an example of private deploy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rivate Deployment (cont.)</a:t>
            </a:r>
            <a:endParaRPr b="1" lang="en-US" sz="2800" spc="-1" strike="noStrike">
              <a:solidFill>
                <a:srgbClr val="ff3300"/>
              </a:solidFill>
              <a:latin typeface="AvantGarde"/>
            </a:endParaRPr>
          </a:p>
        </p:txBody>
      </p:sp>
      <p:graphicFrame>
        <p:nvGraphicFramePr>
          <p:cNvPr id="212" name=""/>
          <p:cNvGraphicFramePr/>
          <p:nvPr/>
        </p:nvGraphicFramePr>
        <p:xfrm>
          <a:off x="1430280" y="2436840"/>
          <a:ext cx="6281640" cy="2822400"/>
        </p:xfrm>
        <a:graphic>
          <a:graphicData uri="http://schemas.openxmlformats.org/presentationml/2006/ole">
            <p:oleObj r:id="rId1" spid="">
              <p:embed/>
              <p:pic>
                <p:nvPicPr>
                  <p:cNvPr id="213" name="" descr=""/>
                  <p:cNvPicPr/>
                  <p:nvPr/>
                </p:nvPicPr>
                <p:blipFill>
                  <a:blip r:embed="rId2"/>
                  <a:stretch/>
                </p:blipFill>
                <p:spPr>
                  <a:xfrm>
                    <a:off x="1430280" y="2436840"/>
                    <a:ext cx="6281640" cy="282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rivate Deployment (cont.)</a:t>
            </a:r>
            <a:endParaRPr b="1" lang="en-US" sz="2800" spc="-1" strike="noStrike">
              <a:solidFill>
                <a:srgbClr val="ff3300"/>
              </a:solidFill>
              <a:latin typeface="AvantGarde"/>
            </a:endParaRPr>
          </a:p>
        </p:txBody>
      </p:sp>
      <p:sp>
        <p:nvSpPr>
          <p:cNvPr id="21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t;csc /t:library/out:dir1\comp1.dll comp1.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t;csc /t:library/out:dir2\comp2.dll comp2.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t;csc /r:dir1\comp1.dll, dir2\comp2.dll /out:client.exe client.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ublic shared deployment</a:t>
            </a:r>
            <a:endParaRPr b="1" lang="en-US" sz="2800" spc="-1" strike="noStrike">
              <a:solidFill>
                <a:srgbClr val="ff3300"/>
              </a:solidFill>
              <a:latin typeface="AvantGarde"/>
            </a:endParaRPr>
          </a:p>
        </p:txBody>
      </p:sp>
      <p:sp>
        <p:nvSpPr>
          <p:cNvPr id="21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most popular reusable component deployment is to deploy a component with a strong name, to register it with GAC. A shared component with strong name can make itself unique by public/private key pair. A shared component registered with GAC can make itself to be shared anywhere. </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steps needed to create a shared .NET component are as follows:</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ep 1: Create a pair of public key/private key by sn.exe utility.</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gt; </a:t>
            </a:r>
            <a:r>
              <a:rPr b="1" lang="en-US" sz="2300" spc="-1" strike="noStrike">
                <a:solidFill>
                  <a:srgbClr val="000000"/>
                </a:solidFill>
                <a:latin typeface="Times New Roman"/>
              </a:rPr>
              <a:t>sn – k mykey.snk</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public key is for verification against private key which is signed as a cryptographic signature stored in component assembly. The public key is stored in a manifest of the assembly. When a client references the component the public key token is stored in the client’s assembly.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ublic shared deployment (cont.)</a:t>
            </a:r>
            <a:endParaRPr b="1" lang="en-US" sz="2800" spc="-1" strike="noStrike">
              <a:solidFill>
                <a:srgbClr val="ff3300"/>
              </a:solidFill>
              <a:latin typeface="AvantGarde"/>
            </a:endParaRPr>
          </a:p>
        </p:txBody>
      </p:sp>
      <p:sp>
        <p:nvSpPr>
          <p:cNvPr id="21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2: Embed following lines into source code of compon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ing System.Refle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embly:AssemblyKeyFile (“mykey.sn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embly:AssemblyDelaySign (fal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embly:AssemblyVersion (“1,2,3,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ublic shared deployment (cont.)</a:t>
            </a:r>
            <a:endParaRPr b="1" lang="en-US" sz="2800" spc="-1" strike="noStrike">
              <a:solidFill>
                <a:srgbClr val="ff3300"/>
              </a:solidFill>
              <a:latin typeface="AvantGarde"/>
            </a:endParaRPr>
          </a:p>
        </p:txBody>
      </p:sp>
      <p:sp>
        <p:nvSpPr>
          <p:cNvPr id="22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command will sign the signature with the component immediately without a dela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csc /t:library mycomponents.c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xt command line will store a public key token in client compon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csc  /r:mycomponent.dll /out:myapplication.exe myapplication.c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the signature delay is needed, we can sign the signature late by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Times New Roman"/>
              </a:rPr>
              <a:t>&gt;sn –R mycomponent.dll mykey.s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     </a:t>
            </a:r>
            <a:r>
              <a:rPr b="0" lang="en-US" sz="2000" spc="-1" strike="noStrike">
                <a:solidFill>
                  <a:srgbClr val="000000"/>
                </a:solidFill>
                <a:latin typeface="Times New Roman"/>
              </a:rPr>
              <a:t>The signature is verified when the component is registered with GAC in step #3 to ensure that the component is not altered since the assembly was buil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run time the public key token in the client manifest is verified against the public key which is part of component identity. If they match then it indicates that this is the right component wante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ublic shared deployment (cont.)</a:t>
            </a:r>
            <a:endParaRPr b="1" lang="en-US" sz="2800" spc="-1" strike="noStrike">
              <a:solidFill>
                <a:srgbClr val="ff3300"/>
              </a:solidFill>
              <a:latin typeface="AvantGarde"/>
            </a:endParaRPr>
          </a:p>
        </p:txBody>
      </p:sp>
      <p:sp>
        <p:nvSpPr>
          <p:cNvPr id="22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ep3: Register the shared component in GA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t;gacutil /i mycomponent.d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ep4: Using shared compon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lient must make a reference to the shared component to be reu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t;csc  /t:exe /r:mycomponent.dll /out:myapp.exe myapp.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ublic shared deployment (cont.)</a:t>
            </a:r>
            <a:endParaRPr b="1" lang="en-US" sz="2800" spc="-1" strike="noStrike">
              <a:solidFill>
                <a:srgbClr val="ff3300"/>
              </a:solidFill>
              <a:latin typeface="AvantGarde"/>
            </a:endParaRPr>
          </a:p>
        </p:txBody>
      </p:sp>
      <p:sp>
        <p:nvSpPr>
          <p:cNvPr id="22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order to reuse the shared component the client source code must “use namespaces” where namespace is available in the assembly. An example of shared component deployment of the TempConvComp component is shown below.</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System;</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System.Refle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mbly:AssemblyVersion("1.0.0.0")]</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mbly:AssemblyKeyFile("originator.ke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space TempConv</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class TempConvCom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ublic TempConvComp()</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Public shared deployment (cont.)</a:t>
            </a:r>
            <a:endParaRPr b="1" lang="en-US" sz="2800" spc="-1" strike="noStrike">
              <a:solidFill>
                <a:srgbClr val="ff3300"/>
              </a:solidFill>
              <a:latin typeface="AvantGarde"/>
            </a:endParaRPr>
          </a:p>
        </p:txBody>
      </p:sp>
      <p:sp>
        <p:nvSpPr>
          <p:cNvPr id="22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double cToF(double c)</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how to control output form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turn (int)((c*9/5.0+32)*100)/100.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ublic double fToC(double f)</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how to control output form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turn (int)((f-32)*5/9.0*100)/100.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verview of .NET Framework (cont.)</a:t>
            </a:r>
            <a:endParaRPr b="1" lang="en-US" sz="2800" spc="-1" strike="noStrike">
              <a:solidFill>
                <a:srgbClr val="ff3300"/>
              </a:solidFill>
              <a:latin typeface="AvantGarde"/>
            </a:endParaRPr>
          </a:p>
        </p:txBody>
      </p:sp>
      <p:sp>
        <p:nvSpPr>
          <p:cNvPr id="9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ET framework is available in .NET Framework SDK and Visual Studio.NET IDE SDK, both of which can be downloaded from MS website and they are also available in a CD pack.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ET Framework SDK is the foundation of Visual Studio .NET and is a part of Visual Studio .NET when Visual Studio .NET is installed. The .NET framework consists of two main parts (as shown in  Figure 6.1): Common Language Runtime (CLR) and a set of unified framework basic class libraries including ASP.NET web forms for building web applications, Windows Forms for building desktop applications, and ADO.NET for data acces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DK includes all your need to write, build, test, and deploy .NET applications. It supports all .NET languages such as VB .NET, VC.NET, C#, and others. .NET SDK and Visual Studio .NET can access  services of all layers in the .NET framework platform.</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oundation of .NET framework – CLR </a:t>
            </a:r>
            <a:endParaRPr b="1" lang="en-US" sz="2800" spc="-1" strike="noStrike">
              <a:solidFill>
                <a:srgbClr val="ff3300"/>
              </a:solidFill>
              <a:latin typeface="AvantGarde"/>
            </a:endParaRPr>
          </a:p>
        </p:txBody>
      </p:sp>
      <p:sp>
        <p:nvSpPr>
          <p:cNvPr id="9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Language Runtime (CLR) is a virtual machine environment sitting on the top of Windows operating system.  CLR consists of Common Type System (CTS), Just-In-Time IL Compiler (JIT), Execution unit, plus some other management services such as garbage collection and security managemen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R is like JVM in Java. All these software components are assembled in a package of assembly (just like Java archive file .jar file) which consists of MS Intermediate Language (MSIL) code and manifest (Metadata about this pack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L code is translated into native code by JIT compiler in CLR. IL code is verified by CTS first to check the validity of data type used in the co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Foundation of .NET framework – CLR (cont.)</a:t>
            </a:r>
            <a:endParaRPr b="1" lang="en-US" sz="2800" spc="-1" strike="noStrike">
              <a:solidFill>
                <a:srgbClr val="ff3300"/>
              </a:solidFill>
              <a:latin typeface="AvantGarde"/>
            </a:endParaRPr>
          </a:p>
        </p:txBody>
      </p:sp>
      <p:sp>
        <p:nvSpPr>
          <p:cNvPr id="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framework integrates multiple programming languages (VB, managed VC#, C# etc) by  Common Language CLR implementation. Not only a component in one language can access the services provided by other components in other languages, but also a class in one Language can inherit properties and methods from related classes in other Languages. The United Class Library provides a set of reusable classes for component developmen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TS defines a standard set of data type and rules for creating new types.  The CLR knows how to execute these types. There are two categories of types:  Reference type and  Value type. The code targeting LCR and to be executed by LCR is called .NET </a:t>
            </a:r>
            <a:r>
              <a:rPr b="0" i="1" lang="en-US" sz="2400" spc="-1" strike="noStrike">
                <a:solidFill>
                  <a:srgbClr val="000000"/>
                </a:solidFill>
                <a:latin typeface="Times New Roman"/>
              </a:rPr>
              <a:t>managed</a:t>
            </a:r>
            <a:r>
              <a:rPr b="0" lang="en-US" sz="2400" spc="-1" strike="noStrike">
                <a:solidFill>
                  <a:srgbClr val="000000"/>
                </a:solidFill>
                <a:latin typeface="Times New Roman"/>
              </a:rPr>
              <a:t> code. All MS language compilers generate managed codes that conform to the 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2:58:20Z</dcterms:created>
  <dc:creator>hamm</dc:creator>
  <dc:description/>
  <dc:language>en-US</dc:language>
  <cp:lastModifiedBy>Irving Farinas</cp:lastModifiedBy>
  <dcterms:modified xsi:type="dcterms:W3CDTF">2005-04-04T20:31:16Z</dcterms:modified>
  <cp:revision>269</cp:revision>
  <dc:subject/>
  <dc:title>Chapter 1 – Introduction to Computers, the Internet, and the Web</dc:title>
</cp:coreProperties>
</file>