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3D6-6910-453D-B2E4-9D1C5ABA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430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F08-4972-4275-96D0-465FA3C8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256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72A-BDBF-4A10-8A90-D7385AB1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710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986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430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710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986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B33-9B20-492A-99F9-C6B2C8FE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2B15-4DCE-42A6-B116-78AB0C74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35A4-A6B3-44AD-9748-B92DC3A6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EEB7-E4CD-4E00-A443-5B0BC035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CA23-5C05-4548-8EED-DDF5B448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F4E7-E020-4E8A-AA38-FB8C9B2A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18800" y="-360"/>
            <a:ext cx="787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7136-8B5C-4646-8E47-3D17C623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0B50-A598-4344-8A3F-F537F76E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736-C296-4E5A-BB70-633E15C3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256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9E4E-33B2-4331-B27F-A3E49989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F57E-9A55-48BA-A28C-41E8BFA1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1430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310F-039F-485A-A6E1-AD6EB43B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256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5430-9147-46E7-B11D-B06EF5D3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710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3986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1430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710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3986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D9FE-C258-438D-8F54-08949552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C78-721D-42C1-92F3-6E6BC79B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55D-A718-4960-A3BE-BD64CCE0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707-EA9F-42FC-A558-218444EB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18800" y="-360"/>
            <a:ext cx="787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F59-4D17-4FAE-8EC7-AFF4ECC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F26-F728-4B86-812E-071F44FD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256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F48-D1FD-44EF-856B-520EF6D7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56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928-F4FC-482A-AAED-1C0110E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1b1b8a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50000">
                    <a:srgbClr val="1b1b8a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E56D-2281-48A4-88DE-60ABC2376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916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100000">
                  <a:srgbClr val="2020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gradFill rotWithShape="0">
                <a:gsLst>
                  <a:gs pos="0">
                    <a:srgbClr val="3333ff"/>
                  </a:gs>
                  <a:gs pos="100000">
                    <a:srgbClr val="2020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87AF-935D-4309-A038-462982C2D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1828800"/>
            <a:ext cx="9144000" cy="1766880"/>
            <a:chOff x="0" y="1828800"/>
            <a:chExt cx="9144000" cy="1766880"/>
          </a:xfrm>
        </p:grpSpPr>
        <p:sp>
          <p:nvSpPr>
            <p:cNvPr id="111" name=""/>
            <p:cNvSpPr/>
            <p:nvPr/>
          </p:nvSpPr>
          <p:spPr>
            <a:xfrm>
              <a:off x="12600" y="33480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600" y="35575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828800"/>
              <a:ext cx="1322280" cy="1571760"/>
              <a:chOff x="0" y="1828800"/>
              <a:chExt cx="1322280" cy="157176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18288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0" y="20430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9920" y="20718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1880" y="24764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ntroduction to the prediction of mechanism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Ma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Illinois, Urbana Ch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ll Possible Reaction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B89-A401-4D2E-A79B-0D3EB019F6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Must Have Initiation Reac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60360" y="146376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eed one of the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70400" y="1847880"/>
            <a:ext cx="457200" cy="218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187520" y="1645920"/>
            <a:ext cx="639720" cy="182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928-3A27-4B29-9890-138903C46C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Must Have Catalytic Cycl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 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EAA-6755-499C-A5A5-09CA6F85A6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Should Have A Termination Reac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89600" y="501156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nt one of the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352400" y="4846680"/>
            <a:ext cx="63828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133880" y="5340240"/>
            <a:ext cx="858960" cy="328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89A-9465-4EFA-9B7C-E7CB95896B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Ignore exchange reaction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gn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gn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D06-326F-4701-A52D-7A780F82DB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: Initiation reaction: weakest bond break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04 kcal/mol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   (44 kcal/mo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gn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789-3CD9-4518-B5E3-13709EEE4E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ere are we now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A30-8B2E-49A5-B993-2843F41A6F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 for other reaction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teps have low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75 kT for initiation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40 kT for sid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lculate minimum temperature for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any other steps which follow the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721-C22C-4EB1-9B62-E57AFD18A8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Polanyi Relationship To Estimate Activation Barrie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2600" y="3892680"/>
            <a:ext cx="8119080" cy="1189800"/>
          </a:xfrm>
          <a:prstGeom prst="rect">
            <a:avLst/>
          </a:prstGeom>
          <a:solidFill>
            <a:srgbClr val="66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If someone claims to have a general correlation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 rates the prudent engineer should be suspicious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.D. Schmidt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36800" y="159876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anyi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438280"/>
            <a:ext cx="5715000" cy="914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74840" y="2565360"/>
            <a:ext cx="2994480" cy="659880"/>
            <a:chOff x="2274840" y="2565360"/>
            <a:chExt cx="2994480" cy="659880"/>
          </a:xfrm>
        </p:grpSpPr>
        <p:sp>
          <p:nvSpPr>
            <p:cNvPr id="226" name=""/>
            <p:cNvSpPr/>
            <p:nvPr/>
          </p:nvSpPr>
          <p:spPr>
            <a:xfrm>
              <a:off x="5180040" y="29048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72920" y="2904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37720" y="258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38440" y="29048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82640" y="290484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15720" y="26193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30640" y="2619360"/>
              <a:ext cx="279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74840" y="2619360"/>
              <a:ext cx="279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34920" y="2565360"/>
              <a:ext cx="281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13000" y="2565360"/>
              <a:ext cx="25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01600" y="2565360"/>
              <a:ext cx="25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69920" y="2565360"/>
              <a:ext cx="25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858000" y="2438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arameter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013-5132-400A-B3F4-71BF9AA2AB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lowers-Masel Equa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56280" y="3006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parameter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050840" y="2116080"/>
            <a:ext cx="5715000" cy="2666880"/>
            <a:chOff x="1050840" y="2116080"/>
            <a:chExt cx="5715000" cy="2666880"/>
          </a:xfrm>
        </p:grpSpPr>
        <p:sp>
          <p:nvSpPr>
            <p:cNvPr id="242" name=""/>
            <p:cNvSpPr/>
            <p:nvPr/>
          </p:nvSpPr>
          <p:spPr>
            <a:xfrm>
              <a:off x="1050840" y="2116080"/>
              <a:ext cx="5715000" cy="26668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388160" y="2739600"/>
              <a:ext cx="5302080" cy="1292040"/>
              <a:chOff x="1388160" y="2739600"/>
              <a:chExt cx="5302080" cy="1292040"/>
            </a:xfrm>
          </p:grpSpPr>
          <p:sp>
            <p:nvSpPr>
              <p:cNvPr id="244" name=""/>
              <p:cNvSpPr/>
              <p:nvPr/>
            </p:nvSpPr>
            <p:spPr>
              <a:xfrm>
                <a:off x="2046960" y="273960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</a:t>
                </a:r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75680" y="273960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</a:t>
                </a:r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48840" y="273960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</a:t>
                </a:r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47520" y="273960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</a:t>
                </a:r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17520" y="3428280"/>
                <a:ext cx="4191120" cy="1440"/>
              </a:xfrm>
              <a:prstGeom prst="line">
                <a:avLst/>
              </a:prstGeom>
              <a:ln w="176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84240" y="34473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71560" y="37569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41320" y="34473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96960" y="37569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91920" y="34473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47560" y="37569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75040" y="28569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71840" y="31647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36560" y="31647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14600" y="316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00000" y="31647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65080" y="31647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26480" y="3418920"/>
                <a:ext cx="102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85720" y="35092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99960" y="35092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85400" y="35092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11040" y="35092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8600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3992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26800" y="29170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7628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1416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69520" y="2917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74040" y="29170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388160" y="317124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17880" y="350136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02960" y="3463200"/>
                <a:ext cx="238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656520" y="346320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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43360" y="290916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02880" y="2871000"/>
                <a:ext cx="238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96480" y="287100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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31920" y="2903040"/>
                <a:ext cx="24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805840" y="2871000"/>
                <a:ext cx="238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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97840" y="3125160"/>
                <a:ext cx="323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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3685320" y="5013360"/>
            <a:ext cx="504828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ameter related to intrinsic b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998680" y="2165400"/>
            <a:ext cx="397080" cy="815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3480" y="1933560"/>
            <a:ext cx="367056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nd Dissociation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76640" y="2325600"/>
            <a:ext cx="284040" cy="754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27720" y="1933560"/>
            <a:ext cx="2336760" cy="45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at of re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3946680"/>
            <a:ext cx="816120" cy="116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66C-8AF1-49B7-8EE5-292E8B1A9B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2800" y="131400"/>
            <a:ext cx="78166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y Do We Care?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30400" y="135720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 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reactions can lead to the desired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ide reac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rates of the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safety issu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action con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,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alysts, sol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tact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TR vs plug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transfer &amp; pressure 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47160" y="930240"/>
            <a:ext cx="57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reactor desig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need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406-F30C-4234-B39C-83CD912B9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Gives Reasonable Result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641600" y="1362240"/>
          <a:ext cx="582120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1362240"/>
                    <a:ext cx="582120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922-CC97-4057-ADC9-584DDA7710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able of Parameter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207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2898720"/>
                <a:tab algn="r" pos="578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898720"/>
                <a:tab algn="r" pos="578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0" y="1271520"/>
                <a:ext cx="2192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2154240"/>
                <a:ext cx="2192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085760" y="1065240"/>
            <a:ext cx="7596360" cy="4968360"/>
            <a:chOff x="1085760" y="1065240"/>
            <a:chExt cx="7596360" cy="4968360"/>
          </a:xfrm>
        </p:grpSpPr>
        <p:grpSp>
          <p:nvGrpSpPr>
            <p:cNvPr id="297" name=""/>
            <p:cNvGrpSpPr/>
            <p:nvPr/>
          </p:nvGrpSpPr>
          <p:grpSpPr>
            <a:xfrm>
              <a:off x="1085760" y="1065240"/>
              <a:ext cx="7596360" cy="460440"/>
              <a:chOff x="1085760" y="1065240"/>
              <a:chExt cx="7596360" cy="460440"/>
            </a:xfrm>
          </p:grpSpPr>
          <p:sp>
            <p:nvSpPr>
              <p:cNvPr id="298" name=""/>
              <p:cNvSpPr/>
              <p:nvPr/>
            </p:nvSpPr>
            <p:spPr>
              <a:xfrm>
                <a:off x="1154160" y="1065240"/>
                <a:ext cx="74595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Table 5.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Intrinsic barriers and transfer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efficients for different types of reaction of neutral species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85760" y="1065240"/>
                <a:ext cx="7596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085760" y="1525680"/>
              <a:ext cx="1393920" cy="904320"/>
              <a:chOff x="1085760" y="1525680"/>
              <a:chExt cx="1393920" cy="904320"/>
            </a:xfrm>
          </p:grpSpPr>
          <p:sp>
            <p:nvSpPr>
              <p:cNvPr id="301" name=""/>
              <p:cNvSpPr/>
              <p:nvPr/>
            </p:nvSpPr>
            <p:spPr>
              <a:xfrm>
                <a:off x="1154160" y="1525680"/>
                <a:ext cx="125712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ea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085760" y="1525680"/>
                <a:ext cx="139392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479680" y="1525680"/>
              <a:ext cx="1793880" cy="904320"/>
              <a:chOff x="2479680" y="1525680"/>
              <a:chExt cx="1793880" cy="904320"/>
            </a:xfrm>
          </p:grpSpPr>
          <p:sp>
            <p:nvSpPr>
              <p:cNvPr id="304" name=""/>
              <p:cNvSpPr/>
              <p:nvPr/>
            </p:nvSpPr>
            <p:spPr>
              <a:xfrm>
                <a:off x="2547720" y="1525680"/>
                <a:ext cx="165744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xamp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479680" y="1525680"/>
                <a:ext cx="179388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273560" y="1525680"/>
              <a:ext cx="1108080" cy="904320"/>
              <a:chOff x="4273560" y="1525680"/>
              <a:chExt cx="1108080" cy="904320"/>
            </a:xfrm>
          </p:grpSpPr>
          <p:sp>
            <p:nvSpPr>
              <p:cNvPr id="307" name=""/>
              <p:cNvSpPr/>
              <p:nvPr/>
            </p:nvSpPr>
            <p:spPr>
              <a:xfrm>
                <a:off x="4341600" y="1525680"/>
                <a:ext cx="97164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ctual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cal/mo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73560" y="1525680"/>
                <a:ext cx="110808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381640" y="1525680"/>
              <a:ext cx="1160280" cy="904320"/>
              <a:chOff x="5381640" y="1525680"/>
              <a:chExt cx="1160280" cy="904320"/>
            </a:xfrm>
          </p:grpSpPr>
          <p:sp>
            <p:nvSpPr>
              <p:cNvPr id="310" name=""/>
              <p:cNvSpPr/>
              <p:nvPr/>
            </p:nvSpPr>
            <p:spPr>
              <a:xfrm>
                <a:off x="5449680" y="1525680"/>
                <a:ext cx="102420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ssume when predicting mechanisms kcal/mo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81640" y="1525680"/>
                <a:ext cx="116028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541920" y="1525680"/>
              <a:ext cx="955800" cy="904320"/>
              <a:chOff x="6541920" y="1525680"/>
              <a:chExt cx="955800" cy="904320"/>
            </a:xfrm>
          </p:grpSpPr>
          <p:sp>
            <p:nvSpPr>
              <p:cNvPr id="313" name=""/>
              <p:cNvSpPr/>
              <p:nvPr/>
            </p:nvSpPr>
            <p:spPr>
              <a:xfrm>
                <a:off x="6610320" y="1525680"/>
                <a:ext cx="81900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ctual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1400" spc="-1" strike="noStrike" baseline="-30000">
                    <a:solidFill>
                      <a:srgbClr val="ffffff"/>
                    </a:solidFill>
                    <a:latin typeface="Arial"/>
                    <a:ea typeface="Times New Roman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41920" y="1525680"/>
                <a:ext cx="95580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7497720" y="1525680"/>
              <a:ext cx="1184400" cy="904320"/>
              <a:chOff x="7497720" y="1525680"/>
              <a:chExt cx="1184400" cy="904320"/>
            </a:xfrm>
          </p:grpSpPr>
          <p:sp>
            <p:nvSpPr>
              <p:cNvPr id="316" name=""/>
              <p:cNvSpPr/>
              <p:nvPr/>
            </p:nvSpPr>
            <p:spPr>
              <a:xfrm>
                <a:off x="7565760" y="1525680"/>
                <a:ext cx="104796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1400" spc="-1" strike="noStrike" baseline="-30000">
                    <a:solidFill>
                      <a:srgbClr val="ffff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to assume when predicting mechanism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97720" y="1525680"/>
                <a:ext cx="1184400" cy="90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085760" y="2430360"/>
              <a:ext cx="1393920" cy="492120"/>
              <a:chOff x="1085760" y="2430360"/>
              <a:chExt cx="1393920" cy="492120"/>
            </a:xfrm>
          </p:grpSpPr>
          <p:sp>
            <p:nvSpPr>
              <p:cNvPr id="319" name=""/>
              <p:cNvSpPr/>
              <p:nvPr/>
            </p:nvSpPr>
            <p:spPr>
              <a:xfrm>
                <a:off x="1154160" y="2430360"/>
                <a:ext cx="12571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imple bond sciss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85760" y="2430360"/>
                <a:ext cx="139392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479680" y="2430360"/>
              <a:ext cx="1793880" cy="492120"/>
              <a:chOff x="2479680" y="2430360"/>
              <a:chExt cx="1793880" cy="492120"/>
            </a:xfrm>
          </p:grpSpPr>
          <p:sp>
            <p:nvSpPr>
              <p:cNvPr id="322" name=""/>
              <p:cNvSpPr/>
              <p:nvPr/>
            </p:nvSpPr>
            <p:spPr>
              <a:xfrm>
                <a:off x="2547720" y="2430360"/>
                <a:ext cx="165744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B+X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+B+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=a collision partn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79680" y="2430360"/>
                <a:ext cx="17938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273560" y="2430360"/>
              <a:ext cx="1108080" cy="492120"/>
              <a:chOff x="4273560" y="2430360"/>
              <a:chExt cx="1108080" cy="492120"/>
            </a:xfrm>
          </p:grpSpPr>
          <p:sp>
            <p:nvSpPr>
              <p:cNvPr id="325" name=""/>
              <p:cNvSpPr/>
              <p:nvPr/>
            </p:nvSpPr>
            <p:spPr>
              <a:xfrm>
                <a:off x="4341600" y="2430360"/>
                <a:ext cx="97164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-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73560" y="2430360"/>
                <a:ext cx="11080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381640" y="2430360"/>
              <a:ext cx="1160280" cy="492120"/>
              <a:chOff x="5381640" y="2430360"/>
              <a:chExt cx="1160280" cy="492120"/>
            </a:xfrm>
          </p:grpSpPr>
          <p:sp>
            <p:nvSpPr>
              <p:cNvPr id="328" name=""/>
              <p:cNvSpPr/>
              <p:nvPr/>
            </p:nvSpPr>
            <p:spPr>
              <a:xfrm>
                <a:off x="5449680" y="2430360"/>
                <a:ext cx="1024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81640" y="2430360"/>
                <a:ext cx="116028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541920" y="2430360"/>
              <a:ext cx="955800" cy="492120"/>
              <a:chOff x="6541920" y="2430360"/>
              <a:chExt cx="955800" cy="492120"/>
            </a:xfrm>
          </p:grpSpPr>
          <p:sp>
            <p:nvSpPr>
              <p:cNvPr id="331" name=""/>
              <p:cNvSpPr/>
              <p:nvPr/>
            </p:nvSpPr>
            <p:spPr>
              <a:xfrm>
                <a:off x="6610320" y="2430360"/>
                <a:ext cx="8190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.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41920" y="2430360"/>
                <a:ext cx="95580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497720" y="2430360"/>
              <a:ext cx="1184400" cy="492120"/>
              <a:chOff x="7497720" y="2430360"/>
              <a:chExt cx="1184400" cy="492120"/>
            </a:xfrm>
          </p:grpSpPr>
          <p:sp>
            <p:nvSpPr>
              <p:cNvPr id="334" name=""/>
              <p:cNvSpPr/>
              <p:nvPr/>
            </p:nvSpPr>
            <p:spPr>
              <a:xfrm>
                <a:off x="7565760" y="2430360"/>
                <a:ext cx="104796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.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497720" y="2430360"/>
                <a:ext cx="1184400" cy="49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085760" y="2922480"/>
              <a:ext cx="1393920" cy="491760"/>
              <a:chOff x="1085760" y="2922480"/>
              <a:chExt cx="1393920" cy="491760"/>
            </a:xfrm>
          </p:grpSpPr>
          <p:sp>
            <p:nvSpPr>
              <p:cNvPr id="337" name=""/>
              <p:cNvSpPr/>
              <p:nvPr/>
            </p:nvSpPr>
            <p:spPr>
              <a:xfrm>
                <a:off x="1154160" y="2922480"/>
                <a:ext cx="125712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ecombin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85760" y="2922480"/>
                <a:ext cx="139392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479680" y="2922480"/>
              <a:ext cx="1793880" cy="491760"/>
              <a:chOff x="2479680" y="2922480"/>
              <a:chExt cx="1793880" cy="491760"/>
            </a:xfrm>
          </p:grpSpPr>
          <p:sp>
            <p:nvSpPr>
              <p:cNvPr id="340" name=""/>
              <p:cNvSpPr/>
              <p:nvPr/>
            </p:nvSpPr>
            <p:spPr>
              <a:xfrm>
                <a:off x="2547720" y="2922480"/>
                <a:ext cx="165744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+B+X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+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=a collision partn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79680" y="2922480"/>
                <a:ext cx="179388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273560" y="2922480"/>
              <a:ext cx="1108080" cy="491760"/>
              <a:chOff x="4273560" y="2922480"/>
              <a:chExt cx="1108080" cy="491760"/>
            </a:xfrm>
          </p:grpSpPr>
          <p:sp>
            <p:nvSpPr>
              <p:cNvPr id="343" name=""/>
              <p:cNvSpPr/>
              <p:nvPr/>
            </p:nvSpPr>
            <p:spPr>
              <a:xfrm>
                <a:off x="4341600" y="2922480"/>
                <a:ext cx="97164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-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73560" y="2922480"/>
                <a:ext cx="110808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381640" y="2922480"/>
              <a:ext cx="1160280" cy="491760"/>
              <a:chOff x="5381640" y="2922480"/>
              <a:chExt cx="1160280" cy="491760"/>
            </a:xfrm>
          </p:grpSpPr>
          <p:sp>
            <p:nvSpPr>
              <p:cNvPr id="346" name=""/>
              <p:cNvSpPr/>
              <p:nvPr/>
            </p:nvSpPr>
            <p:spPr>
              <a:xfrm>
                <a:off x="5449680" y="2922480"/>
                <a:ext cx="102420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1640" y="2922480"/>
                <a:ext cx="116028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541920" y="2922480"/>
              <a:ext cx="955800" cy="491760"/>
              <a:chOff x="6541920" y="2922480"/>
              <a:chExt cx="955800" cy="491760"/>
            </a:xfrm>
          </p:grpSpPr>
          <p:sp>
            <p:nvSpPr>
              <p:cNvPr id="349" name=""/>
              <p:cNvSpPr/>
              <p:nvPr/>
            </p:nvSpPr>
            <p:spPr>
              <a:xfrm>
                <a:off x="6610320" y="2922480"/>
                <a:ext cx="81900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41920" y="2922480"/>
                <a:ext cx="95580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7497720" y="2922480"/>
              <a:ext cx="1184400" cy="491760"/>
              <a:chOff x="7497720" y="2922480"/>
              <a:chExt cx="1184400" cy="491760"/>
            </a:xfrm>
          </p:grpSpPr>
          <p:sp>
            <p:nvSpPr>
              <p:cNvPr id="352" name=""/>
              <p:cNvSpPr/>
              <p:nvPr/>
            </p:nvSpPr>
            <p:spPr>
              <a:xfrm>
                <a:off x="7565760" y="2922480"/>
                <a:ext cx="104796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.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97720" y="2922480"/>
                <a:ext cx="1184400" cy="49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085760" y="3414600"/>
              <a:ext cx="1393920" cy="682560"/>
              <a:chOff x="1085760" y="3414600"/>
              <a:chExt cx="1393920" cy="682560"/>
            </a:xfrm>
          </p:grpSpPr>
          <p:sp>
            <p:nvSpPr>
              <p:cNvPr id="355" name=""/>
              <p:cNvSpPr/>
              <p:nvPr/>
            </p:nvSpPr>
            <p:spPr>
              <a:xfrm>
                <a:off x="1154160" y="3414600"/>
                <a:ext cx="125712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xothermic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transfer rea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85760" y="3414600"/>
                <a:ext cx="139392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479680" y="3414600"/>
              <a:ext cx="1793880" cy="682560"/>
              <a:chOff x="2479680" y="3414600"/>
              <a:chExt cx="1793880" cy="682560"/>
            </a:xfrm>
          </p:grpSpPr>
          <p:sp>
            <p:nvSpPr>
              <p:cNvPr id="358" name=""/>
              <p:cNvSpPr/>
              <p:nvPr/>
            </p:nvSpPr>
            <p:spPr>
              <a:xfrm>
                <a:off x="2547720" y="3414600"/>
                <a:ext cx="16574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x +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+ x-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 = an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79680" y="3414600"/>
                <a:ext cx="17938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273560" y="3414600"/>
              <a:ext cx="1108080" cy="682560"/>
              <a:chOff x="4273560" y="3414600"/>
              <a:chExt cx="1108080" cy="682560"/>
            </a:xfrm>
          </p:grpSpPr>
          <p:sp>
            <p:nvSpPr>
              <p:cNvPr id="361" name=""/>
              <p:cNvSpPr/>
              <p:nvPr/>
            </p:nvSpPr>
            <p:spPr>
              <a:xfrm>
                <a:off x="4341600" y="3414600"/>
                <a:ext cx="9716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8-1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273560" y="3414600"/>
                <a:ext cx="11080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381640" y="3414600"/>
              <a:ext cx="1160280" cy="682560"/>
              <a:chOff x="5381640" y="3414600"/>
              <a:chExt cx="1160280" cy="6825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49680" y="3414600"/>
                <a:ext cx="102420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81640" y="3414600"/>
                <a:ext cx="11602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541920" y="3414600"/>
              <a:ext cx="955800" cy="682560"/>
              <a:chOff x="6541920" y="3414600"/>
              <a:chExt cx="955800" cy="682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610320" y="3414600"/>
                <a:ext cx="81900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2 to 0.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41920" y="3414600"/>
                <a:ext cx="95580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497720" y="3414600"/>
              <a:ext cx="1184400" cy="682560"/>
              <a:chOff x="7497720" y="3414600"/>
              <a:chExt cx="1184400" cy="682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565760" y="3414600"/>
                <a:ext cx="104796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97720" y="3414600"/>
                <a:ext cx="118440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085760" y="4097160"/>
              <a:ext cx="1393920" cy="682200"/>
              <a:chOff x="1085760" y="4097160"/>
              <a:chExt cx="1393920" cy="682200"/>
            </a:xfrm>
          </p:grpSpPr>
          <p:sp>
            <p:nvSpPr>
              <p:cNvPr id="373" name=""/>
              <p:cNvSpPr/>
              <p:nvPr/>
            </p:nvSpPr>
            <p:spPr>
              <a:xfrm>
                <a:off x="1154160" y="4097160"/>
                <a:ext cx="125712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ndothermic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transfer rea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85760" y="4097160"/>
                <a:ext cx="139392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479680" y="4097160"/>
              <a:ext cx="1793880" cy="682200"/>
              <a:chOff x="2479680" y="4097160"/>
              <a:chExt cx="1793880" cy="682200"/>
            </a:xfrm>
          </p:grpSpPr>
          <p:sp>
            <p:nvSpPr>
              <p:cNvPr id="376" name=""/>
              <p:cNvSpPr/>
              <p:nvPr/>
            </p:nvSpPr>
            <p:spPr>
              <a:xfrm>
                <a:off x="2547720" y="4097160"/>
                <a:ext cx="165744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- </a:t>
                </a:r>
                <a:r>
                  <a:rPr b="0" i="1" lang="en-US" sz="7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x +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+ x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=an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479680" y="4097160"/>
                <a:ext cx="179388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73560" y="4097160"/>
              <a:ext cx="1108080" cy="682200"/>
              <a:chOff x="4273560" y="4097160"/>
              <a:chExt cx="1108080" cy="682200"/>
            </a:xfrm>
          </p:grpSpPr>
          <p:sp>
            <p:nvSpPr>
              <p:cNvPr id="379" name=""/>
              <p:cNvSpPr/>
              <p:nvPr/>
            </p:nvSpPr>
            <p:spPr>
              <a:xfrm>
                <a:off x="4341600" y="4097160"/>
                <a:ext cx="97164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8-1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73560" y="4097160"/>
                <a:ext cx="110808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381640" y="4097160"/>
              <a:ext cx="1160280" cy="682200"/>
              <a:chOff x="5381640" y="4097160"/>
              <a:chExt cx="1160280" cy="682200"/>
            </a:xfrm>
          </p:grpSpPr>
          <p:sp>
            <p:nvSpPr>
              <p:cNvPr id="382" name=""/>
              <p:cNvSpPr/>
              <p:nvPr/>
            </p:nvSpPr>
            <p:spPr>
              <a:xfrm>
                <a:off x="5449680" y="4097160"/>
                <a:ext cx="102420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81640" y="4097160"/>
                <a:ext cx="116028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541920" y="4097160"/>
              <a:ext cx="955800" cy="682200"/>
              <a:chOff x="6541920" y="4097160"/>
              <a:chExt cx="955800" cy="682200"/>
            </a:xfrm>
          </p:grpSpPr>
          <p:sp>
            <p:nvSpPr>
              <p:cNvPr id="385" name=""/>
              <p:cNvSpPr/>
              <p:nvPr/>
            </p:nvSpPr>
            <p:spPr>
              <a:xfrm>
                <a:off x="6610320" y="4097160"/>
                <a:ext cx="81900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4 to 0.8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41920" y="4097160"/>
                <a:ext cx="95580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497720" y="4097160"/>
              <a:ext cx="1184400" cy="682200"/>
              <a:chOff x="7497720" y="4097160"/>
              <a:chExt cx="1184400" cy="682200"/>
            </a:xfrm>
          </p:grpSpPr>
          <p:sp>
            <p:nvSpPr>
              <p:cNvPr id="388" name=""/>
              <p:cNvSpPr/>
              <p:nvPr/>
            </p:nvSpPr>
            <p:spPr>
              <a:xfrm>
                <a:off x="7565760" y="4097160"/>
                <a:ext cx="104796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97720" y="4097160"/>
                <a:ext cx="1184400" cy="68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085760" y="4779720"/>
              <a:ext cx="1393920" cy="682560"/>
              <a:chOff x="1085760" y="4779720"/>
              <a:chExt cx="1393920" cy="682560"/>
            </a:xfrm>
          </p:grpSpPr>
          <p:sp>
            <p:nvSpPr>
              <p:cNvPr id="391" name=""/>
              <p:cNvSpPr/>
              <p:nvPr/>
            </p:nvSpPr>
            <p:spPr>
              <a:xfrm>
                <a:off x="1154160" y="4779720"/>
                <a:ext cx="125712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Ligand transf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eaction to hydroge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85760" y="4779720"/>
                <a:ext cx="139392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479680" y="4779720"/>
              <a:ext cx="1793880" cy="682560"/>
              <a:chOff x="2479680" y="4779720"/>
              <a:chExt cx="1793880" cy="682560"/>
            </a:xfrm>
          </p:grpSpPr>
          <p:sp>
            <p:nvSpPr>
              <p:cNvPr id="394" name=""/>
              <p:cNvSpPr/>
              <p:nvPr/>
            </p:nvSpPr>
            <p:spPr>
              <a:xfrm>
                <a:off x="2547720" y="4779720"/>
                <a:ext cx="16574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+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 H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+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479680" y="4779720"/>
                <a:ext cx="17938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273560" y="4779720"/>
              <a:ext cx="1108080" cy="682560"/>
              <a:chOff x="4273560" y="4779720"/>
              <a:chExt cx="1108080" cy="682560"/>
            </a:xfrm>
          </p:grpSpPr>
          <p:sp>
            <p:nvSpPr>
              <p:cNvPr id="397" name=""/>
              <p:cNvSpPr/>
              <p:nvPr/>
            </p:nvSpPr>
            <p:spPr>
              <a:xfrm>
                <a:off x="4341600" y="4779720"/>
                <a:ext cx="9716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40-5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73560" y="4779720"/>
                <a:ext cx="11080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381640" y="4779720"/>
              <a:ext cx="1160280" cy="682560"/>
              <a:chOff x="5381640" y="4779720"/>
              <a:chExt cx="1160280" cy="682560"/>
            </a:xfrm>
          </p:grpSpPr>
          <p:sp>
            <p:nvSpPr>
              <p:cNvPr id="400" name=""/>
              <p:cNvSpPr/>
              <p:nvPr/>
            </p:nvSpPr>
            <p:spPr>
              <a:xfrm>
                <a:off x="5449680" y="4779720"/>
                <a:ext cx="102420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4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1640" y="4779720"/>
                <a:ext cx="116028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541920" y="4779720"/>
              <a:ext cx="955800" cy="682560"/>
              <a:chOff x="6541920" y="4779720"/>
              <a:chExt cx="955800" cy="682560"/>
            </a:xfrm>
          </p:grpSpPr>
          <p:sp>
            <p:nvSpPr>
              <p:cNvPr id="403" name=""/>
              <p:cNvSpPr/>
              <p:nvPr/>
            </p:nvSpPr>
            <p:spPr>
              <a:xfrm>
                <a:off x="6610320" y="4779720"/>
                <a:ext cx="81900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4 to 0.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41920" y="4779720"/>
                <a:ext cx="95580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497720" y="4779720"/>
              <a:ext cx="1184400" cy="682560"/>
              <a:chOff x="7497720" y="4779720"/>
              <a:chExt cx="1184400" cy="682560"/>
            </a:xfrm>
          </p:grpSpPr>
          <p:sp>
            <p:nvSpPr>
              <p:cNvPr id="406" name=""/>
              <p:cNvSpPr/>
              <p:nvPr/>
            </p:nvSpPr>
            <p:spPr>
              <a:xfrm>
                <a:off x="7565760" y="4779720"/>
                <a:ext cx="104796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497720" y="4779720"/>
                <a:ext cx="1184400" cy="68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085760" y="5462280"/>
              <a:ext cx="1393920" cy="571320"/>
              <a:chOff x="1085760" y="5462280"/>
              <a:chExt cx="1393920" cy="571320"/>
            </a:xfrm>
          </p:grpSpPr>
          <p:sp>
            <p:nvSpPr>
              <p:cNvPr id="409" name=""/>
              <p:cNvSpPr/>
              <p:nvPr/>
            </p:nvSpPr>
            <p:spPr>
              <a:xfrm>
                <a:off x="1154160" y="5462280"/>
                <a:ext cx="12571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ther ligand transfer reaction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85760" y="5462280"/>
                <a:ext cx="139392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2479680" y="5462280"/>
              <a:ext cx="1793880" cy="571320"/>
              <a:chOff x="2479680" y="5462280"/>
              <a:chExt cx="1793880" cy="571320"/>
            </a:xfrm>
          </p:grpSpPr>
          <p:sp>
            <p:nvSpPr>
              <p:cNvPr id="412" name=""/>
              <p:cNvSpPr/>
              <p:nvPr/>
            </p:nvSpPr>
            <p:spPr>
              <a:xfrm>
                <a:off x="2547720" y="5462280"/>
                <a:ext cx="16574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 +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 x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x=an ato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9680" y="5462280"/>
                <a:ext cx="179388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273560" y="5462280"/>
              <a:ext cx="1108080" cy="571320"/>
              <a:chOff x="4273560" y="5462280"/>
              <a:chExt cx="1108080" cy="571320"/>
            </a:xfrm>
          </p:grpSpPr>
          <p:sp>
            <p:nvSpPr>
              <p:cNvPr id="415" name=""/>
              <p:cNvSpPr/>
              <p:nvPr/>
            </p:nvSpPr>
            <p:spPr>
              <a:xfrm>
                <a:off x="4341600" y="5462280"/>
                <a:ext cx="97164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50 or mo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73560" y="5462280"/>
                <a:ext cx="110808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381640" y="5462280"/>
              <a:ext cx="1160280" cy="571320"/>
              <a:chOff x="5381640" y="5462280"/>
              <a:chExt cx="1160280" cy="571320"/>
            </a:xfrm>
          </p:grpSpPr>
          <p:sp>
            <p:nvSpPr>
              <p:cNvPr id="418" name=""/>
              <p:cNvSpPr/>
              <p:nvPr/>
            </p:nvSpPr>
            <p:spPr>
              <a:xfrm>
                <a:off x="5449680" y="5462280"/>
                <a:ext cx="10242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81640" y="5462280"/>
                <a:ext cx="116028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541920" y="5462280"/>
              <a:ext cx="955800" cy="571320"/>
              <a:chOff x="6541920" y="5462280"/>
              <a:chExt cx="955800" cy="571320"/>
            </a:xfrm>
          </p:grpSpPr>
          <p:sp>
            <p:nvSpPr>
              <p:cNvPr id="421" name=""/>
              <p:cNvSpPr/>
              <p:nvPr/>
            </p:nvSpPr>
            <p:spPr>
              <a:xfrm>
                <a:off x="6610320" y="5462280"/>
                <a:ext cx="8190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3 to 0.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541920" y="5462280"/>
                <a:ext cx="95580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7497720" y="5462280"/>
              <a:ext cx="1184400" cy="571320"/>
              <a:chOff x="7497720" y="5462280"/>
              <a:chExt cx="1184400" cy="571320"/>
            </a:xfrm>
          </p:grpSpPr>
          <p:sp>
            <p:nvSpPr>
              <p:cNvPr id="424" name=""/>
              <p:cNvSpPr/>
              <p:nvPr/>
            </p:nvSpPr>
            <p:spPr>
              <a:xfrm>
                <a:off x="7565760" y="5462280"/>
                <a:ext cx="10479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2898720"/>
                    <a:tab algn="r" pos="57880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97720" y="5462280"/>
                <a:ext cx="1184400" cy="571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0" y="8265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2898720"/>
                <a:tab algn="r" pos="578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898720"/>
                <a:tab algn="r" pos="578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2FC-82D5-432F-AA0C-6246C3AF57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18800" y="378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ere are we now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a=7 kcal/mo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a=43 kcal/mo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24B-ACE9-4937-86C1-83352009DD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ules for other reaction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teps have low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75 kT for initiation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40 kT for sid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lculate minimum temperature for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any other steps which follow the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AEE-A241-44E9-BB53-5127FCD548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More Complex Cases: Additional Reactions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asses of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nd Transfer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a-sc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merization Reactions (5-cen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ll the same rules app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FFF-AC79-456B-98B3-F8B05613E3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ore Complex Examples: Need To Reduce Number Of Species Considered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ied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feasible initiation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ll feasible reactions of radicals produced in initiation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generating reactions until I get to desir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reaction follows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98600" y="5659560"/>
            <a:ext cx="585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mated mechanism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57D-9753-4041-8227-27ABECBC50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feasible initiation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ll feasible reactions of radicals produced in initiation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generating reactions until I get to desir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reaction follows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98600" y="5659560"/>
            <a:ext cx="585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mated mechanism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968-1B6E-47CE-B2C0-C5687E9B8B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nitiation step: weakest bond breaks in the reactant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42120" y="22478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9080" y="22478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56200" y="2798640"/>
            <a:ext cx="5396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48160" y="1887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59400" y="253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92720" y="323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98680" y="1887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253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43240" y="323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167440" y="2188800"/>
            <a:ext cx="263520" cy="22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699000" y="2300400"/>
            <a:ext cx="193680" cy="1936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352680" y="2813040"/>
            <a:ext cx="331920" cy="144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642840" y="3062160"/>
            <a:ext cx="235080" cy="3333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08480" y="2786040"/>
            <a:ext cx="333360" cy="55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97600" y="3159000"/>
            <a:ext cx="236520" cy="3333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6760" y="4008600"/>
            <a:ext cx="172152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9 kcal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4487760" y="2882880"/>
            <a:ext cx="222480" cy="112248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9200" y="1405080"/>
            <a:ext cx="189072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2 kcal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07080" y="1816200"/>
            <a:ext cx="387360" cy="415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32640" y="5126040"/>
            <a:ext cx="412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0" y="5200560"/>
            <a:ext cx="33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58280" y="5200560"/>
            <a:ext cx="73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3400" y="5200560"/>
            <a:ext cx="28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30240" y="5200560"/>
            <a:ext cx="33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21480" y="5200560"/>
            <a:ext cx="73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83320" y="5200560"/>
            <a:ext cx="73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62880" y="5473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146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33640" y="5473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49400" y="5473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93240" y="5126040"/>
            <a:ext cx="296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54920" y="512604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46960" y="512604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04080" y="5126040"/>
            <a:ext cx="296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20160" y="47023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ion step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731-6F31-4FA6-BFCA-54AF5096B1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33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ossible mechanism for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019240" y="2057400"/>
            <a:ext cx="5711760" cy="3132000"/>
            <a:chOff x="2019240" y="2057400"/>
            <a:chExt cx="5711760" cy="3132000"/>
          </a:xfrm>
        </p:grpSpPr>
        <p:sp>
          <p:nvSpPr>
            <p:cNvPr id="477" name=""/>
            <p:cNvSpPr/>
            <p:nvPr/>
          </p:nvSpPr>
          <p:spPr>
            <a:xfrm>
              <a:off x="2019240" y="2057400"/>
              <a:ext cx="5711760" cy="3132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2086920" y="2139840"/>
              <a:ext cx="5292360" cy="2851920"/>
              <a:chOff x="2086920" y="2139840"/>
              <a:chExt cx="5292360" cy="2851920"/>
            </a:xfrm>
          </p:grpSpPr>
          <p:sp>
            <p:nvSpPr>
              <p:cNvPr id="479" name=""/>
              <p:cNvSpPr/>
              <p:nvPr/>
            </p:nvSpPr>
            <p:spPr>
              <a:xfrm>
                <a:off x="4693320" y="213984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88280" y="21877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98280" y="2187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22800" y="2187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02160" y="21877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23320" y="2187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867760" y="2187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038280" y="24447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780800" y="21528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66560" y="24447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411000" y="24447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76960" y="213984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63640" y="216864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291920" y="213984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09440" y="272412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7632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60960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5544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672800" y="27367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47300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2572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68040" y="3029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3164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5880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90608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2652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8212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229480" y="27716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921640" y="275256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88720" y="272412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91600" y="272412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86920" y="275256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318920" y="330840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42320" y="33559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338880" y="33559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358600" y="33559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09080" y="33559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111560" y="33559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04280" y="33559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69240" y="33559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07240" y="361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157000" y="361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396680" y="33228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48960" y="361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15720" y="361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32440" y="33084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27240" y="332280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41960" y="33084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03840" y="33084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251440" y="333684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52920" y="389268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73668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3512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2712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17360" y="3903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3952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58480" y="4162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234840" y="3933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26800" y="3933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70440" y="39337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37680" y="3933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53400" y="3933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692440" y="39337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76320" y="389268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270400" y="38926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30560" y="38926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991240" y="392112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18880" y="444348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282720" y="4748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31840" y="4748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98440" y="44560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912480" y="4748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44160" y="44910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090400" y="44910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511520" y="449100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371040" y="44910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40280" y="44910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300560" y="44434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36400" y="444348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74920" y="33336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8AC-5509-463D-B3B6-66EB1F080D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33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oes the Mechanism Fit All of the Rules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22400" y="4797360"/>
            <a:ext cx="78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ram the mechanism, estimate the activation barrier for each step and ask whether the mechanism follows th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7720" y="45226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019240" y="1384200"/>
            <a:ext cx="5711760" cy="3132000"/>
            <a:chOff x="2019240" y="1384200"/>
            <a:chExt cx="5711760" cy="3132000"/>
          </a:xfrm>
        </p:grpSpPr>
        <p:sp>
          <p:nvSpPr>
            <p:cNvPr id="563" name=""/>
            <p:cNvSpPr/>
            <p:nvPr/>
          </p:nvSpPr>
          <p:spPr>
            <a:xfrm>
              <a:off x="2019240" y="1384200"/>
              <a:ext cx="5711760" cy="3132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2086920" y="1466640"/>
              <a:ext cx="5292360" cy="2851920"/>
              <a:chOff x="2086920" y="1466640"/>
              <a:chExt cx="5292360" cy="2851920"/>
            </a:xfrm>
          </p:grpSpPr>
          <p:sp>
            <p:nvSpPr>
              <p:cNvPr id="565" name=""/>
              <p:cNvSpPr/>
              <p:nvPr/>
            </p:nvSpPr>
            <p:spPr>
              <a:xfrm>
                <a:off x="4693320" y="146664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488280" y="15145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98280" y="1514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22800" y="15145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502160" y="15145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523320" y="1514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67760" y="1514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38280" y="17715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780800" y="1479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66560" y="17715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411000" y="17715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276960" y="146664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363640" y="149544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91920" y="146664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09440" y="205092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7632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0960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5544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672800" y="20635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7300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82572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768040" y="2355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73164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05880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0608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2652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8212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29480" y="209844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921640" y="207936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688720" y="205092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91600" y="205092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86920" y="207936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318920" y="263520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042320" y="26827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338880" y="26827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58600" y="2682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09080" y="2682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111560" y="268272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04280" y="2682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469240" y="26827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07240" y="2940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157000" y="2940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396680" y="2649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48960" y="2940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015720" y="2940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32440" y="26352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627240" y="264960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41960" y="26352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03840" y="263520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251440" y="266364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552920" y="321948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668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13512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12712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17360" y="32306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3952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858480" y="3489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34840" y="3260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3260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870440" y="32605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937680" y="3260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53400" y="326052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692440" y="326052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76320" y="321948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70400" y="32194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30560" y="32194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991240" y="324792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18880" y="3770280"/>
                <a:ext cx="28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82720" y="4074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31840" y="4074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98440" y="3782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12480" y="4074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744160" y="38178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90400" y="38178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1520" y="381780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371040" y="3817800"/>
                <a:ext cx="5126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Arial"/>
                  </a:rPr>
                  <a:t>C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140280" y="38178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00560" y="37702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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136400" y="3770280"/>
                <a:ext cx="14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Symbol"/>
                    <a:ea typeface="Symbol"/>
                  </a:rPr>
                  <a:t>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74920" y="26604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4DB-69BF-43EF-B838-0FA02CC001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18800" y="304560"/>
            <a:ext cx="7870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We Know How to Calculat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Process 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What reactions can lead to the desired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What side reac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What are the rates of the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Any safety issu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Reaction con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Temperature,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Catalysts, sol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ct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STR vs plug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transfer &amp; pressure 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121-C684-4FF1-A869-6B375B3581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Solution I: Diagram Mechan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285920" y="917640"/>
          <a:ext cx="6948360" cy="54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917640"/>
                    <a:ext cx="694836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4C5-5041-42DF-9D2A-117964C85A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Solution II: Estimate activation barrier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23484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596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3164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2192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8876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0040" y="153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21560" y="135108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2044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0612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0108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792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9200" y="135108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91560" y="1316160"/>
            <a:ext cx="1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21640" y="13161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316160"/>
            <a:ext cx="24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38680" y="13161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59760" y="1316160"/>
            <a:ext cx="1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81160" y="1843200"/>
            <a:ext cx="405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imate heat of re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69680" y="7462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21040" y="75888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40080" y="75888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67920" y="7462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33480" y="746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06240" y="909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29960" y="922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32920" y="934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6560" y="68580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34280" y="4048200"/>
            <a:ext cx="110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93760" y="440064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7600" y="45514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14120" y="439092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73040" y="5067360"/>
            <a:ext cx="743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Use Blowers -Masel to Estimate Activation B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35680" y="5538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4435560" y="5538960"/>
            <a:ext cx="2264040" cy="402120"/>
            <a:chOff x="4435560" y="5538960"/>
            <a:chExt cx="2264040" cy="402120"/>
          </a:xfrm>
        </p:grpSpPr>
        <p:sp>
          <p:nvSpPr>
            <p:cNvPr id="683" name=""/>
            <p:cNvSpPr/>
            <p:nvPr/>
          </p:nvSpPr>
          <p:spPr>
            <a:xfrm>
              <a:off x="4435560" y="5538960"/>
              <a:ext cx="226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  = 8.7 kcal/m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13120" y="5727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828800" y="2246400"/>
            <a:ext cx="6019920" cy="2684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92560" y="4414680"/>
            <a:ext cx="51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-17.9 +28.4 -34.8 -(-20.0) = -4.3 kcal/m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83440" y="70812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28.4 kcal/m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926720" y="2754360"/>
            <a:ext cx="3430080" cy="428040"/>
            <a:chOff x="1926720" y="2754360"/>
            <a:chExt cx="3430080" cy="428040"/>
          </a:xfrm>
        </p:grpSpPr>
        <p:sp>
          <p:nvSpPr>
            <p:cNvPr id="689" name=""/>
            <p:cNvSpPr/>
            <p:nvPr/>
          </p:nvSpPr>
          <p:spPr>
            <a:xfrm>
              <a:off x="2984760" y="2763720"/>
              <a:ext cx="12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26720" y="2759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54880" y="2754360"/>
              <a:ext cx="3301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(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3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) = +34.8kcal/m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926720" y="3159000"/>
            <a:ext cx="3305520" cy="428040"/>
            <a:chOff x="1926720" y="3159000"/>
            <a:chExt cx="3305520" cy="428040"/>
          </a:xfrm>
        </p:grpSpPr>
        <p:sp>
          <p:nvSpPr>
            <p:cNvPr id="693" name=""/>
            <p:cNvSpPr/>
            <p:nvPr/>
          </p:nvSpPr>
          <p:spPr>
            <a:xfrm>
              <a:off x="1926720" y="31636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47680" y="3159000"/>
              <a:ext cx="318456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(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) = -17.9 kcal/m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926720" y="2351160"/>
            <a:ext cx="3804480" cy="428040"/>
            <a:chOff x="1926720" y="2351160"/>
            <a:chExt cx="3804480" cy="428040"/>
          </a:xfrm>
        </p:grpSpPr>
        <p:sp>
          <p:nvSpPr>
            <p:cNvPr id="696" name=""/>
            <p:cNvSpPr/>
            <p:nvPr/>
          </p:nvSpPr>
          <p:spPr>
            <a:xfrm>
              <a:off x="1926720" y="23558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54520" y="2351160"/>
              <a:ext cx="367668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(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) = -20.0 kcal/m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926720" y="3564000"/>
            <a:ext cx="4078440" cy="434160"/>
            <a:chOff x="1926720" y="3564000"/>
            <a:chExt cx="4078440" cy="434160"/>
          </a:xfrm>
        </p:grpSpPr>
        <p:sp>
          <p:nvSpPr>
            <p:cNvPr id="699" name=""/>
            <p:cNvSpPr/>
            <p:nvPr/>
          </p:nvSpPr>
          <p:spPr>
            <a:xfrm>
              <a:off x="2588040" y="3564000"/>
              <a:ext cx="12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926720" y="357516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54520" y="3570120"/>
              <a:ext cx="395064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(   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) = +28.4 kcal/mo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556320" y="26971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from NIST Webbo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446-058E-4D76-B227-261025E3C5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s that a low enough activation energy? 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128600" y="1400040"/>
            <a:ext cx="769644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steps must satisf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 &lt; 75 kT for initiation st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ergy low enough if temperature high en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27440" y="519912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n Calculate feasibl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emperatur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61A-C4BD-4548-AAEE-F97E97358F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oes Another Reaction Occur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757520" y="1947960"/>
            <a:ext cx="5784120" cy="832320"/>
            <a:chOff x="1757520" y="1947960"/>
            <a:chExt cx="5784120" cy="832320"/>
          </a:xfrm>
        </p:grpSpPr>
        <p:sp>
          <p:nvSpPr>
            <p:cNvPr id="709" name=""/>
            <p:cNvSpPr/>
            <p:nvPr/>
          </p:nvSpPr>
          <p:spPr>
            <a:xfrm>
              <a:off x="4485240" y="1947960"/>
              <a:ext cx="4550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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10880" y="1947960"/>
              <a:ext cx="23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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30000" y="194796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11280" y="194796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03920" y="1947960"/>
              <a:ext cx="23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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8760" y="2353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14280" y="2353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88200" y="19652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4400" y="2353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76080" y="2353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77320" y="2010600"/>
              <a:ext cx="7779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C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81320" y="2010600"/>
              <a:ext cx="7779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C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12240" y="2010600"/>
              <a:ext cx="7779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C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57160" y="2010600"/>
              <a:ext cx="7779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C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7520" y="2010600"/>
              <a:ext cx="404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444680" y="4499640"/>
            <a:ext cx="63802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tep does not satisfy criterion: rate neglig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3480" y="3313080"/>
            <a:ext cx="295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37.48 Kcal/m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922120" y="3327480"/>
            <a:ext cx="310320" cy="402120"/>
            <a:chOff x="2922120" y="3327480"/>
            <a:chExt cx="310320" cy="402120"/>
          </a:xfrm>
        </p:grpSpPr>
        <p:sp>
          <p:nvSpPr>
            <p:cNvPr id="727" name=""/>
            <p:cNvSpPr/>
            <p:nvPr/>
          </p:nvSpPr>
          <p:spPr>
            <a:xfrm>
              <a:off x="2922120" y="33274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03560" y="3516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D05-B858-418E-A3BA-270C7CA9D3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143000" y="137160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 generic reaction typ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steps must satisf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 &lt; 70 kT for initiation 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d other steps that satisfy constra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at Are Side Reactions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EE5-0715-460E-B9A9-711FF18377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ridge to catalysi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43000" y="1020240"/>
            <a:ext cx="7772400" cy="514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also work 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wers-Masel works On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a possible catalyst (try all  me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of reaction changes because catalyst binds intermedi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emperature where all criterion satis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st temp is best catalyst - need to also check side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work on acid cataly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new rate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DD6-E972-4724-9031-D1248CFDA8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38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edict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predict process temper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results to predict cataly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808-76C9-4074-BC1C-0FD1A17E34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18800" y="304560"/>
            <a:ext cx="7870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his Work Gives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 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reactions can lead to the desired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ide reac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rates of the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saf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ety issu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ction con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,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alysts, sol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Contacting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CSTR vs plug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Mix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Heat transfer &amp; pressure 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CAA-5C3E-4750-AA6E-7DF7A5DEB9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Our Approach to Predict Process 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hemistry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&amp; Condition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rules for what reactions can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75 kT for initiation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35 kT for propagation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pproximations for 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findings as a way to quantify process 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hesize the results for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C77-7C6A-4121-9677-2221434FF4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Rules for mechanisms: Most practical mechanisms must hav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3429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on st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kest bond in reactants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tic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 generic reaction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ion st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105520" y="1371600"/>
            <a:ext cx="3733560" cy="2666880"/>
            <a:chOff x="5105520" y="1371600"/>
            <a:chExt cx="3733560" cy="2666880"/>
          </a:xfrm>
        </p:grpSpPr>
        <p:sp>
          <p:nvSpPr>
            <p:cNvPr id="169" name=""/>
            <p:cNvSpPr/>
            <p:nvPr/>
          </p:nvSpPr>
          <p:spPr>
            <a:xfrm>
              <a:off x="5105520" y="1371600"/>
              <a:ext cx="3733560" cy="266688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520" y="2209680"/>
              <a:ext cx="1447560" cy="14472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17680" y="20998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83920" y="3501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05680" y="2228760"/>
              <a:ext cx="577800" cy="1404360"/>
            </a:xfrm>
            <a:custGeom>
              <a:avLst/>
              <a:gdLst/>
              <a:ahLst/>
              <a:rect l="l" t="t" r="r" b="b"/>
              <a:pathLst>
                <a:path w="709" h="1769">
                  <a:moveTo>
                    <a:pt x="71" y="1769"/>
                  </a:moveTo>
                  <a:lnTo>
                    <a:pt x="188" y="1710"/>
                  </a:lnTo>
                  <a:lnTo>
                    <a:pt x="297" y="1639"/>
                  </a:lnTo>
                  <a:lnTo>
                    <a:pt x="396" y="1561"/>
                  </a:lnTo>
                  <a:lnTo>
                    <a:pt x="482" y="1474"/>
                  </a:lnTo>
                  <a:lnTo>
                    <a:pt x="556" y="1379"/>
                  </a:lnTo>
                  <a:lnTo>
                    <a:pt x="617" y="1278"/>
                  </a:lnTo>
                  <a:lnTo>
                    <a:pt x="662" y="1175"/>
                  </a:lnTo>
                  <a:lnTo>
                    <a:pt x="692" y="1065"/>
                  </a:lnTo>
                  <a:lnTo>
                    <a:pt x="709" y="955"/>
                  </a:lnTo>
                  <a:lnTo>
                    <a:pt x="709" y="843"/>
                  </a:lnTo>
                  <a:lnTo>
                    <a:pt x="692" y="731"/>
                  </a:lnTo>
                  <a:lnTo>
                    <a:pt x="662" y="622"/>
                  </a:lnTo>
                  <a:lnTo>
                    <a:pt x="617" y="517"/>
                  </a:lnTo>
                  <a:lnTo>
                    <a:pt x="556" y="417"/>
                  </a:lnTo>
                  <a:lnTo>
                    <a:pt x="482" y="322"/>
                  </a:lnTo>
                  <a:lnTo>
                    <a:pt x="395" y="235"/>
                  </a:lnTo>
                  <a:lnTo>
                    <a:pt x="297" y="15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68960" y="2209680"/>
              <a:ext cx="236880" cy="158400"/>
            </a:xfrm>
            <a:custGeom>
              <a:avLst/>
              <a:gdLst/>
              <a:ahLst/>
              <a:rect l="l" t="t" r="r" b="b"/>
              <a:pathLst>
                <a:path w="290" h="199">
                  <a:moveTo>
                    <a:pt x="222" y="199"/>
                  </a:moveTo>
                  <a:lnTo>
                    <a:pt x="0" y="0"/>
                  </a:lnTo>
                  <a:lnTo>
                    <a:pt x="290" y="71"/>
                  </a:lnTo>
                  <a:lnTo>
                    <a:pt x="222" y="199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3200" y="2228760"/>
              <a:ext cx="576000" cy="1404360"/>
            </a:xfrm>
            <a:custGeom>
              <a:avLst/>
              <a:gdLst/>
              <a:ahLst/>
              <a:rect l="l" t="t" r="r" b="b"/>
              <a:pathLst>
                <a:path w="710" h="1769">
                  <a:moveTo>
                    <a:pt x="639" y="1769"/>
                  </a:moveTo>
                  <a:lnTo>
                    <a:pt x="521" y="1710"/>
                  </a:lnTo>
                  <a:lnTo>
                    <a:pt x="412" y="1639"/>
                  </a:lnTo>
                  <a:lnTo>
                    <a:pt x="314" y="1561"/>
                  </a:lnTo>
                  <a:lnTo>
                    <a:pt x="227" y="1474"/>
                  </a:lnTo>
                  <a:lnTo>
                    <a:pt x="154" y="1379"/>
                  </a:lnTo>
                  <a:lnTo>
                    <a:pt x="93" y="1278"/>
                  </a:lnTo>
                  <a:lnTo>
                    <a:pt x="48" y="1175"/>
                  </a:lnTo>
                  <a:lnTo>
                    <a:pt x="16" y="1065"/>
                  </a:lnTo>
                  <a:lnTo>
                    <a:pt x="0" y="955"/>
                  </a:lnTo>
                  <a:lnTo>
                    <a:pt x="0" y="843"/>
                  </a:lnTo>
                  <a:lnTo>
                    <a:pt x="16" y="731"/>
                  </a:lnTo>
                  <a:lnTo>
                    <a:pt x="48" y="622"/>
                  </a:lnTo>
                  <a:lnTo>
                    <a:pt x="93" y="517"/>
                  </a:lnTo>
                  <a:lnTo>
                    <a:pt x="154" y="417"/>
                  </a:lnTo>
                  <a:lnTo>
                    <a:pt x="229" y="322"/>
                  </a:lnTo>
                  <a:lnTo>
                    <a:pt x="315" y="235"/>
                  </a:lnTo>
                  <a:lnTo>
                    <a:pt x="412" y="156"/>
                  </a:lnTo>
                  <a:lnTo>
                    <a:pt x="710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67600" y="2209680"/>
              <a:ext cx="238320" cy="158400"/>
            </a:xfrm>
            <a:custGeom>
              <a:avLst/>
              <a:gdLst/>
              <a:ahLst/>
              <a:rect l="l" t="t" r="r" b="b"/>
              <a:pathLst>
                <a:path w="291" h="199">
                  <a:moveTo>
                    <a:pt x="0" y="71"/>
                  </a:moveTo>
                  <a:lnTo>
                    <a:pt x="291" y="0"/>
                  </a:lnTo>
                  <a:lnTo>
                    <a:pt x="67" y="1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64240" y="2239560"/>
              <a:ext cx="579240" cy="1404720"/>
            </a:xfrm>
            <a:custGeom>
              <a:avLst/>
              <a:gdLst/>
              <a:ahLst/>
              <a:rect l="l" t="t" r="r" b="b"/>
              <a:pathLst>
                <a:path w="712" h="1770">
                  <a:moveTo>
                    <a:pt x="73" y="0"/>
                  </a:moveTo>
                  <a:lnTo>
                    <a:pt x="190" y="60"/>
                  </a:lnTo>
                  <a:lnTo>
                    <a:pt x="299" y="128"/>
                  </a:lnTo>
                  <a:lnTo>
                    <a:pt x="397" y="208"/>
                  </a:lnTo>
                  <a:lnTo>
                    <a:pt x="485" y="295"/>
                  </a:lnTo>
                  <a:lnTo>
                    <a:pt x="558" y="391"/>
                  </a:lnTo>
                  <a:lnTo>
                    <a:pt x="617" y="490"/>
                  </a:lnTo>
                  <a:lnTo>
                    <a:pt x="664" y="595"/>
                  </a:lnTo>
                  <a:lnTo>
                    <a:pt x="695" y="704"/>
                  </a:lnTo>
                  <a:lnTo>
                    <a:pt x="712" y="816"/>
                  </a:lnTo>
                  <a:lnTo>
                    <a:pt x="712" y="926"/>
                  </a:lnTo>
                  <a:lnTo>
                    <a:pt x="695" y="1039"/>
                  </a:lnTo>
                  <a:lnTo>
                    <a:pt x="664" y="1147"/>
                  </a:lnTo>
                  <a:lnTo>
                    <a:pt x="617" y="1252"/>
                  </a:lnTo>
                  <a:lnTo>
                    <a:pt x="558" y="1353"/>
                  </a:lnTo>
                  <a:lnTo>
                    <a:pt x="484" y="1447"/>
                  </a:lnTo>
                  <a:lnTo>
                    <a:pt x="397" y="1533"/>
                  </a:lnTo>
                  <a:lnTo>
                    <a:pt x="299" y="1613"/>
                  </a:lnTo>
                  <a:lnTo>
                    <a:pt x="0" y="17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29320" y="3504960"/>
              <a:ext cx="235080" cy="158400"/>
            </a:xfrm>
            <a:custGeom>
              <a:avLst/>
              <a:gdLst/>
              <a:ahLst/>
              <a:rect l="l" t="t" r="r" b="b"/>
              <a:pathLst>
                <a:path w="289" h="198">
                  <a:moveTo>
                    <a:pt x="289" y="128"/>
                  </a:moveTo>
                  <a:lnTo>
                    <a:pt x="0" y="198"/>
                  </a:lnTo>
                  <a:lnTo>
                    <a:pt x="222" y="0"/>
                  </a:lnTo>
                  <a:lnTo>
                    <a:pt x="289" y="128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54640" y="2239560"/>
              <a:ext cx="577800" cy="1404720"/>
            </a:xfrm>
            <a:custGeom>
              <a:avLst/>
              <a:gdLst/>
              <a:ahLst/>
              <a:rect l="l" t="t" r="r" b="b"/>
              <a:pathLst>
                <a:path w="710" h="1770">
                  <a:moveTo>
                    <a:pt x="639" y="0"/>
                  </a:moveTo>
                  <a:lnTo>
                    <a:pt x="520" y="60"/>
                  </a:lnTo>
                  <a:lnTo>
                    <a:pt x="412" y="128"/>
                  </a:lnTo>
                  <a:lnTo>
                    <a:pt x="314" y="208"/>
                  </a:lnTo>
                  <a:lnTo>
                    <a:pt x="228" y="295"/>
                  </a:lnTo>
                  <a:lnTo>
                    <a:pt x="152" y="391"/>
                  </a:lnTo>
                  <a:lnTo>
                    <a:pt x="93" y="490"/>
                  </a:lnTo>
                  <a:lnTo>
                    <a:pt x="48" y="595"/>
                  </a:lnTo>
                  <a:lnTo>
                    <a:pt x="15" y="704"/>
                  </a:lnTo>
                  <a:lnTo>
                    <a:pt x="0" y="816"/>
                  </a:lnTo>
                  <a:lnTo>
                    <a:pt x="0" y="926"/>
                  </a:lnTo>
                  <a:lnTo>
                    <a:pt x="15" y="1039"/>
                  </a:lnTo>
                  <a:lnTo>
                    <a:pt x="48" y="1147"/>
                  </a:lnTo>
                  <a:lnTo>
                    <a:pt x="93" y="1252"/>
                  </a:lnTo>
                  <a:lnTo>
                    <a:pt x="152" y="1353"/>
                  </a:lnTo>
                  <a:lnTo>
                    <a:pt x="228" y="1447"/>
                  </a:lnTo>
                  <a:lnTo>
                    <a:pt x="315" y="1533"/>
                  </a:lnTo>
                  <a:lnTo>
                    <a:pt x="412" y="1613"/>
                  </a:lnTo>
                  <a:lnTo>
                    <a:pt x="710" y="17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30840" y="3504960"/>
              <a:ext cx="236520" cy="158400"/>
            </a:xfrm>
            <a:custGeom>
              <a:avLst/>
              <a:gdLst/>
              <a:ahLst/>
              <a:rect l="l" t="t" r="r" b="b"/>
              <a:pathLst>
                <a:path w="291" h="198">
                  <a:moveTo>
                    <a:pt x="69" y="0"/>
                  </a:moveTo>
                  <a:lnTo>
                    <a:pt x="291" y="198"/>
                  </a:lnTo>
                  <a:lnTo>
                    <a:pt x="0" y="12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0" y="205704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19520" y="35017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45240" y="3700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6720" y="3490560"/>
              <a:ext cx="3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45720" y="20746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11320" y="2284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27400" y="14936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51320" y="1604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1728720"/>
              <a:ext cx="57240" cy="404280"/>
            </a:xfrm>
            <a:custGeom>
              <a:avLst/>
              <a:gdLst/>
              <a:ahLst/>
              <a:rect l="l" t="t" r="r" b="b"/>
              <a:pathLst>
                <a:path w="69" h="511">
                  <a:moveTo>
                    <a:pt x="69" y="0"/>
                  </a:moveTo>
                  <a:lnTo>
                    <a:pt x="69" y="511"/>
                  </a:lnTo>
                  <a:lnTo>
                    <a:pt x="0" y="369"/>
                  </a:lnTo>
                  <a:lnTo>
                    <a:pt x="59" y="369"/>
                  </a:lnTo>
                  <a:lnTo>
                    <a:pt x="5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73920" y="1752480"/>
              <a:ext cx="57240" cy="406080"/>
            </a:xfrm>
            <a:custGeom>
              <a:avLst/>
              <a:gdLst/>
              <a:ahLst/>
              <a:rect l="l" t="t" r="r" b="b"/>
              <a:pathLst>
                <a:path w="69" h="512">
                  <a:moveTo>
                    <a:pt x="0" y="512"/>
                  </a:moveTo>
                  <a:lnTo>
                    <a:pt x="0" y="0"/>
                  </a:lnTo>
                  <a:lnTo>
                    <a:pt x="69" y="148"/>
                  </a:lnTo>
                  <a:lnTo>
                    <a:pt x="10" y="148"/>
                  </a:lnTo>
                  <a:lnTo>
                    <a:pt x="10" y="512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143000" y="441972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teps have low barr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75 kT for initiation 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 &lt; 35 kT for propagation 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876920"/>
            <a:ext cx="190512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Ti Lee's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AF4-E351-4E85-B9C9-9ED3BFD4B3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complete method for mechanism prediction 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out what species a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,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list of all possible reactions of those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which reactions must b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tic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 reactions which are s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32A-32BF-4069-A6F6-A8FBE6EF52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Br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466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H, Br, H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r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Br  only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Initi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H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of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E72-B395-4A00-87CD-AC66FBCA6F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18800" y="-36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HBr 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ontinued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0094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of 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in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 +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+ Br 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sibl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center reactions (Fl, Cl excep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s without collisio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0C8-3758-45AA-93AB-145E8010C9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02:22:52Z</dcterms:created>
  <dc:creator>Rich Masel</dc:creator>
  <dc:description/>
  <dc:language>en-US</dc:language>
  <cp:lastModifiedBy>Rich Masel</cp:lastModifiedBy>
  <dcterms:modified xsi:type="dcterms:W3CDTF">2001-02-20T14:46:16Z</dcterms:modified>
  <cp:revision>16</cp:revision>
  <dc:subject/>
  <dc:title>Engineering Approximations in Chemical Kinetics</dc:title>
</cp:coreProperties>
</file>