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55BB2-FF21-4DFD-A0F8-E33114874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86947-13DA-4BA3-9E8D-B312DC764D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21DD1-3700-4B9A-87B0-B8E954ED94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7F7A9-9097-42BA-B8CB-92E797A1F9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A971C-7ECF-4EA7-A9B5-3A083F977D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CBFFE-F2C3-4A84-A389-1019599FB8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C6169-5A9B-417C-8699-DE6EC150B0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079F6-602B-4210-9B63-F986A6F027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3F4A6-B6D9-42AD-A610-BFC76A4910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D9970-D2C9-43D0-9762-95A95A1E72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072CF-ED96-43BB-9EAC-793C4A83F9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896A9-0916-4784-A283-489BC035AA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40A-D43B-4611-9B16-D8EF985F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C284-5B48-4D35-B7C1-5BFCBE74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165-2E40-4773-9CFC-FB658405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9CA-1F95-4D3F-B312-219C6C44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DF0-1D91-41B1-BA4E-325E24A4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A27-2A37-48D8-A519-278C29E1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C61-2FF0-45A8-BE6E-5F43E1D1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D67-1E4C-4C75-A651-6E742CEA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793-5993-4D43-BE91-B053B5FC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1FC-E23F-4CCD-A9F7-59333FA5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2C1-6EA0-4D4E-AC2F-724C3176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966-8934-4487-859F-EEAD847D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3CA0-F843-43C4-86A7-4F03C70B5E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Controls, Forms, par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86080" y="5719680"/>
            <a:ext cx="456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 Visual Studio. Open the Lecture18/19 Web s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989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05120" y="1754280"/>
            <a:ext cx="54892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Inserting data, other feat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 Improve the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edit the page links in the nav bar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n Offices.aspx page if you have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(h2) text on the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t website.map to include new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what the ‘breadcrumb’ navigation uses as it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ext to Default.aspx, your hom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‘Contact us’ link; it should send e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s to the pages you created (&lt;title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some SQL by hand in the SQLDataSource wiz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INSERT statement in CustomerOrders.aspx to confirm it does not have a primary key field, because the customer number is IDENTITY (auto-genera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351600" y="6324480"/>
            <a:ext cx="58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oolkit.ashr.transportation.org/NCHRP.aspx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save pages in VSW after makin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on tab means the page has not been sa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refresh the browser after you make a change to a Web page and are testing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rowser caches the page, and doesn’t know that you’ve changed it unless you force a refr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 up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your Web site to another Web site on your computer periodic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NET (and JEE 6, LAMP) framework allows Web site construction from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onnect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, form, data, detail views for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ion controls (we didn’t cover th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ion controls (SiteMapPath, oth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and permiss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JAX: Asynchronoux Javascript and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es the sorting in GridView, 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: machine-to-machine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this in the next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works for Web-database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.NE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, IIS, SQL Server, ASP.NET and C# or other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va Enterprise Edition (JEE 6 or, older, J2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S, Glassfish/Apache, any database, 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MP open sour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ux, Apache, MySQL, 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can essentially inter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ices based on cost-speed-performance-security-stability tradeoff: Java -&gt; .NET -&gt; 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similar features, though details v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P.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pages are .aspx pages. They have 2 par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Aspx page, which is considered a Web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Microsoft ASP.NET server code that converts the controls on the .aspx page into XHTML that is sent back to a client (browser or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HTML code is generated dynamically based on database queries and programs that run on the server, such as optimization or design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ites are compiled to check for errors, just like software programs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bug-&gt; Build Web Sit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heck for err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-driven model, as we’ve seen in our exerci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Inserted, DataUpdated, DataDeleted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Web site Lecture18 in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7169760" y="658188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 to next slide to fin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delete: part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Edit data between two tab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3 SqlDataSources, 2 GridViews and Form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 and edit orders for a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use this to display and edit line items in an order in homework 7/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s to create CustomerOrders p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1: select * from custo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1 on data source 1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2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customer is selected value from Gridview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2 on data source 2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3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order is selected value from Gridview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: Enable insert, delete, 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FormView1 on data sourc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GridView2.DataBind() to events as in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&lt;h2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447920" y="1065240"/>
            <a:ext cx="62910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Passing a WHERE parameter across p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get parameters for WHERE clause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(e.g., GridVi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String (e.g., localhost/Order?ID=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ssion variables, prof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2.aspx with two hyper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1: SalesReps3.aspx?office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2: SalesReps3.aspx?office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3.aspx. On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qlDataSource1 WHERE RepOffice= QueryString 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GridView on SQLDataSourc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n SalesReps2 in browser and click on 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use this to display your catalog in homework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3T23:49:51Z</dcterms:modified>
  <cp:revision>217</cp:revision>
  <dc:subject/>
  <dc:title>1.264 Lecture 5</dc:title>
</cp:coreProperties>
</file>