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190E-80C1-46B9-A441-0FBABFDF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3EF8-A9C2-4F93-B1BA-8824348D79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6B2E-187D-43A9-820A-818E208053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01ED-9473-489F-B91E-BB20AF90C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7D51-8003-4325-8059-98F1854ECD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6F5C-4714-4DFF-9844-60F4C2BF30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26FB-81ED-43E9-94CC-22FC41DC02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1934-AF3C-41B6-8D30-253495CBF1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D3B9-998E-4477-8785-EFED385664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F559-7399-451B-9581-7FD136C723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4090-D608-4EBA-BA00-59382A1E3E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7C39-F544-442E-9BF3-1F190BBBBB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999E-C53F-4071-ABEF-F5F21AC82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E84E-FFCF-4003-BF6F-E9D0CC806D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7EB5-4092-43E8-B467-9A494C9A94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9225-478A-4F3B-9582-BB2CC822F7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23BE-23B0-4574-8246-45A25EE565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B01C-D2D9-4C64-8CD5-A6937A55D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918D-AC12-42E5-AD52-1E017B8D42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195-4F39-4DBF-A0E3-876F5E78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0A4-F70D-4F31-BBC0-EEDFD5EA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CF9-8A95-486A-8178-3B014CB6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58E-583A-4519-A27D-7E51B30F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C7F-1ADF-460A-8E7C-843104AB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252-D4D9-4A17-8D3B-B5D19DB8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A89-18DB-4C9C-A90D-E29D256E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7D0-8778-43C0-84C7-D6E34E19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65B-9A92-4474-BDE3-EADCAD91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38F-B840-4F87-8042-06EF4A12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AA1-0760-45A8-9596-88151902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152-0E7C-4BF7-B23B-4324CDA2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B55A-0723-44F5-AFB7-F45700E947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360" y="5719680"/>
            <a:ext cx="48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ease start Visual Paradigm-we’ll use it in class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 zip file to download-it’s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based on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9840" cy="477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7360" y="601992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per” legacy code: almost all allow Web services to b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a few Web services needed per legacy app to interface to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 diagram for application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14720" y="1600200"/>
            <a:ext cx="50241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91160" y="57150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classes for car rental, itinerary check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these methods in C#, similar to those on .aspx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 server and its tools handle db, xhtml, xml input/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5880" y="20574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 flipV="1">
            <a:off x="1904760" y="2285280"/>
            <a:ext cx="1905480" cy="2293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1295280" y="2819160"/>
            <a:ext cx="106776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>
            <a:off x="1523880" y="2819520"/>
            <a:ext cx="3734640" cy="838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-11520" y="449568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/fun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UML/req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V="1">
            <a:off x="1904760" y="2819160"/>
            <a:ext cx="2362680" cy="17532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5" name="Straight Arrow Connector 15"/>
          <p:cNvCxnSpPr/>
          <p:nvPr/>
        </p:nvCxnSpPr>
        <p:spPr>
          <a:xfrm>
            <a:off x="2057040" y="4876560"/>
            <a:ext cx="610200" cy="1530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/>
          <p:nvPr/>
        </p:nvCxnSpPr>
        <p:spPr>
          <a:xfrm>
            <a:off x="2133360" y="4800600"/>
            <a:ext cx="3429720" cy="766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7" name="Straight Arrow Connector 7"/>
          <p:cNvCxnSpPr/>
          <p:nvPr/>
        </p:nvCxnSpPr>
        <p:spPr>
          <a:xfrm flipH="1">
            <a:off x="5714640" y="1904040"/>
            <a:ext cx="1829520" cy="11437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8" name="TextBox 5"/>
          <p:cNvSpPr/>
          <p:nvPr/>
        </p:nvSpPr>
        <p:spPr>
          <a:xfrm>
            <a:off x="7193880" y="152388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to-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hip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greg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terface architectu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include the hardware and the software that runs o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hitecture components at server 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03848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71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64832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00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048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724280" y="48769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77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7543800" y="5791320"/>
            <a:ext cx="1219320" cy="7617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952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952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952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133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213372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705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809520" y="2209680"/>
            <a:ext cx="114300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809880" y="2057400"/>
            <a:ext cx="114300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0988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731520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190512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54100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731520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38098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54100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5"/>
          <p:cNvSpPr/>
          <p:nvPr/>
        </p:nvSpPr>
        <p:spPr>
          <a:xfrm>
            <a:off x="7315200" y="53341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 rot="16215000">
            <a:off x="-228240" y="441900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 rot="16215000">
            <a:off x="7848360" y="434304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71"/>
          <p:cNvSpPr/>
          <p:nvPr/>
        </p:nvSpPr>
        <p:spPr>
          <a:xfrm>
            <a:off x="2971800" y="1066680"/>
            <a:ext cx="289548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2209680" y="1447920"/>
            <a:ext cx="91440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5638680" y="1447920"/>
            <a:ext cx="106704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809880" y="205740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809880" y="33526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8098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1905120" y="466740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1905120" y="5562720"/>
            <a:ext cx="6324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8229600" y="55627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137160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304812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4724280" y="57913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6400800" y="5791320"/>
            <a:ext cx="9907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0"/>
          <p:cNvSpPr/>
          <p:nvPr/>
        </p:nvSpPr>
        <p:spPr>
          <a:xfrm>
            <a:off x="7422120" y="6496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0s of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91"/>
          <p:cNvSpPr/>
          <p:nvPr/>
        </p:nvSpPr>
        <p:spPr>
          <a:xfrm>
            <a:off x="6858000" y="55627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ystemArchitecture"/>
          <p:cNvPicPr/>
          <p:nvPr/>
        </p:nvPicPr>
        <p:blipFill>
          <a:blip r:embed="rId1"/>
          <a:stretch/>
        </p:blipFill>
        <p:spPr>
          <a:xfrm>
            <a:off x="1808280" y="1143000"/>
            <a:ext cx="565920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6400800" y="1143000"/>
            <a:ext cx="1066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example of system hard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uter, firewall, load bal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 routes IP (TCP/IP and UDP/IP)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table: send packet to local machine or to another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 examines all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IP address,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ts contents from all Internet protocols if suspi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 sends HTTP packets to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s based on HTTP header: client IP, cooki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nexpensive servers function as singl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new servers, sites without interruption to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er, app server, database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(HTTP)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HTTP requests and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s and writes XML and XHT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it as a pre-written main program with many pre-written components for common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Web pages/XML, read/write from db eas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from UML use cases, sequence diagrams: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entry, receiving, shipping, payment, engineering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istent storage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across applications and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sitory of business rules, within database and to guide XML document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tier archite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478240" y="102708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client (browser/a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78240" y="24750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(HTTP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478240" y="40752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07844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2680" y="175248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TTP GET, POST;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575460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921280" y="17510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XM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07844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4920" y="3324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spx page calls business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575460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689800" y="3287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usiness logic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623720" y="9907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7622280" y="2475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622280" y="4075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73200" y="5675400"/>
            <a:ext cx="472464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407340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711080" y="4876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4992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19920" y="48880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 result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7617600" y="5675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78840" y="6424560"/>
            <a:ext cx="89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In HW7, your aspx pages include the business logic that is usually in the application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7393320" y="434340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.NET, JE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277040" y="27874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IS, Glassfi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190640" y="59878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QL Svr, Orac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Travel indus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ravel Alliance (www.opentravel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+ airlines, hotels, car rental, GDS,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S: global distribution system (Sabre, Apoll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to implement industry-wide open e-business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distribution supply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d common XML formats, trading partner to trading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re to lower supply chain costs and improve consumer travel costs and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tocols in curre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Teletype: 64 character sen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EDIFACT (EDI): fixed messages, difficult to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systems, messages have been used for 3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travel agency “T” in Midw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busin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, hotel reservations for res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ttraction reservations for international vis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us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, fax, teletext messag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ly developed computer apps: customers, local attracti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changed travel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became GDS partner for international travel in Mid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services offered: air, hotel, rail, car r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international services for US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ed branch offices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835360" y="64008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Kumar, Narayan, Ng, “Implementing SOA Using Java E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changed its information systems to work with GDS and its consume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oftware, middleware, desktops, serv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unable to penetrate international trave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remedy this, it bought  UK and Asian travel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companies had different legacy applications, and networks,  which created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rchitecture needed for new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evolving customer and GDS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legac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n existing Web services,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new Web services to replace legacy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ity diagram: current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1272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35240" y="1371600"/>
            <a:ext cx="48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ices are comple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: carrier, price, time, hops,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tel: chain, room type, rate, location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, sightseeing package sim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reservation may bundle hotel, car reservations a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confirmation may be delayed (especially inter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itinerary not acceptable to customer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change their mind partway through the itinerary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vel packages must be flexible, attractively priced, easily bo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have own discounts: AAA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process too slow for online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 UML activity diagr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as many steps from previous diagram in parallel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parallel result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ults fit together: present the outcome to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, re-do required step(s) until a fit is f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tell/ask customer to search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077840" y="5334120"/>
            <a:ext cx="71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dels a set of Web services, providing reservation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ustomers connecting to multiple reservation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itinerary gets filed with “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 checks if air res made; if not it uses air Web serv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then checks hotel, car in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523880" y="52380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co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rchitecture will generate many (often thousands) of querie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results won’t be us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sorted and assembled by the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best ones are shown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requires much more (often thousands of times more) bandwidth than old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optic bandwidth is large and can suppor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 and other business applications are moving to thi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many carriers, vendors, etc. for availability, pric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23T23:50:29Z</cp:lastPrinted>
  <dcterms:modified xsi:type="dcterms:W3CDTF">2013-11-19T01:49:26Z</dcterms:modified>
  <cp:revision>291</cp:revision>
  <dc:subject/>
  <dc:title>1.264 Lecture 5</dc:title>
</cp:coreProperties>
</file>