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16B68-F339-439D-AAF7-FA24B5B17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4A5AA-6A43-4642-A1EC-C6C63A0233C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F6426-A1BB-4397-B59B-7568925FCA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F25A4-F89E-466D-9111-C73E46B0D5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C51F1-B402-4799-9F53-179D6BD5F5D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76B71-F3C6-4783-81BB-CE257B6EED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070D9-894B-4A83-8D89-C367A1632C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F3071-7B81-4238-9D4D-B3E55C90B6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4CB6C-E13B-4CD0-9BE7-7E2D3C1BF5F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BC136-07FE-4D67-945C-F686605CA7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29312-8304-4064-A883-034DBC0B652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9DB16-B9D1-4964-9BB0-21EB3ED78F3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A0EC5-52C0-4856-8711-979B511776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20270-9137-4095-A910-35C135DD8D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06ED3-57FE-48A1-AFFA-11D5A6DFEF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1A21C-ABB0-4878-970F-304A91E9E8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30F95-D4A6-4432-8259-F383312C46F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98046-A98F-43BB-8BD1-D15B6337716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3F9B7-F666-426B-8915-85E53251DE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79650-8C41-4AD0-ABC6-C94FD070812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DDBA2-1D86-4FD0-A96A-CBFFF9CFC2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525A3-FBC7-43FF-8AF2-88AEFE7E76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9EAC2-5228-4526-98B1-326A9C6D75C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A0A9-5136-4BFF-9506-6E2DC323D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C12A-6426-438C-A177-3C486AE29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055A-55AB-4057-B89C-A154DEA40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DE68-7508-43B4-8743-1C7299BD6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4A38-0D45-4B03-A54D-D489FCAD1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BA8E-DE65-42E4-9976-A4E819679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887A-2446-4E6A-8724-611D9C1CD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504A-4955-45BD-9416-E289E9169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0A56-3313-4794-B33C-CECBF127E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93EE-A82D-4D11-A2F5-06789290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76ED-10B5-49F2-98E2-C408CC9A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CE01-DEB2-4832-B679-204C5A4D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CEEB1-D247-4241-84C3-2DD3FB8A028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24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160" y="38862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rvice Oriented Archite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ectronic Data Interchange (ED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193120" y="5719680"/>
            <a:ext cx="538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Anderson chapter 1, 2.  Exercise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efor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0" descr="Picture5.jpg"/>
          <p:cNvPicPr/>
          <p:nvPr/>
        </p:nvPicPr>
        <p:blipFill>
          <a:blip r:embed="rId1"/>
          <a:stretch/>
        </p:blipFill>
        <p:spPr>
          <a:xfrm>
            <a:off x="838080" y="1351080"/>
            <a:ext cx="7175520" cy="54306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b services and existing system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1081800" y="914400"/>
            <a:ext cx="677664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grated system built using Web services/SOA to existing system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13"/>
          <p:cNvSpPr/>
          <p:nvPr/>
        </p:nvSpPr>
        <p:spPr>
          <a:xfrm>
            <a:off x="3124080" y="1219320"/>
            <a:ext cx="0" cy="533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16"/>
          <p:cNvSpPr/>
          <p:nvPr/>
        </p:nvSpPr>
        <p:spPr>
          <a:xfrm>
            <a:off x="4952880" y="1219320"/>
            <a:ext cx="0" cy="533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17"/>
          <p:cNvSpPr/>
          <p:nvPr/>
        </p:nvSpPr>
        <p:spPr>
          <a:xfrm>
            <a:off x="4038480" y="1219320"/>
            <a:ext cx="0" cy="533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5791320" y="1219320"/>
            <a:ext cx="0" cy="533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8145720" y="6550200"/>
            <a:ext cx="99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rl, “SOA”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 an SOA diagram for your homework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cide how you would structure your catalog browsing and ordering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 your Web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 the Web services your customers would use to communicate with yo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Figure 5.4 and/or Figure 5.15 on the previous slides as a templ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b 2.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rst generation Web services: SOAP, WSDL, UDDI (WSDL regist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 functional requirements for businesses, but not the supporting requirements: security, reliability, availability, quality of service, choreograph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2.0: WS-* specifica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S-Addressing: references to Web service end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S-Atomic Transa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S-Business Process Execution Langu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S-Choreography Langu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S-Coordination and WS-Even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S-Metadata Exchange Langu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S-Notif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S-Reliable Messa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S-Security: end to end, not just point to 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usiness Process Execution Languag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 rot="21540000">
            <a:off x="1828800" y="1066320"/>
            <a:ext cx="5819760" cy="546444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4278600" y="6581880"/>
            <a:ext cx="462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rom Kumar, Narayan, Ng: Implementing SOA Using Java E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DI (Electronic Data Interchange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DI is a mainframe-based standard for electronic exchange of information. Developed in 1980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DI is expensive, complex and has limited usage, but enough that new technologies must interoperate with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ypically, large companies use EDI and require it of their smaller partners/vendors, who are not always eager to use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wo EDI standards: ANSI X12 and EDIFACT (U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documents follow EDI standards in many c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DI documents are called Transaction Sets (T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DI to XML mapping established using DT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w users of Internet ecommerce may skip EDI and use 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ss than 80,000 of 6-10 million US businesses use ED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25,000 businesses world-wide use ED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DI cost and complexity are large obstacle for medium size busines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DI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DI communica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nary, not text (difficult to change or troubleshoo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DI transaction sets are static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DI designed for expensive and scarce communic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uch optimization of message size,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nded to replace letters, phone calls, fax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t self-describing, cannot be validated, can’t be extended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ne through third party value-added networks (VA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anies generally use file transfer to send file to V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AN handles EDI exchange with trading partn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ared to once-a-day, batch exchanges of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ample (over a period of days): A purchase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nds EDI 840 document (Request for Quot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es EDI 843 (Quot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nds EDI 850 (Purchase Ord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es EDI 856 (Shipment Noti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es EDI 810 (Invoi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nds EDI 820 (Payme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DI and XM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4" name="Picture 3" descr="Picture6.jpg"/>
          <p:cNvPicPr/>
          <p:nvPr/>
        </p:nvPicPr>
        <p:blipFill>
          <a:blip r:embed="rId1"/>
          <a:stretch/>
        </p:blipFill>
        <p:spPr>
          <a:xfrm>
            <a:off x="1219320" y="2438280"/>
            <a:ext cx="6210360" cy="2292480"/>
          </a:xfrm>
          <a:prstGeom prst="rect">
            <a:avLst/>
          </a:prstGeom>
          <a:ln w="0">
            <a:noFill/>
          </a:ln>
        </p:spPr>
      </p:pic>
      <p:sp>
        <p:nvSpPr>
          <p:cNvPr id="135" name="TextBox 3"/>
          <p:cNvSpPr/>
          <p:nvPr/>
        </p:nvSpPr>
        <p:spPr>
          <a:xfrm>
            <a:off x="5308920" y="5029200"/>
            <a:ext cx="13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DI/XM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l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DI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7" name="Picture 4" descr="EDI_ISAExample"/>
          <p:cNvPicPr/>
          <p:nvPr/>
        </p:nvPicPr>
        <p:blipFill>
          <a:blip r:embed="rId1"/>
          <a:stretch/>
        </p:blipFill>
        <p:spPr>
          <a:xfrm>
            <a:off x="2514600" y="152280"/>
            <a:ext cx="4059360" cy="65898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6"/>
          <p:cNvSpPr/>
          <p:nvPr/>
        </p:nvSpPr>
        <p:spPr>
          <a:xfrm>
            <a:off x="7012080" y="6019920"/>
            <a:ext cx="20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DI Examp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tail information flow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0" name="Picture 3" descr="Picture7.jpg"/>
          <p:cNvPicPr/>
          <p:nvPr/>
        </p:nvPicPr>
        <p:blipFill>
          <a:blip r:embed="rId1"/>
          <a:stretch/>
        </p:blipFill>
        <p:spPr>
          <a:xfrm>
            <a:off x="457200" y="712800"/>
            <a:ext cx="846144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stributor information flow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2" name="Picture 3" descr="Picture8.jpg"/>
          <p:cNvPicPr/>
          <p:nvPr/>
        </p:nvPicPr>
        <p:blipFill>
          <a:blip r:embed="rId1"/>
          <a:stretch/>
        </p:blipFill>
        <p:spPr>
          <a:xfrm>
            <a:off x="92160" y="692280"/>
            <a:ext cx="8959680" cy="54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286000" y="1108080"/>
            <a:ext cx="914400" cy="105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b sv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5029200" y="1173240"/>
            <a:ext cx="914400" cy="1218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b sv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8001000" y="1173240"/>
            <a:ext cx="914400" cy="1012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B sv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3276720" y="185904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6"/>
          <p:cNvSpPr/>
          <p:nvPr/>
        </p:nvSpPr>
        <p:spPr>
          <a:xfrm flipV="1">
            <a:off x="6019920" y="1703520"/>
            <a:ext cx="1981080" cy="46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7"/>
          <p:cNvSpPr/>
          <p:nvPr/>
        </p:nvSpPr>
        <p:spPr>
          <a:xfrm flipH="1">
            <a:off x="5943600" y="2054160"/>
            <a:ext cx="190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8"/>
          <p:cNvSpPr/>
          <p:nvPr/>
        </p:nvSpPr>
        <p:spPr>
          <a:xfrm flipH="1">
            <a:off x="3200400" y="216360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Line 9"/>
          <p:cNvSpPr/>
          <p:nvPr/>
        </p:nvSpPr>
        <p:spPr>
          <a:xfrm>
            <a:off x="3276720" y="124920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Line 12"/>
          <p:cNvSpPr/>
          <p:nvPr/>
        </p:nvSpPr>
        <p:spPr>
          <a:xfrm flipH="1">
            <a:off x="3200400" y="155412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154080" y="1173240"/>
            <a:ext cx="878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-to-B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-to-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3350520" y="955800"/>
            <a:ext cx="159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 svc reques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3350520" y="1301760"/>
            <a:ext cx="174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 svc respons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3358080" y="1630440"/>
            <a:ext cx="176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TP/XML reques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3359520" y="1935000"/>
            <a:ext cx="196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TP/XML, respons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20"/>
          <p:cNvSpPr/>
          <p:nvPr/>
        </p:nvSpPr>
        <p:spPr>
          <a:xfrm>
            <a:off x="5920200" y="1496880"/>
            <a:ext cx="191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B conn, SQL quer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21"/>
          <p:cNvSpPr/>
          <p:nvPr/>
        </p:nvSpPr>
        <p:spPr>
          <a:xfrm>
            <a:off x="5934960" y="180828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B conn, SQL resultse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34"/>
          <p:cNvSpPr/>
          <p:nvPr/>
        </p:nvSpPr>
        <p:spPr>
          <a:xfrm>
            <a:off x="1066680" y="1143000"/>
            <a:ext cx="91440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B sv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Line 36"/>
          <p:cNvSpPr/>
          <p:nvPr/>
        </p:nvSpPr>
        <p:spPr>
          <a:xfrm>
            <a:off x="1981080" y="140184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37"/>
          <p:cNvSpPr/>
          <p:nvPr/>
        </p:nvSpPr>
        <p:spPr>
          <a:xfrm>
            <a:off x="1981080" y="15541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39"/>
          <p:cNvSpPr/>
          <p:nvPr/>
        </p:nvSpPr>
        <p:spPr>
          <a:xfrm>
            <a:off x="2286000" y="2316240"/>
            <a:ext cx="91440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ent/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rows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Box 41"/>
          <p:cNvSpPr/>
          <p:nvPr/>
        </p:nvSpPr>
        <p:spPr>
          <a:xfrm>
            <a:off x="2987280" y="152280"/>
            <a:ext cx="316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olution- case stud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2" name="Straight Arrow Connector 37"/>
          <p:cNvCxnSpPr>
            <a:stCxn id="70" idx="3"/>
          </p:cNvCxnSpPr>
          <p:nvPr/>
        </p:nvCxnSpPr>
        <p:spPr>
          <a:xfrm flipV="1">
            <a:off x="3200400" y="1828080"/>
            <a:ext cx="1829520" cy="716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73" name="Straight Arrow Connector 39"/>
          <p:cNvCxnSpPr/>
          <p:nvPr/>
        </p:nvCxnSpPr>
        <p:spPr>
          <a:xfrm flipH="1">
            <a:off x="3200040" y="2132640"/>
            <a:ext cx="182952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4" name="Text Box 19"/>
          <p:cNvSpPr/>
          <p:nvPr/>
        </p:nvSpPr>
        <p:spPr>
          <a:xfrm>
            <a:off x="3285360" y="2511360"/>
            <a:ext cx="21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TP/XHTML, respons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18"/>
          <p:cNvSpPr/>
          <p:nvPr/>
        </p:nvSpPr>
        <p:spPr>
          <a:xfrm>
            <a:off x="3307320" y="2282760"/>
            <a:ext cx="133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TP reques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440" y="3428640"/>
            <a:ext cx="80773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SLT used by customer or manufacturer/distributor to alter XML being sent or receiv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SD and/or DTD used by customer or manufacturer/ distributor to validate XML being sent or rec’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 services package the HTTP, XML, XSD, request/response and URL used in “raw” XML transf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 services described in WSDL documents in registry. E.g.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nufacturer/distributor registers Web service in UDDI regist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ustomer discovers Web service and invokes it on mfr/distrib Web ser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sual tool: CSS for XHTML, XSLT for 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Box 3"/>
          <p:cNvSpPr/>
          <p:nvPr/>
        </p:nvSpPr>
        <p:spPr>
          <a:xfrm>
            <a:off x="5409000" y="620640"/>
            <a:ext cx="289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nufacturer, distribut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Box 43"/>
          <p:cNvSpPr/>
          <p:nvPr/>
        </p:nvSpPr>
        <p:spPr>
          <a:xfrm>
            <a:off x="1357200" y="62064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usto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34"/>
          <p:cNvSpPr/>
          <p:nvPr/>
        </p:nvSpPr>
        <p:spPr>
          <a:xfrm>
            <a:off x="3352680" y="2971800"/>
            <a:ext cx="149724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dustry sv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0" name="Straight Arrow Connector 39"/>
          <p:cNvCxnSpPr>
            <a:stCxn id="52" idx="2"/>
            <a:endCxn id="79" idx="3"/>
          </p:cNvCxnSpPr>
          <p:nvPr/>
        </p:nvCxnSpPr>
        <p:spPr>
          <a:xfrm flipH="1">
            <a:off x="4849560" y="2391840"/>
            <a:ext cx="637200" cy="808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arrow" w="med"/>
          </a:ln>
        </p:spPr>
      </p:cxnSp>
      <p:sp>
        <p:nvSpPr>
          <p:cNvPr id="81" name="Text Box 19"/>
          <p:cNvSpPr/>
          <p:nvPr/>
        </p:nvSpPr>
        <p:spPr>
          <a:xfrm>
            <a:off x="4961520" y="29685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SDL, XSD/DTD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" name="Straight Arrow Connector 39"/>
          <p:cNvCxnSpPr>
            <a:stCxn id="51" idx="2"/>
          </p:cNvCxnSpPr>
          <p:nvPr/>
        </p:nvCxnSpPr>
        <p:spPr>
          <a:xfrm>
            <a:off x="2743200" y="2163600"/>
            <a:ext cx="596160" cy="1036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arrow" w="med"/>
          </a:ln>
        </p:spPr>
      </p:cxnSp>
      <p:sp>
        <p:nvSpPr>
          <p:cNvPr id="83" name="Text Box 19"/>
          <p:cNvSpPr/>
          <p:nvPr/>
        </p:nvSpPr>
        <p:spPr>
          <a:xfrm>
            <a:off x="1837440" y="298620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SDL, XSD/DTD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19"/>
          <p:cNvSpPr/>
          <p:nvPr/>
        </p:nvSpPr>
        <p:spPr>
          <a:xfrm>
            <a:off x="790560" y="2544840"/>
            <a:ext cx="146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SLT if needed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5" name="Straight Arrow Connector 39"/>
          <p:cNvCxnSpPr>
            <a:endCxn id="84" idx="0"/>
          </p:cNvCxnSpPr>
          <p:nvPr/>
        </p:nvCxnSpPr>
        <p:spPr>
          <a:xfrm flipH="1">
            <a:off x="1523160" y="2185560"/>
            <a:ext cx="762840" cy="359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arrow" w="med"/>
          </a:ln>
        </p:spPr>
      </p:cxnSp>
      <p:sp>
        <p:nvSpPr>
          <p:cNvPr id="86" name="Text Box 19"/>
          <p:cNvSpPr/>
          <p:nvPr/>
        </p:nvSpPr>
        <p:spPr>
          <a:xfrm>
            <a:off x="5545080" y="2544840"/>
            <a:ext cx="146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SLT if needed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7" name="Straight Arrow Connector 39"/>
          <p:cNvCxnSpPr>
            <a:endCxn id="86" idx="0"/>
          </p:cNvCxnSpPr>
          <p:nvPr/>
        </p:nvCxnSpPr>
        <p:spPr>
          <a:xfrm>
            <a:off x="5930640" y="2392200"/>
            <a:ext cx="347760" cy="153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nancial information flow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4" name="Picture 3" descr="Picture9.jpg"/>
          <p:cNvPicPr/>
          <p:nvPr/>
        </p:nvPicPr>
        <p:blipFill>
          <a:blip r:embed="rId1"/>
          <a:stretch/>
        </p:blipFill>
        <p:spPr>
          <a:xfrm>
            <a:off x="152280" y="785880"/>
            <a:ext cx="883944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nufacturing/engineering information flow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6" name="Picture 3" descr="Picture10.jpg"/>
          <p:cNvPicPr/>
          <p:nvPr/>
        </p:nvPicPr>
        <p:blipFill>
          <a:blip r:embed="rId1"/>
          <a:stretch/>
        </p:blipFill>
        <p:spPr>
          <a:xfrm>
            <a:off x="182520" y="706320"/>
            <a:ext cx="8778960" cy="599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nufacturer information flow: detai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8" name="Picture 3" descr="Picture11.jpg"/>
          <p:cNvPicPr/>
          <p:nvPr/>
        </p:nvPicPr>
        <p:blipFill>
          <a:blip r:embed="rId1"/>
          <a:stretch/>
        </p:blipFill>
        <p:spPr>
          <a:xfrm>
            <a:off x="158760" y="685800"/>
            <a:ext cx="882648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RP and EDI/XML standard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previous slides define the core of an ERP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y have very substantial additions for human resources, planning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can buy a full ERP or mix and match best of breed systems. Web service/SOA integration is comm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most every interface on the previous slides has a defined EDI or XML transaction set or message set, typically defined by indus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DCC (1968), EDX, CDIX, TALC, UCS/VICS, WINS, BVAI and other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allenges of system integr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anies use multiple systems that must increasingly coope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ystems often are in different business grou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 in different companies (vendors, channel partners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un on different platforms (operating system, hardwa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ritten in different langu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different communication protoc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le transfer, EDI, XML, RPC, MQ, CORBA, COM, socket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ve different databases, data defini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ve different objectives, run at different times/peri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lution is desired that allows integration in spite of different languages, protocols, hardware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rvice oriented architecture (SOA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ervices are basis for integration in SO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core of standard open technologies are u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, XML Schema (XSD), XSLT, SOAP, WSD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erating system-, hardware-, software-, database-neut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registry (database) is used to store WSDL for service discov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urity, reliability, performance, transactions must be added to ‘primitive’ Web services to have SO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A supports composition (assembling) of services, reusability of services, extens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A is based on a service-focused business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ML business process models can be implemented in SO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rvice oriented architecture 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A is based on loose coupling between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ynchronous, or message-oriented (MOM) 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cument is sent from system A to system 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ponse generally not guaranteed in any given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process may not complete for a long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: Shipment tracking service (succes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: Async telecom service orders system (fail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ample of current SOA implement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3080160" y="6345360"/>
            <a:ext cx="236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 is Web servi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6641280" y="648828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 Thomas Erl, “SOA”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Content Placeholder 7" descr="Picture1.jpg"/>
          <p:cNvPicPr/>
          <p:nvPr/>
        </p:nvPicPr>
        <p:blipFill>
          <a:blip r:embed="rId1"/>
          <a:stretch/>
        </p:blipFill>
        <p:spPr>
          <a:xfrm>
            <a:off x="906480" y="1981080"/>
            <a:ext cx="7331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A architecture (between Web servers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9" name="Content Placeholder 4" descr="Picture2.jpg"/>
          <p:cNvPicPr/>
          <p:nvPr/>
        </p:nvPicPr>
        <p:blipFill>
          <a:blip r:embed="rId1"/>
          <a:stretch/>
        </p:blipFill>
        <p:spPr>
          <a:xfrm>
            <a:off x="593640" y="1676520"/>
            <a:ext cx="7956720" cy="47242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7"/>
          <p:cNvSpPr/>
          <p:nvPr/>
        </p:nvSpPr>
        <p:spPr>
          <a:xfrm>
            <a:off x="8145720" y="6550200"/>
            <a:ext cx="99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rl, “SOA”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A use of WSD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2" name="Content Placeholder 4" descr="Picture3.jpg"/>
          <p:cNvPicPr/>
          <p:nvPr/>
        </p:nvPicPr>
        <p:blipFill>
          <a:blip r:embed="rId1"/>
          <a:stretch/>
        </p:blipFill>
        <p:spPr>
          <a:xfrm>
            <a:off x="1773360" y="1295280"/>
            <a:ext cx="5597280" cy="54864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"/>
          <p:cNvSpPr/>
          <p:nvPr/>
        </p:nvSpPr>
        <p:spPr>
          <a:xfrm>
            <a:off x="249120" y="2743200"/>
            <a:ext cx="1305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voice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ubmissio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404280" y="3970440"/>
            <a:ext cx="1146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rder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ulfillmen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7576560" y="2590920"/>
            <a:ext cx="1102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ccount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aya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7581960" y="3962520"/>
            <a:ext cx="1093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urchas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rd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8145720" y="6550200"/>
            <a:ext cx="99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rl, “SOA”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A service composi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9" name="Picture 5" descr="Picture4.jpg"/>
          <p:cNvPicPr/>
          <p:nvPr/>
        </p:nvPicPr>
        <p:blipFill>
          <a:blip r:embed="rId1"/>
          <a:stretch/>
        </p:blipFill>
        <p:spPr>
          <a:xfrm>
            <a:off x="1239840" y="1371600"/>
            <a:ext cx="6664320" cy="53038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7"/>
          <p:cNvSpPr/>
          <p:nvPr/>
        </p:nvSpPr>
        <p:spPr>
          <a:xfrm>
            <a:off x="8145720" y="6550200"/>
            <a:ext cx="99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rl, “SOA”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59840" y="2362320"/>
            <a:ext cx="1102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ccount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aya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8022600" y="2209680"/>
            <a:ext cx="88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endo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8006760" y="3970440"/>
            <a:ext cx="88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dg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2011-11-07T15:38:59Z</cp:lastPrinted>
  <dcterms:modified xsi:type="dcterms:W3CDTF">2012-12-29T01:32:44Z</dcterms:modified>
  <cp:revision>196</cp:revision>
  <dc:subject/>
  <dc:title>1.264 Lecture 5</dc:title>
</cp:coreProperties>
</file>