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6994-F724-4764-9718-DCF7D1849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DD44-CD73-49A4-8022-D17A0737F87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15DB-9CF7-4B50-930B-F919A9DB4F5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5F60-B8DD-43DC-9600-3F213D150A4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5E7D-87AC-400B-8977-D4DD51817E5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5D6E-097A-48D1-88E0-586F3689F58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5A94-0191-40BF-A6CB-9CFAE1A203B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18EF-BB99-4984-83D4-1FFBBD75898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0D20-4757-4749-A29F-E9A356C6D0D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815A-0ED2-46E2-B84F-C209EBFA517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4B9B-98B5-4809-9DF5-7A4366B4BCA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955D-FDE3-4458-A50B-91DE3EDFDBA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F7E4-7D26-47FA-B4D3-712FF9C7F83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6A19-B8E9-4AC6-B92D-79D7992D2F4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EBA6-A4F6-4E90-A1AB-41171277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1D7-ED82-461B-952F-DCB91123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1E0-EE28-416B-88EB-42EBB3B0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0FA-FC83-4ED4-A6EB-BD8976A4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409-364B-4EB6-9F7D-C1894729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6B5-6A75-499D-B484-8A65BA4B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A615-E32D-4C4E-8C1D-89C04E92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D6F-974C-4F7B-8EC5-EE1B199C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869-F1A0-4B3D-87BF-201F3048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398-8CEC-47D4-9A4E-0EB5730C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4EDD-CD5B-4BAF-9E57-747198E0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DBAD-D05C-4A92-8C5D-B54596D3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0D20-9745-4417-B1D7-1D036FD6757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bas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720" y="5719680"/>
            <a:ext cx="502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3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mises for Internet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-network-server are the 3 key compon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(browser or application) prem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server is operated by organization stated  (ident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s returned by server are free from viruses (trustworth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server will not distribute user’s private info, such as identity, financial, Web use… (secrecy/privac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premises (for both client and serve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is free from third party eavesdroppers (secrec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delivers information intact, not tampered with by third parties (secrecy, trustworth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prem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attempt to break into or alter contents of Web site or database (secrecy/confidential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try to gain access to documents or data that he/she is not allowed (secrecy/confidential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try to crash the server or deny service to oth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user has identified him/herself, user is who he/she claims to be (ident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ent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ection and hijacking (botnet, spam serv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lware, viruses, trojans, worm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ero day vulnerab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ngineering to visit Web pages, respond to e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 term solutions are virus checkers, edu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term solution is cloud w/few apps on cli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vacy l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kies. Abused to track user hab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ail. Spam. (What % of email is spam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 term solution is email verification (IP address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 loss (phishing, other attack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tial information sent to unauthorized par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: education, IP improvements, certificates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r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ite break-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theft is usual objec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, basic apps fairly sec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s are primarily database prot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compromi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iders (what % of attacks are inside jobs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seem to be losing the batt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llions of credit cards disclosed annu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ed worms/trojans steal from business and consumer accou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5% of corporations report significant breach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us checker/intrusion detection don’t prevent sophisticated attac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www.threatexpert.com for some statist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twork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ial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acks that cause system to expend large resources in respon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ed denial of service attac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s are distributed filters, identification of attacking servers, changes in Internet protocols to limit spoofing in open Intern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use of private networks under Internet protoco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cket sniff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for unsecured servers, ports to attack. Mostly small/medium busin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ing encryption is rare; there are easier holes to exploit, usu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e study: Public transport fare coll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h/token transit fare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e security feature of transit system fare collection syste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internal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passenger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risks in getting funds to ban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rtcard transit fare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e security feature of transit system fare collection syste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internal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passenger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risks in getting funds to ban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urity engineer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far, we’ve covered requirements, UML, business rules, data models, databases, We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cus on correctness, completeness, consist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are important for security too: a buggy system is an insecure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doesn’t do what it’s supposed to do correctly, it won’t handle other things correctly eith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engineering focuses on guarding against malice, and against errors that can be exploi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lice is the key additional factor for 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lectures are just an introduction to secu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over basic principles and core issues/exam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syste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 or component: protocol, smartcard, compu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ction of products, plus operating system and its commun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ction of above, plus application softw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IT sta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users and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customers and external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environment: competitors, regul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vendors, security evaluators focus on 1,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es focus on 5, 6, as does Anderson, and so do w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actor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: physical person, company or gover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definitions relate to legal defin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le: function assumed by different persons in succe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your database administrat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al: entity that participates in security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person, role, communications channel or other component, including an attack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: names of two principals that are the same person or compon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a user and his or her username/password, or his or her iris scan or fingerpr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ccessing your apartment or home, def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ccessing your apartment or home, def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rge, Katie (occupan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mbridge Savings Bank (mortgage holde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ous plumbers, electricians, cat sitters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nt, owner, building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nt, landlord/owner, building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k, keys, ala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rglar, George, Katie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tie, George, Katie’s key, George’s key, alarm c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rglar can adopt our identity if we lose our ke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ssica (cat sitter), our house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trust and secrec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ed system: one whose failure will break security poli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your building acces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worthy system: one that will not f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a well administered, technically correct acces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recy: mechanisms to limit principals who can access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tiality: obligation to protect other person’s secr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cy for the benefit of the organization (strategic plan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cy: ability/right to protect your personal secr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cy for the benefit of the  individual(bank account numbe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nym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content confidenti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source or destination confidenti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entic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icipation of genuine principal, not a copy or a fak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ust and identity example: certificat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umer user identity in certificates is email address (e.g., your MIT certificate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ual identity for users is most often established using credit card number or account nu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any identity based on domain name/UR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ng partner trust is not based on encryption, certificates, etc. but on knowledge of each other from face-to-face business deal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uter security is only one element, though crucial, part of trust and ident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computer-based trust and identity seems impossible: no centrally trusted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8T15:50:20Z</cp:lastPrinted>
  <dcterms:modified xsi:type="dcterms:W3CDTF">2013-11-07T22:52:23Z</dcterms:modified>
  <cp:revision>192</cp:revision>
  <dc:subject/>
  <dc:title>1.264 Lecture 5</dc:title>
</cp:coreProperties>
</file>