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1C626-DACA-4F1C-8878-C2F7707A4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9D973-52F6-41A6-94F4-D49F796FC1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D0DDF-5F39-44FC-B7C2-0DF26458F4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37A33-763D-43AC-9B39-23629214BF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DCE36-BFB2-45DD-B7DC-50A23527CB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201F40-6BDB-4014-A81A-5821E618B9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D2D4A-FF39-4BC1-AAC1-54731DADFE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949832-A472-4D05-A627-99E73A285E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BA6AA-817D-4424-83D1-81C1E44E4F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5E25B-919B-4BCC-91C4-01BE3D1FF4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6AA32-183D-40F3-8EEC-B45E610D98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9A090-8E33-4FF0-940F-4A1DD838DF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83564-8105-4696-A8E7-1D37E55422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23C5E-AC89-4A53-AE09-8203D82572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666B7E3-BAAD-4D04-A9B4-106FFF074E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6A06153-CA97-43EF-8E5D-FCB9DC5834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BB32F24-40B7-4852-9020-47C36FED6F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F40CC5B-85A6-4F9C-A4AF-022AF19C6E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18D069E-CBF6-4805-A6BA-72BD082366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7977562-78EB-471F-B276-F5CD2FA990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D661-28FA-49F2-BABD-E4D802E20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2462-99FE-440A-91BC-42C6438B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7AD2-4D97-4702-8CEE-EF5D1447E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04FC-5432-44B4-9BEB-B542E16FD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83C7-377A-4562-BFF7-85C8AF96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099D-BA9D-4734-A0F0-6D3C8D45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5000-9459-4A23-9915-4E0B6B97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0D38-4E2D-4E13-A553-899ED001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5AF6-EC7E-4995-A055-82920343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08DE-C6C1-46AA-A4A8-B4AACC3C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31E9-69ED-4437-8AE1-746F1EDC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F471-87AB-43F3-8448-04C62DF2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77D8-DD04-46D7-91E2-6718AD7EDA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2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92120" y="5562720"/>
            <a:ext cx="4780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No readings.  Exercise due after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as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se same Web site today that we started in Lecture 21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lso open SQL Server Management Studio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6: More databases and 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can have XML columns in a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can query, update and index 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e at a time, ru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1.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2.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3.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4.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does each d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a nice way to store highly variable information where standard columns don’t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5600520" y="6253200"/>
            <a:ext cx="359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XML1-4 code from Kiessig, Ultra-Fast ASP.NE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Exercise 6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1: Creates XML schema and Products 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by Products table to validate XML colum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2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all columns from all ro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id, name, props where width exi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id, name, width where color of top part is bl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id, name, first color where color of legs is chr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ange leg color to sil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arm with color wh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ove first color (ar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4: creates index on XML column, path, properties and val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e indexes on Products table in SSMS explor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idpoint 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document: snippet of database being sent from one Web server to an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ains tags defined by business, hyperlink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ew from HTML but defines content, not appea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TD and/or XSD: contains business rules (1-1, 1-many, null/not null, etc) to validate XML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LT: transforms and styles and XML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ke change to sent or received XML to meet business nee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Path: query language used for XML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me role as 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imple Object Access Protocol: SOAP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P is XML and HT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nt is to use no extra technology for distributed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AP adds some headers to HT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AP adds new MIME type: text/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s agreed definitions of data types, mandatory valu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 POST and XML replace complex pro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AP is text rather than binary, so it’s much easier to interoperate across machines and debug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nary transmissions are not human-read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AP can send binary objects like pictures (that are human read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AP is sufficiently efficient for most machine-machine commun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P is the key component in Web services, or Service Oriented Architectures (SO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eb Service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 provides information in an XML format to be used by a cl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does not display the data in a user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is not tied to a specific Web page or docu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 in .NET are on pages with a .asmx extension (not .asp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SW and .NET make writing simple Web services eas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 is generally used to generate the XML payl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ices accept parameters, such as customer number or order number, to return only data requi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ameters are used in the WHERE clause in SQ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 Description Language (WSDL) describes a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matically created by VS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7: Web Services in VS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will create a Web service in a regular Web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rmally we create a separate project/site for Web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VSW, open previous Web site, or create new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 -&gt; New File -&gt; Web Service: TemperatureService.asm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U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‘place code in separate file’. No master p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e the following co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[WebMethod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ublic double toCelsius(double tf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return (5.0 / 9.0) * (tf - 32.0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view in browser: a WSDL page is sh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example: reque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OST /TemperatureService.asmx HTTP/1.1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Host: localhos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ontent-Type: text/xml; charset=utf-8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ontent-Length: 300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SOAPAction: "http://tempuri.org/ToCelsius" &lt;?xml version="1.0" encoding="utf-8"?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soap:Envelope xmlns:xsi="http://www.w3.org/2001/XMLSchema-instance" xmlns:xsd="http://www.w3.org/2001/XMLSchema" xmlns:soap="http://schemas.xmlsoap.org/soap/envelope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soap:Body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ToCelsius xmlns="http://tempuri.org/"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TF&gt; 32.0&lt;/TF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ToCelsius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soap:Body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soap:Envelope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example: respon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HTTP/1.1 200 O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Content-Type: text/xml; charset=utf-8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Content-Length: 250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?xml version="1.0" encoding="utf-8"?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soap:Envelope xmlns:xsi="http://www.w3.org/2001/XMLSchema-instance" xmlns:xsd="http://www.w3.org/2001/XMLSchema" xmlns:soap="http://schemas.xmlsoap.org/soap/envelope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soap:Body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ToCelsiusResponse xmlns="http://tempuri.org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ToCelsiusResult&gt; 0.0&lt;/ToCelsiusResul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/ToCelsiusResponse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/soap:Body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/soap:Envelope&gt;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example 2: database que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wish to query the Parts table for all parts of a given ven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vendor will be a parameter to the Web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Web service will use a database connection to execute the SQL qu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will return an XML document as its res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ode is in your Lecture 22 download as ProductService.asm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example 2: reque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OST /mit1264lecture22/ProductsService.asmx HTTP/1.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Host: localho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ontent-Type: text/xml; charset=utf-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ontent-Length: leng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SOAPAction: "http://tempuri.org/GetProducts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?xml version="1.0" encoding="utf-8"?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soap:Envelope xmlns:xsi="http://www.w3.org/2001/XMLSchema-instance" xmlns:xsd="http://www.w3.org/2001/XMLSchema" xmlns:soap="http://schemas.xmlsoap.org/soap/envelope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soap: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etProducts xmlns="http://tempuri.org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Vendor&gt;</a:t>
            </a: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string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Vendo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etProducts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soap: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soap:Envelop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cap of XML Basic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documents hold self-describing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erarchies, objects, database tables can be 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ensible, flexible, decided by industry groups, partn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LT documents can transform or style XML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SS isn’t enough because we want to display tags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TD files can validate XML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RL has the DTD that server or client can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TDs are limited: can’t define data typ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chema (XSD) files preferred to validate XML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structured, more extensible than DT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bases can read and write X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ers can send and receive XML as payload in HTTP, much like HTML p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rosoft has made XML the markup language in Off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tting a disruptive technology in place to automate commerc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ductService.asmx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@ WebService Language="C#" Class="ProductService"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using System;  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and other ‘using’ directiv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[WebService(Namespace = "http://tempuri.org/")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[WebServiceBinding(ConformsTo = WsiProfiles.BasicProfile1_1)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ublic class ProductService  : System.Web.Services.WebServic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[WebMethod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ublic DataSet GetProducts(string Vendor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SqlConnection con1264= new SqlConnection(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Connect to d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"Data Source=.\\SQLEXPRESS; Password=xxx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User ID=yyy;Initial Catalog=MIT1264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SqlDataAdapter dad1264= new SqlDataAdapter("SELECT * FRO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arts WHERE Vendor= @Vendor", con1264);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Create qu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d1264.SelectCommand.Parameters.Add(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Add 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new SqlParameter("@Vendor", Vendor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taSet dstProducts= new DataSet();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Create output obj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d1264.Fill(dstProducts, "Products");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Run qu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return dstProducts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eb service example 2: respons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Picture 3" descr="WebSvcOutput"/>
          <p:cNvPicPr/>
          <p:nvPr/>
        </p:nvPicPr>
        <p:blipFill>
          <a:blip r:embed="rId1"/>
          <a:stretch/>
        </p:blipFill>
        <p:spPr>
          <a:xfrm>
            <a:off x="228600" y="914400"/>
            <a:ext cx="878508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8: Web servic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ge the connection string in ProductService as need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ta Source=.\\SQLEXPRESS; Password=xxx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User ID=yyy;Initial Catalog=MIT126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ify the Web service to return parts and vendors only if the part ID is 1000 or gre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ify the connection string to log into your data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"SELECT * FROM Parts WHERE Vendor= @Vendor AND partID &gt; 1000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: XmlDataSource: BookMIT.aspx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990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-&gt; New File -&gt; Web Form: BookMIT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XmlDataSource control on page, config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owse for Books.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Path: //booklist/boo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[Forward slashes, not backward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DataList onto XmlData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ose XmlDataSou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(View in browser—MS tools only show attributes, not elemen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 to source view, delete all text in &lt;ItemTemplate&gt; and replace wi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p&gt; &lt;%# XPath("author/first-name")%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author/last-name")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title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price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@topic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@publicationdate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@ISBN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p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ve and test (BookMIT2.aspx has nicer format—see downloa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SLT: XML Stylesheet Language/Transform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LT is a language to transform and style XML documents from one form to an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for display, especially to show tags, which CSS does not 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o convert an XML document from one format to another, in passing it from one organization to ano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on next page transforms Books.xml into Authors.xml by selecting just the author ta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SLT has loops, if statements and is a mini-programming language to select and transform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don’t need to understand the details of XS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okAuthorXSLT.aspx applies Books.xslt to Books.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e download and example run in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XSLT: Books.xsl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4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?xml version="1.0" encoding="utf-8" ?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stylesheet xmlns:xsl="http://www.w3.org/1999/XSL/Transform" version="1.0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template match="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element name="Authors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apply-templates select="//book"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elemen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templat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template match="book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element name="Author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value-of select="author/first-name"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text&gt; &lt;/xsl:tex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value-of select="author/last-name"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elemen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templat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styleshee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228600" y="6443640"/>
            <a:ext cx="87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un BookAuthorXSLT.aspx to apply Books.xslt to Books.xm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: Simple XSL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-&gt; New File -&gt; Web Form: BookMIT3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Xml control on page from the Standard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No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 XMLDataSource 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gure it by typing two properties in Source view, or by using the Properties window to select the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cumentSource="Books.xml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formSource="Books.xsl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XML control will display the authors from the XML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a simple illustration of trans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ll of these exercises are illustrative. XML still requires some programming, often simple, which is beyond the scope of this clas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4: Blogs are XML: Blog.aspx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6094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@ Page Language="C#“ (details omitted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DOCTYPE html … (details omitted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html xmlns="http://www.w3.org/1999/xhtml" 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head id="Head1" runat="server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title&gt;XmlDataSource Blog&lt;/titl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hea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form id="form1" runat="server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asp:DataList ID="D1" Runat="server“ DataSourceID="XmlData1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ItemTemplat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title") %&gt;&lt;br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pubDate") %&gt;&lt;br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description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ItemTemplat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asp:Data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asp:XmlDataSource ID="XmlData1" Runat="server"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taFile="http://www.hanselman.com/blog/feed"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XPath="rss/channel/item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asp:XmlDataSourc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form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html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671400" y="6519960"/>
            <a:ext cx="87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ecute Blog.aspx. Compare with www.hanselman.com in browser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5: Databases and 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n SQL Server Mgt Studio, use MIT1264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Customers FOR XML AU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nerates XML with data as attrib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Customers FOR XML AUTO,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nerates XML with data as ele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a root tag (e.g., &lt;Customerlist&gt;) and end tag around the SQL result set, and we have a valid XML docu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n generate the root and end tags with SQL, C#, Java, 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also INSERT, UPDATE, DELETE with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ML database insert examp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CREATE PROCEDURE xmlOrderInsert @order ntext 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DECLARE @docHandle int, @OID i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EXEC sp_xml_preparedocument @docHandle OUTPUT, @ord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BEGIN TRANSA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INSERT INTO Orders( CustomerID, EmployeeID, OrderDate, RequiredDate 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SELECT CustomerID, EmployeeID, OrderDate, RequiredDat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FROM Openxml( @docHandle, '/Order', 3) WITH ( CustomerID nchar(5)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EmployeeID int,   OrderDate datetime, RequiredDate datetime  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IF @@ERROR&lt;&gt;0 BEGIN ROLLBACK TRANSACTION RETURN -100 E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SET @OID = SCOPE_IDENTITY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INSERT INTO [Order Details] ( OrderID, ProductID, UnitPrice, Quantity, Discount 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SELECT @OID AS [PO ID], ProductID, UnitPrice, Quantity, Discoun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FROM OpenXml( @docHandle, '/Order/OrderDetails', 1)   WITH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( ProductID int, UnitPrice money, Quantity smallint, Discount real   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IF @@ERROR&lt;&gt;0 BEGIN ROLLBACK TRANSACTION RETURN -101 E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COMMIT TRANSA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EXEC sp_xml_removedocument @docHandle SELECT @OID AS [Order ID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G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7094880" y="6431040"/>
            <a:ext cx="182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rom codeproject.co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1-09-22T22:04:20Z</cp:lastPrinted>
  <dcterms:modified xsi:type="dcterms:W3CDTF">2013-10-31T14:02:11Z</dcterms:modified>
  <cp:revision>277</cp:revision>
  <dc:subject/>
  <dc:title>1.264 Lecture 5</dc:title>
</cp:coreProperties>
</file>