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5.pct" ContentType="image/x-pict"/>
  <Override PartName="/ppt/media/image24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57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6.pct" ContentType="image/x-pict"/>
  <Override PartName="/ppt/media/image3.pct" ContentType="image/x-pict"/>
  <Override PartName="/ppt/media/image33.pct" ContentType="image/x-pict"/>
  <Override PartName="/ppt/media/image27.pct" ContentType="image/x-pict"/>
  <Override PartName="/ppt/media/image4.pct" ContentType="image/x-pict"/>
  <Override PartName="/ppt/media/image34.pct" ContentType="image/x-pict"/>
  <Override PartName="/ppt/media/image28.pct" ContentType="image/x-pict"/>
  <Override PartName="/ppt/media/image2.jpeg" ContentType="image/jpeg"/>
  <Override PartName="/ppt/media/image54.pct" ContentType="image/x-pict"/>
  <Override PartName="/ppt/media/image5.pct" ContentType="image/x-pict"/>
  <Override PartName="/ppt/media/image35.pct" ContentType="image/x-pict"/>
  <Override PartName="/ppt/media/image10.pct" ContentType="image/x-pict"/>
  <Override PartName="/ppt/media/image47.pct" ContentType="image/x-pict"/>
  <Override PartName="/ppt/media/image29.pct" ContentType="image/x-pict"/>
  <Override PartName="/ppt/media/image42.pct" ContentType="image/x-pict"/>
  <Override PartName="/ppt/media/image45.pct" ContentType="image/x-pict"/>
  <Override PartName="/ppt/media/image46.pct" ContentType="image/x-pict"/>
  <Override PartName="/ppt/media/image50.pct" ContentType="image/x-pict"/>
  <Override PartName="/ppt/media/image13.pct" ContentType="image/x-pict"/>
  <Override PartName="/ppt/media/image11.pct" ContentType="image/x-pict"/>
  <Override PartName="/ppt/media/image48.pct" ContentType="image/x-pict"/>
  <Override PartName="/ppt/media/image51.pct" ContentType="image/x-pict"/>
  <Override PartName="/ppt/media/image40.pct" ContentType="image/x-pict"/>
  <Override PartName="/ppt/media/image52.pct" ContentType="image/x-pict"/>
  <Override PartName="/ppt/media/image41.pct" ContentType="image/x-pict"/>
  <Override PartName="/ppt/media/image53.pct" ContentType="image/x-pict"/>
  <Override PartName="/ppt/media/image43.pct" ContentType="image/x-pict"/>
  <Override PartName="/ppt/media/image55.pct" ContentType="image/x-pict"/>
  <Override PartName="/ppt/media/image44.pct" ContentType="image/x-pict"/>
  <Override PartName="/ppt/media/image56.pct" ContentType="image/x-pict"/>
  <Override PartName="/ppt/media/image32.pct" ContentType="image/x-pict"/>
  <Override PartName="/ppt/media/image31.pct" ContentType="image/x-pict"/>
  <Override PartName="/ppt/media/image30.pct" ContentType="image/x-pict"/>
  <Override PartName="/ppt/media/image39.pct" ContentType="image/x-pict"/>
  <Override PartName="/ppt/media/image9.pct" ContentType="image/x-pict"/>
  <Override PartName="/ppt/media/image38.pct" ContentType="image/x-pict"/>
  <Override PartName="/ppt/media/image8.pct" ContentType="image/x-pict"/>
  <Override PartName="/ppt/media/image49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37.pct" ContentType="image/x-pict"/>
  <Override PartName="/ppt/media/image6.pct" ContentType="image/x-pict"/>
  <Override PartName="/ppt/media/image36.pct" ContentType="image/x-pict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  <p:sldId id="304" r:id="rId65"/>
    <p:sldId id="305" r:id="rId6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slide" Target="slides/slide49.xml"/><Relationship Id="rId66" Type="http://schemas.openxmlformats.org/officeDocument/2006/relationships/slide" Target="slides/slide50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1887200" y="9448920"/>
            <a:ext cx="1028880" cy="2030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6832440" y="9385200"/>
            <a:ext cx="50421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Principles of Computer System Design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</a:t>
            </a:r>
            <a:r>
              <a:rPr b="0" lang="en-US" sz="1400" spc="-1" strike="noStrike">
                <a:solidFill>
                  <a:srgbClr val="000000"/>
                </a:solidFill>
                <a:latin typeface="Gill Sans"/>
                <a:ea typeface="Gill Sans"/>
              </a:rPr>
              <a:t> Saltzer &amp; Kaashoek 2009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image" Target="../media/image13.pct"/><Relationship Id="rId3" Type="http://schemas.openxmlformats.org/officeDocument/2006/relationships/image" Target="../media/image14.pct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ct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ct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ct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ct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ct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pct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ct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ct"/><Relationship Id="rId2" Type="http://schemas.openxmlformats.org/officeDocument/2006/relationships/image" Target="../media/image39.pct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ct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pct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pct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pct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pct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pct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ct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pct"/><Relationship Id="rId2" Type="http://schemas.openxmlformats.org/officeDocument/2006/relationships/image" Target="../media/image49.pct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0.pct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1.pct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2.pct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3.pct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4.pct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5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pct"/><Relationship Id="rId2" Type="http://schemas.openxmlformats.org/officeDocument/2006/relationships/image" Target="../media/image57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812880" y="3301920"/>
            <a:ext cx="11379240" cy="313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723960" y="969840"/>
            <a:ext cx="6832440" cy="204624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2"/>
          <a:stretch/>
        </p:blipFill>
        <p:spPr>
          <a:xfrm>
            <a:off x="8353440" y="4863960"/>
            <a:ext cx="2798640" cy="171468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3"/>
          <a:stretch/>
        </p:blipFill>
        <p:spPr>
          <a:xfrm>
            <a:off x="1231920" y="4863960"/>
            <a:ext cx="6273720" cy="184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646200" y="3835440"/>
            <a:ext cx="11844360" cy="207000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749160" y="3746520"/>
            <a:ext cx="117349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"/>
          <p:cNvSpPr/>
          <p:nvPr/>
        </p:nvSpPr>
        <p:spPr>
          <a:xfrm>
            <a:off x="749160" y="6222960"/>
            <a:ext cx="117349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654120" y="2762280"/>
            <a:ext cx="11801520" cy="42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749160" y="838080"/>
            <a:ext cx="11674440" cy="806472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723960" y="6692760"/>
            <a:ext cx="117349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646200" y="2441520"/>
            <a:ext cx="11861640" cy="486900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3368160" y="4240080"/>
            <a:ext cx="4640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Didot"/>
                <a:ea typeface="Didot"/>
              </a:rPr>
              <a:t>}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711360" y="2714760"/>
            <a:ext cx="10883880" cy="430992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 flipV="1">
            <a:off x="2565360" y="2933280"/>
            <a:ext cx="1905120" cy="12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565360" y="6667200"/>
            <a:ext cx="1905120" cy="12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565360" y="5105160"/>
            <a:ext cx="1905120" cy="12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"/>
          <p:cNvSpPr/>
          <p:nvPr/>
        </p:nvSpPr>
        <p:spPr>
          <a:xfrm>
            <a:off x="3836880" y="2667960"/>
            <a:ext cx="69552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000000"/>
                </a:solidFill>
                <a:latin typeface="Didot"/>
                <a:ea typeface="Didot"/>
              </a:rPr>
              <a:t>}</a:t>
            </a:r>
            <a:endParaRPr b="0" lang="en-US" sz="1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"/>
          <p:cNvSpPr/>
          <p:nvPr/>
        </p:nvSpPr>
        <p:spPr>
          <a:xfrm>
            <a:off x="3812760" y="5154480"/>
            <a:ext cx="4640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Didot"/>
                <a:ea typeface="Didot"/>
              </a:rPr>
              <a:t>}</a:t>
            </a:r>
            <a:endParaRPr b="0" lang="en-US" sz="9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2260440" y="3645000"/>
            <a:ext cx="8121960" cy="245088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749160" y="3746520"/>
            <a:ext cx="117349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"/>
          <p:cNvSpPr/>
          <p:nvPr/>
        </p:nvSpPr>
        <p:spPr>
          <a:xfrm>
            <a:off x="749160" y="6058080"/>
            <a:ext cx="117349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658800" y="3149640"/>
            <a:ext cx="11820600" cy="344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793800" y="806400"/>
            <a:ext cx="10728360" cy="812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739800" y="2308320"/>
            <a:ext cx="11595240" cy="512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660240" y="3200400"/>
            <a:ext cx="11833560" cy="334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812880" y="2647800"/>
            <a:ext cx="8440560" cy="444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647640" y="1897200"/>
            <a:ext cx="11925360" cy="594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596880" y="1790640"/>
            <a:ext cx="11906280" cy="615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646200" y="2514600"/>
            <a:ext cx="11826720" cy="471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671400" y="2502000"/>
            <a:ext cx="11773080" cy="474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" descr=""/>
          <p:cNvPicPr/>
          <p:nvPr/>
        </p:nvPicPr>
        <p:blipFill>
          <a:blip r:embed="rId1"/>
          <a:stretch/>
        </p:blipFill>
        <p:spPr>
          <a:xfrm>
            <a:off x="650880" y="800280"/>
            <a:ext cx="11701440" cy="815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1450800" y="3807000"/>
            <a:ext cx="10134720" cy="230004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/>
          <p:nvPr/>
        </p:nvSpPr>
        <p:spPr>
          <a:xfrm>
            <a:off x="749160" y="3746520"/>
            <a:ext cx="117349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749160" y="6083280"/>
            <a:ext cx="117349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665280" y="1085760"/>
            <a:ext cx="11850480" cy="756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" descr=""/>
          <p:cNvPicPr/>
          <p:nvPr/>
        </p:nvPicPr>
        <p:blipFill>
          <a:blip r:embed="rId1"/>
          <a:stretch/>
        </p:blipFill>
        <p:spPr>
          <a:xfrm>
            <a:off x="635040" y="3287880"/>
            <a:ext cx="11823840" cy="316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636480" y="2587680"/>
            <a:ext cx="11874600" cy="456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660240" y="1133640"/>
            <a:ext cx="11785680" cy="748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0240" y="2417760"/>
            <a:ext cx="11696760" cy="490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669960" y="1104840"/>
            <a:ext cx="11782440" cy="753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722160" y="2216160"/>
            <a:ext cx="11698560" cy="530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685800" y="3854520"/>
            <a:ext cx="11790360" cy="204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657440" y="568440"/>
            <a:ext cx="9677160" cy="580680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2"/>
          <a:stretch/>
        </p:blipFill>
        <p:spPr>
          <a:xfrm>
            <a:off x="1809720" y="6786720"/>
            <a:ext cx="8496360" cy="24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" descr=""/>
          <p:cNvPicPr/>
          <p:nvPr/>
        </p:nvPicPr>
        <p:blipFill>
          <a:blip r:embed="rId1"/>
          <a:stretch/>
        </p:blipFill>
        <p:spPr>
          <a:xfrm>
            <a:off x="711360" y="893880"/>
            <a:ext cx="11620440" cy="795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1"/>
          <a:stretch/>
        </p:blipFill>
        <p:spPr>
          <a:xfrm>
            <a:off x="649440" y="2965320"/>
            <a:ext cx="1166652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652320" y="2271600"/>
            <a:ext cx="11698560" cy="520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660240" y="1542960"/>
            <a:ext cx="11687400" cy="665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677880" y="1674720"/>
            <a:ext cx="11696760" cy="63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660240" y="2762280"/>
            <a:ext cx="11841480" cy="422892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749160" y="2552760"/>
            <a:ext cx="117349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"/>
          <p:cNvSpPr/>
          <p:nvPr/>
        </p:nvSpPr>
        <p:spPr>
          <a:xfrm>
            <a:off x="711360" y="6591240"/>
            <a:ext cx="117345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" descr=""/>
          <p:cNvPicPr/>
          <p:nvPr/>
        </p:nvPicPr>
        <p:blipFill>
          <a:blip r:embed="rId1"/>
          <a:stretch/>
        </p:blipFill>
        <p:spPr>
          <a:xfrm>
            <a:off x="1015920" y="628560"/>
            <a:ext cx="10964880" cy="847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642960" y="2513160"/>
            <a:ext cx="11849040" cy="472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" descr=""/>
          <p:cNvPicPr/>
          <p:nvPr/>
        </p:nvPicPr>
        <p:blipFill>
          <a:blip r:embed="rId1"/>
          <a:stretch/>
        </p:blipFill>
        <p:spPr>
          <a:xfrm>
            <a:off x="598320" y="2689200"/>
            <a:ext cx="11747520" cy="43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1809720" y="949320"/>
            <a:ext cx="9360000" cy="57452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720720" y="7499520"/>
            <a:ext cx="11557080" cy="120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2697120" y="2965320"/>
            <a:ext cx="7120080" cy="37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1866960" y="601560"/>
            <a:ext cx="8254800" cy="854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673200" y="4070520"/>
            <a:ext cx="11709360" cy="16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1282680" y="436680"/>
            <a:ext cx="9945720" cy="887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1608120" y="552600"/>
            <a:ext cx="9767880" cy="863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677880" y="2060640"/>
            <a:ext cx="11721960" cy="56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787320" y="3730680"/>
            <a:ext cx="11671560" cy="227808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>
            <a:off x="749160" y="3543480"/>
            <a:ext cx="117349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"/>
          <p:cNvSpPr/>
          <p:nvPr/>
        </p:nvSpPr>
        <p:spPr>
          <a:xfrm>
            <a:off x="749160" y="6337440"/>
            <a:ext cx="1173492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1366920" y="569880"/>
            <a:ext cx="11074320" cy="8256600"/>
          </a:xfrm>
          <a:prstGeom prst="rect">
            <a:avLst/>
          </a:prstGeom>
          <a:ln w="0">
            <a:noFill/>
          </a:ln>
        </p:spPr>
      </p:pic>
      <p:pic>
        <p:nvPicPr>
          <p:cNvPr id="637" name="" descr=""/>
          <p:cNvPicPr/>
          <p:nvPr/>
        </p:nvPicPr>
        <p:blipFill>
          <a:blip r:embed="rId2"/>
          <a:stretch/>
        </p:blipFill>
        <p:spPr>
          <a:xfrm>
            <a:off x="3365640" y="8377200"/>
            <a:ext cx="56005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647640" y="3108240"/>
            <a:ext cx="11811240" cy="35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2747880" y="507960"/>
            <a:ext cx="7507440" cy="877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2739960" y="209520"/>
            <a:ext cx="8537760" cy="1118880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2"/>
          <a:stretch/>
        </p:blipFill>
        <p:spPr>
          <a:xfrm>
            <a:off x="2727360" y="695160"/>
            <a:ext cx="8229600" cy="574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679320" y="2006640"/>
            <a:ext cx="11800080" cy="5740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